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041-0EEB-4674-8F91-2E4BCF3F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65B-015C-4368-A915-201408C5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8EC-D54D-4AB9-9462-DAC2474E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6B3-6205-4D94-83A0-2527E32D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83E5-4385-496F-BD5F-724A0D20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A935-63E8-482C-A97D-A102AAE2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D7B7-9621-4FE2-A136-7F1EE04F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3B32-74F6-45A1-AC91-CF30EC2B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A554-31E1-4761-9852-6E9703B4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EC98-1CF3-47E5-BAC2-A82538B3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BD0B-4713-492F-9A32-F074DB48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ADE-4E0C-4A1E-86CE-3D19DC04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347E-4883-4069-A9C7-807D91D0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39C5-B02C-417E-A1AD-CD3C310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2E3D-9CAD-4F26-AC9C-91068469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CC23-1029-4754-B67F-51F4986D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A40F-08E2-4F1D-9EA0-F5572837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AAE-46DD-4F22-BBBC-CF499CE5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FC2-E066-48E2-A88F-A616F04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C44-456F-4DAC-BFDF-E617CCD0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C49-7951-4F87-BEC7-DEC91E94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B3D-2C79-4A1B-B9BB-91CDA0DA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69C-F53D-4410-AFB1-151922D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64C-598D-4C99-B3FF-EC73B09D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8B27-739A-4443-987B-74739188CB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EBB7-CE8A-41CF-A813-7C0C38634B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pa.gov/air/emissions/voc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pa.gov/air/emissions/pm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air/urbanair/nox/index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pa.gov/cgi-bin/broker?_service=data&amp;_debug=0&amp;_program=dataprog.dw_do_all_emis.sas&amp;pol=225&amp;stfips=19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pa.gov/air/emissions/nox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epa.gov/air/emissions/so2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air we breath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air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small amounts of argon, carbon dioxide and water vap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reathe 3,000 gallons of air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armful substances reach unhealthy levels we call this “air polluti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olatile Organic Compounds (VOC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compounds that easily become toxic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s are a major source, also found in household products (paint, varnish, dry cleaned clothing, air freshen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to smog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serious health problems including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tate-level Emissions Chart"/>
          <p:cNvPicPr/>
          <p:nvPr/>
        </p:nvPicPr>
        <p:blipFill>
          <a:blip r:embed="rId2"/>
          <a:stretch/>
        </p:blipFill>
        <p:spPr>
          <a:xfrm>
            <a:off x="1066680" y="304920"/>
            <a:ext cx="7532640" cy="589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5880" y="6248520"/>
            <a:ext cx="43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voc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iculate Matter (PM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y particles of liquid or 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e particles come from vehicles, coal burning power plants. Coarse particles come from cement plants, mining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orm clouds that reduce vi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a variety of respiratory problems and can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State-level Emissions Chart"/>
          <p:cNvPicPr/>
          <p:nvPr/>
        </p:nvPicPr>
        <p:blipFill>
          <a:blip r:embed="rId2"/>
          <a:stretch/>
        </p:blipFill>
        <p:spPr>
          <a:xfrm>
            <a:off x="1447920" y="685800"/>
            <a:ext cx="6599160" cy="516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0" y="632448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pm.htm#pm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z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3) is a gas composed of three oxygen ato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usually emitted directly into the air, but at ground-level is created by a chemical reaction between oxides of nitrogen (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NO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volatile organic compounds 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O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n the presence of sun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has the same chemical structure whether it occurs miles above the earth or at ground-level and can be "good" or "bad," depending on its location in the atmo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zone: good up high, bad nearby!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ltitude ozone protects life on Earth from harmful UV r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-made chemicals, such as CFC’s, have depleted our oz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87 we have practically eliminated the use of ozone depleting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ozone layer is reco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lth Effects of Ground level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irritation, coughing, and pain when taking a deep breath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zing and breathing difficulties during exercise or outdoor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which is much like a sunburn on the skin;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avation of asthma and increased susceptibility to respiratory illnesses like pneumonia and bronch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nent lung damage with repeated expos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9152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ir pollution is man-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air pollution includes volcanic ash, dust, pollen, and sp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imary Pollutan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that is put directly into the air by human activity ex. s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ary Polluta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when two primary pollutants react in air, or when one combines with a naturally occurring substance ex. ground level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bon monoxide (CO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orless, colorless, poiso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d by the incomplete burning of fossil f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include vehicles, burning propane or natural gas indoors, faulty furn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Americans die each year from accidental CO poi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5638320"/>
            <a:ext cx="419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s blood’s ability to carry oxy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w CO enters red blood cell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tate-level Emissions Chart"/>
          <p:cNvPicPr/>
          <p:nvPr/>
        </p:nvPicPr>
        <p:blipFill>
          <a:blip r:embed="rId2"/>
          <a:stretch/>
        </p:blipFill>
        <p:spPr>
          <a:xfrm>
            <a:off x="533520" y="152280"/>
            <a:ext cx="8235720" cy="624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80" y="6461280"/>
            <a:ext cx="70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cgi-bin/broker?_service=data&amp;_debug=0&amp;_program=dataprog.dw_do_all_emis.sas&amp;pol=225&amp;stfips=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itrogen Oxides (NO</a:t>
            </a:r>
            <a:r>
              <a:rPr b="1" lang="en-US" sz="4400" spc="-1" strike="noStrike" baseline="-25000">
                <a:solidFill>
                  <a:srgbClr val="ffcc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vehicle exhausts, coal burning power plants,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your body vulnerable to respiratory disease and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5892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State-level Emissions Chart"/>
          <p:cNvPicPr/>
          <p:nvPr/>
        </p:nvPicPr>
        <p:blipFill>
          <a:blip r:embed="rId2"/>
          <a:stretch/>
        </p:blipFill>
        <p:spPr>
          <a:xfrm>
            <a:off x="990720" y="457200"/>
            <a:ext cx="7413480" cy="580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00" y="649116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no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lfur Dioxide (S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interactions between sulfur and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burning of coal and oil which contain sul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s to acid rain as sulf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s plants and irritates human respira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State-level Emissions Chart"/>
          <p:cNvPicPr/>
          <p:nvPr/>
        </p:nvPicPr>
        <p:blipFill>
          <a:blip r:embed="rId2"/>
          <a:stretch/>
        </p:blipFill>
        <p:spPr>
          <a:xfrm>
            <a:off x="914400" y="380880"/>
            <a:ext cx="7532640" cy="589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3640" y="6324480"/>
            <a:ext cx="51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so2.htm#so2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02:10Z</dcterms:created>
  <dc:creator>Owner</dc:creator>
  <dc:description/>
  <dc:language>en-US</dc:language>
  <cp:lastModifiedBy>L-Net</cp:lastModifiedBy>
  <dcterms:modified xsi:type="dcterms:W3CDTF">2008-10-23T12:23:48Z</dcterms:modified>
  <cp:revision>35</cp:revision>
  <dc:subject/>
  <dc:title>Slide 1</dc:title>
</cp:coreProperties>
</file>