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1D3-44C2-4B4B-92C4-32942859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6D7-E3D6-440A-B10F-53C97DB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659-FA0D-4127-8D44-22D8352F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B3F-2273-41A2-B675-BBECC243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D61C-FC52-487E-8116-0DF39556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B5CF-2997-4FF1-9E31-90E4F015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14E9-FF15-47C6-863E-5C401B8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195E-31B3-48BB-8B65-B06E3EDE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5AAD-4DA2-467D-9FBB-AA349844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1B9-7F27-4863-AD4F-6C320954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8E9D-3DB5-4970-B1B7-E53506A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CA3-5E01-47A1-8140-B32C30B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CDBA-4675-499C-B61C-4BC7E62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724-FF01-427D-A913-D67A032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116A-E4AD-42E7-A76A-DC145616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8942-46D5-435B-AC78-BC3C1504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C74A-3C90-413D-B226-6B2E0A5D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67D-ECE3-46D6-8E00-70ADCE3B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8E6-D854-4380-AA4F-CA1CEE14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655-6172-43E2-994D-4440F0C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E7D-398C-45DC-9275-CCF3DE60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B78-B04C-4702-BFFC-BAEF51C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CE-6856-4969-8EF0-1DC8F7C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DA1-2521-4703-8FB4-F50B7EB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BD5-4406-44DB-96B0-EE637D05F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A015-6281-422F-8756-A73D15CCB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pa.gov/air/emissions/voc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pa.gov/air/emissions/pm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air/urbanair/nox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pa.gov/cgi-bin/broker?_service=data&amp;_debug=0&amp;_program=dataprog.dw_do_all_emis.sas&amp;pol=225&amp;stfips=19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pa.gov/air/emissions/nox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pa.gov/air/emissions/so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air we breath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ir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mall amounts of argon, carbon dioxide and water vap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reathe 3,000 gallons of air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armful substances reach unhealthy levels we call this “air pollu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olatile Organic Compounds (VOC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compounds that easily become toxic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 are a major source, also found in household products (paint, varnish, dry cleaned clothing, air freshen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to smog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serious health problems includi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tate-level Emissions Chart"/>
          <p:cNvPicPr/>
          <p:nvPr/>
        </p:nvPicPr>
        <p:blipFill>
          <a:blip r:embed="rId2"/>
          <a:stretch/>
        </p:blipFill>
        <p:spPr>
          <a:xfrm>
            <a:off x="1066680" y="304920"/>
            <a:ext cx="7532640" cy="589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880" y="62485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vo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iculate Matter (PM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particles of liquid or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e particles come from vehicles, coal burning power plants. Coarse particles come from cement plants, mining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rm clouds that reduce vi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 variety of respiratory problems and ca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State-level Emissions Chart"/>
          <p:cNvPicPr/>
          <p:nvPr/>
        </p:nvPicPr>
        <p:blipFill>
          <a:blip r:embed="rId2"/>
          <a:stretch/>
        </p:blipFill>
        <p:spPr>
          <a:xfrm>
            <a:off x="1447920" y="685800"/>
            <a:ext cx="659916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632448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pm.htm#pm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3) is a gas composed of three oxyge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usually emitted directly into the air, but at ground-level is created by a chemical reaction between oxides of nitrogen (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N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volatile organic compounds 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O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 the presence of sun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has the same chemical structure whether it occurs miles above the earth or at ground-level and can be "good" or "bad," depending on its location in the atmo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zone: good up high, bad nearby!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titude ozone protects life on Earth from harmful UV r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-made chemicals, such as CFC’s, have depleted our oz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87 we have practically eliminated the use of ozone depleting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ozone layer is reco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lth Effects of Ground level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irritation, coughing, and pain when taking a deep breath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zing and breathing difficulties during exercise or outdoor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which is much like a sunburn on the skin;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on of asthma and increased susceptibility to respiratory illnesses like pneumonia and bronch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lung damage with repeated expos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9152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ir pollution is man-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air pollution includes volcanic ash, dust, pollen, and sp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mary Polluta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that is put directly into the air by human activity ex. s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ary Polluta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when two primary pollutants react in air, or when one combines with a naturally occurring substance ex. ground level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bon monoxide (CO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less, colorless, pois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the incomplete burning of fossil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include vehicles, burning propane or natural gas indoors, faulty furn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Americans die each year from accidental CO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5638320"/>
            <a:ext cx="419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s blood’s ability to carry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w CO enters red blood cell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ate-level Emissions Chart"/>
          <p:cNvPicPr/>
          <p:nvPr/>
        </p:nvPicPr>
        <p:blipFill>
          <a:blip r:embed="rId2"/>
          <a:stretch/>
        </p:blipFill>
        <p:spPr>
          <a:xfrm>
            <a:off x="533520" y="152280"/>
            <a:ext cx="8235720" cy="624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80" y="646128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cgi-bin/broker?_service=data&amp;_debug=0&amp;_program=dataprog.dw_do_all_emis.sas&amp;pol=225&amp;stfips=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itrogen Oxides (NO</a:t>
            </a:r>
            <a:r>
              <a:rPr b="1" lang="en-US" sz="4400" spc="-1" strike="noStrike" baseline="-25000">
                <a:solidFill>
                  <a:srgbClr val="ffcc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vehicle exhausts, coal burning power plants,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your body vulnerable to respiratory disease and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89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State-level Emissions Chart"/>
          <p:cNvPicPr/>
          <p:nvPr/>
        </p:nvPicPr>
        <p:blipFill>
          <a:blip r:embed="rId2"/>
          <a:stretch/>
        </p:blipFill>
        <p:spPr>
          <a:xfrm>
            <a:off x="990720" y="457200"/>
            <a:ext cx="7413480" cy="58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00" y="649116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no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lfur Dioxide (S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interactions between sulfur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burning of coal and oil which contain sul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s to acid rain as sulf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s plants and irritates human respir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tate-level Emissions Chart"/>
          <p:cNvPicPr/>
          <p:nvPr/>
        </p:nvPicPr>
        <p:blipFill>
          <a:blip r:embed="rId2"/>
          <a:stretch/>
        </p:blipFill>
        <p:spPr>
          <a:xfrm>
            <a:off x="914400" y="380880"/>
            <a:ext cx="7532640" cy="589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632448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so2.htm#so2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2:10Z</dcterms:created>
  <dc:creator>Owner</dc:creator>
  <dc:description/>
  <dc:language>en-US</dc:language>
  <cp:lastModifiedBy>L-Net</cp:lastModifiedBy>
  <dcterms:modified xsi:type="dcterms:W3CDTF">2008-10-23T12:23:48Z</dcterms:modified>
  <cp:revision>35</cp:revision>
  <dc:subject/>
  <dc:title>Slide 1</dc:title>
</cp:coreProperties>
</file>