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F0F-343C-4927-AD8E-20FC3814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F5E-2CB2-42F1-BF97-35F5A94E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F60-1901-4706-A955-FADC6A79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AD8-B371-4908-9084-CA569FB9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1CCB-8187-474C-A53C-B5770DF6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1012-A140-47B5-8623-B7478274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7732-0E3A-45E7-AB46-F23907BD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5FDC-4AB6-4188-944C-14CB2FDD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AC5D-F045-465B-92C0-715FDA06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E783-2D40-40A2-8CDF-8F77805B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D973-EDEA-4039-B082-3800A32B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261-02E8-4168-A561-A224D651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B4C3-A042-4A5E-9AAD-6BD44367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FD7C-C33D-4376-B3A5-83DBD2C2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1A5C-0F88-44B3-99D4-28B80867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C8B8-F999-482F-9321-81B1C603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71D5-1778-4467-829D-25FF2C68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4C5C-A1A9-42C6-931D-D7082CD3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F42-F1C3-496C-811E-E230C407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8F0-4F72-4D87-ACB6-0FDAFBCE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52D-F055-481D-85DE-C6292D47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A4C-E90A-45BA-B7E7-D5E94F58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26C-A590-4FD5-902A-DD627BF6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6CE-C7B3-491B-9BE6-86208F28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CD04-FB0C-4F34-86F6-55925AE5FF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CE6B-CCF6-45FF-BA90-8EFDD1FFA9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epa.gov/air/emissions/voc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epa.gov/air/emissions/pm.ht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air/urbanair/nox/index.html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pa.gov/cgi-bin/broker?_service=data&amp;_debug=0&amp;_program=dataprog.dw_do_all_emis.sas&amp;pol=225&amp;stfips=19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pa.gov/air/emissions/nox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http://www.epa.gov/air/emissions/so2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air we breath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 air consist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og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small amounts of argon, carbon dioxide and water vap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breathe 3,000 gallons of air each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harmful substances reach unhealthy levels we call this “air pollutio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olatile Organic Compounds (VOC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compounds that easily become toxic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hicles are a major source, also found in household products (paint, varnish, dry cleaned clothing, air freshen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to smog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serious health problems including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State-level Emissions Chart"/>
          <p:cNvPicPr/>
          <p:nvPr/>
        </p:nvPicPr>
        <p:blipFill>
          <a:blip r:embed="rId2"/>
          <a:stretch/>
        </p:blipFill>
        <p:spPr>
          <a:xfrm>
            <a:off x="1066680" y="304920"/>
            <a:ext cx="7532640" cy="5894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5880" y="6248520"/>
            <a:ext cx="438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voc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rticulate Matter (PM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y particles of liquid or 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e particles come from vehicles, coal burning power plants. Coarse particles come from cement plants, mining and 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form clouds that reduce visi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ause a variety of respiratory problems and canc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State-level Emissions Chart"/>
          <p:cNvPicPr/>
          <p:nvPr/>
        </p:nvPicPr>
        <p:blipFill>
          <a:blip r:embed="rId2"/>
          <a:stretch/>
        </p:blipFill>
        <p:spPr>
          <a:xfrm>
            <a:off x="1447920" y="685800"/>
            <a:ext cx="6599160" cy="5164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20" y="6324480"/>
            <a:ext cx="50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pm.htm#pm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condary Polluta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z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3) is a gas composed of three oxygen ato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not usually emitted directly into the air, but at ground-level is created by a chemical reaction between oxides of nitrogen (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NO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volatile organic compounds (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VO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in the presence of sunligh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zone has the same chemical structure whether it occurs miles above the earth or at ground-level and can be "good" or "bad," depending on its location in the atmosp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Ozone: good up high, bad nearby!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Altitude ozone protects life on Earth from harmful UV r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-made chemicals, such as CFC’s, have depleted our oz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1987 we have practically eliminated the use of ozone depleting sub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ozone layer is recov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lth Effects of Ground level ozo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way irritation, coughing, and pain when taking a deep breath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ezing and breathing difficulties during exercise or outdoor activit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, which is much like a sunburn on the skin;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avation of asthma and increased susceptibility to respiratory illnesses like pneumonia and bronch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anent lung damage with repeated exposu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29152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ir pollution is man-m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air pollution includes volcanic ash, dust, pollen, and sp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imary Pollutan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e that is put directly into the air by human activity ex. s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ary Pollutant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when two primary pollutants react in air, or when one combines with a naturally occurring substance ex. ground level o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bon monoxide (CO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419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orless, colorless, poiso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d by the incomplete burning of fossil fu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s include vehicles, burning propane or natural gas indoors, faulty furn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 Americans die each year from accidental CO pois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5638320"/>
            <a:ext cx="419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ects blood’s ability to carry oxyg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ow CO enters red blood cell"/>
          <p:cNvPicPr/>
          <p:nvPr/>
        </p:nvPicPr>
        <p:blipFill>
          <a:blip r:embed="rId2"/>
          <a:stretch/>
        </p:blipFill>
        <p:spPr>
          <a:xfrm>
            <a:off x="4952880" y="2057400"/>
            <a:ext cx="3810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State-level Emissions Chart"/>
          <p:cNvPicPr/>
          <p:nvPr/>
        </p:nvPicPr>
        <p:blipFill>
          <a:blip r:embed="rId2"/>
          <a:stretch/>
        </p:blipFill>
        <p:spPr>
          <a:xfrm>
            <a:off x="533520" y="152280"/>
            <a:ext cx="8235720" cy="6248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80" y="6461280"/>
            <a:ext cx="70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cgi-bin/broker?_service=data&amp;_debug=0&amp;_program=dataprog.dw_do_all_emis.sas&amp;pol=225&amp;stfips=1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itrogen Oxides (NO</a:t>
            </a:r>
            <a:r>
              <a:rPr b="1" lang="en-US" sz="4400" spc="-1" strike="noStrike" baseline="-25000">
                <a:solidFill>
                  <a:srgbClr val="ffcc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vehicle exhausts, coal burning power plants,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your body vulnerable to respiratory disease and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5892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State-level Emissions Chart"/>
          <p:cNvPicPr/>
          <p:nvPr/>
        </p:nvPicPr>
        <p:blipFill>
          <a:blip r:embed="rId2"/>
          <a:stretch/>
        </p:blipFill>
        <p:spPr>
          <a:xfrm>
            <a:off x="990720" y="457200"/>
            <a:ext cx="7413480" cy="580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00" y="649116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no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lfur Dioxide (SO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interactions between sulfur and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 from burning of coal and oil which contain sulf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s to acid rain as sulfu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ms plants and irritates human respirator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State-level Emissions Chart"/>
          <p:cNvPicPr/>
          <p:nvPr/>
        </p:nvPicPr>
        <p:blipFill>
          <a:blip r:embed="rId2"/>
          <a:stretch/>
        </p:blipFill>
        <p:spPr>
          <a:xfrm>
            <a:off x="914400" y="380880"/>
            <a:ext cx="7532640" cy="589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3640" y="6324480"/>
            <a:ext cx="51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so2.htm#so2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5:02:10Z</dcterms:created>
  <dc:creator>Owner</dc:creator>
  <dc:description/>
  <dc:language>en-US</dc:language>
  <cp:lastModifiedBy>L-Net</cp:lastModifiedBy>
  <dcterms:modified xsi:type="dcterms:W3CDTF">2008-10-23T12:23:48Z</dcterms:modified>
  <cp:revision>35</cp:revision>
  <dc:subject/>
  <dc:title>Slide 1</dc:title>
</cp:coreProperties>
</file>