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C1C-1452-47EA-B5AF-CEE24BE6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6C4-7ADA-4570-A1DC-1CE558C9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7BD-56DB-4936-B8F0-6569C100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A1F-FDC0-4B55-8B3D-33D852F6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31AA-D6CF-4866-BDAE-AA4E7EEC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D1E3-2C8B-4E64-9126-062ABE3E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B815-0B16-4C7D-A4F9-DF42621E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CA14-4495-4BC6-AFEB-79739B69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66D1-C5DA-4D49-87D1-13BCB551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D6DB-E34E-4AD2-9E9F-F82538DA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3D55-60A5-4284-95D2-1286936E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6AF-F3EE-4262-8F76-CFA095AE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AA5D-2C37-4CF9-B9B5-F0329E76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BFFE-6B35-4F69-9FA6-7A6A3A75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F84C-756F-437D-8176-69421FAE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0E56-1017-4126-B869-223BE27B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05F7-E8D4-47E1-ABF1-0D40467F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4F9-B576-4AFC-9F9F-CF676BBE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C0E-C3C3-4F2C-B54F-281D7798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6A4-F7E6-4466-9D56-8D8DF847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41C-1853-499E-9054-4D28F634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5BB-DD8C-4058-B3B3-F932D5A2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65AD-FECA-4763-9541-1CD82541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9A0-7F04-4696-9856-4D5BE909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25C4-5781-40C6-A906-F252231388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E40D-9AA1-46AC-9696-9A3D90FD1F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epa.gov/air/emissions/voc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epa.gov/air/emissions/pm.ht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air/urbanair/nox/index.html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pa.gov/cgi-bin/broker?_service=data&amp;_debug=0&amp;_program=dataprog.dw_do_all_emis.sas&amp;pol=225&amp;stfips=19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pa.gov/air/emissions/nox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http://www.epa.gov/air/emissions/so2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air we breath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 air consist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og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small amounts of argon, carbon dioxide and water vap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breathe 3,000 gallons of air each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harmful substances reach unhealthy levels we call this “air pollutio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olatile Organic Compounds (VOC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compounds that easily become toxic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hicles are a major source, also found in household products (paint, varnish, dry cleaned clothing, air freshen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to smog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serious health problems including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State-level Emissions Chart"/>
          <p:cNvPicPr/>
          <p:nvPr/>
        </p:nvPicPr>
        <p:blipFill>
          <a:blip r:embed="rId2"/>
          <a:stretch/>
        </p:blipFill>
        <p:spPr>
          <a:xfrm>
            <a:off x="1066680" y="304920"/>
            <a:ext cx="7532640" cy="5894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5880" y="6248520"/>
            <a:ext cx="438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voc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rticulate Matter (PM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y particles of liquid or 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e particles come from vehicles, coal burning power plants. Coarse particles come from cement plants, mining and 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form clouds that reduce visi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ause a variety of respiratory problems and canc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State-level Emissions Chart"/>
          <p:cNvPicPr/>
          <p:nvPr/>
        </p:nvPicPr>
        <p:blipFill>
          <a:blip r:embed="rId2"/>
          <a:stretch/>
        </p:blipFill>
        <p:spPr>
          <a:xfrm>
            <a:off x="1447920" y="685800"/>
            <a:ext cx="6599160" cy="5164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20" y="6324480"/>
            <a:ext cx="50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pm.htm#pm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condary Polluta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z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3) is a gas composed of three oxygen ato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not usually emitted directly into the air, but at ground-level is created by a chemical reaction between oxides of nitrogen (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NO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volatile organic compounds (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VO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in the presence of sunligh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zone has the same chemical structure whether it occurs miles above the earth or at ground-level and can be "good" or "bad," depending on its location in the atmosp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Ozone: good up high, bad nearby!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Altitude ozone protects life on Earth from harmful UV r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-made chemicals, such as CFC’s, have depleted our oz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1987 we have practically eliminated the use of ozone depleting sub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ozone layer is recov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lth Effects of Ground level ozo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way irritation, coughing, and pain when taking a deep breath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ezing and breathing difficulties during exercise or outdoor activit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, which is much like a sunburn on the skin;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avation of asthma and increased susceptibility to respiratory illnesses like pneumonia and bronch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anent lung damage with repeated exposu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29152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ir pollution is man-m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air pollution includes volcanic ash, dust, pollen, and sp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imary Pollutan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e that is put directly into the air by human activity ex. s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ary Pollutant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when two primary pollutants react in air, or when one combines with a naturally occurring substance ex. ground level o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bon monoxide (CO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419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orless, colorless, poiso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d by the incomplete burning of fossil fu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s include vehicles, burning propane or natural gas indoors, faulty furn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 Americans die each year from accidental CO pois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5638320"/>
            <a:ext cx="419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ects blood’s ability to carry oxyg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ow CO enters red blood cell"/>
          <p:cNvPicPr/>
          <p:nvPr/>
        </p:nvPicPr>
        <p:blipFill>
          <a:blip r:embed="rId2"/>
          <a:stretch/>
        </p:blipFill>
        <p:spPr>
          <a:xfrm>
            <a:off x="4952880" y="2057400"/>
            <a:ext cx="3810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State-level Emissions Chart"/>
          <p:cNvPicPr/>
          <p:nvPr/>
        </p:nvPicPr>
        <p:blipFill>
          <a:blip r:embed="rId2"/>
          <a:stretch/>
        </p:blipFill>
        <p:spPr>
          <a:xfrm>
            <a:off x="533520" y="152280"/>
            <a:ext cx="8235720" cy="6248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80" y="6461280"/>
            <a:ext cx="70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cgi-bin/broker?_service=data&amp;_debug=0&amp;_program=dataprog.dw_do_all_emis.sas&amp;pol=225&amp;stfips=1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itrogen Oxides (NO</a:t>
            </a:r>
            <a:r>
              <a:rPr b="1" lang="en-US" sz="4400" spc="-1" strike="noStrike" baseline="-25000">
                <a:solidFill>
                  <a:srgbClr val="ffcc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vehicle exhausts, coal burning power plants,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your body vulnerable to respiratory disease and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5892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State-level Emissions Chart"/>
          <p:cNvPicPr/>
          <p:nvPr/>
        </p:nvPicPr>
        <p:blipFill>
          <a:blip r:embed="rId2"/>
          <a:stretch/>
        </p:blipFill>
        <p:spPr>
          <a:xfrm>
            <a:off x="990720" y="457200"/>
            <a:ext cx="7413480" cy="580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00" y="649116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no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lfur Dioxide (SO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interactions between sulfur and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 from burning of coal and oil which contain sulf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s to acid rain as sulfu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ms plants and irritates human respirator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State-level Emissions Chart"/>
          <p:cNvPicPr/>
          <p:nvPr/>
        </p:nvPicPr>
        <p:blipFill>
          <a:blip r:embed="rId2"/>
          <a:stretch/>
        </p:blipFill>
        <p:spPr>
          <a:xfrm>
            <a:off x="914400" y="380880"/>
            <a:ext cx="7532640" cy="589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3640" y="6324480"/>
            <a:ext cx="51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so2.htm#so2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5:02:10Z</dcterms:created>
  <dc:creator>Owner</dc:creator>
  <dc:description/>
  <dc:language>en-US</dc:language>
  <cp:lastModifiedBy>L-Net</cp:lastModifiedBy>
  <dcterms:modified xsi:type="dcterms:W3CDTF">2008-10-23T12:23:48Z</dcterms:modified>
  <cp:revision>35</cp:revision>
  <dc:subject/>
  <dc:title>Slide 1</dc:title>
</cp:coreProperties>
</file>