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97A9-D1B6-4EBE-A323-D65415B4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F27-24DC-4EB9-8C57-CF57B185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F61-5B7E-4484-A7E3-2A027CC4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D1BB-1038-477A-BD0C-319B4D40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53DB-09CF-42DB-ADF9-19E44D68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75F7-93E2-412B-9FE3-642750C8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5E0F-BF57-4497-B727-43CB71EF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875E-9935-4428-9BF3-E7CB1C9D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9ABB-C9B8-46C9-BAA3-D863DC75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E075-D1E8-40EC-BAEC-A5B43706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4D92-08C8-46C0-8C72-9662C79D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3C8-8EF7-4101-AE74-DCD7A41E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7CBF-0F4B-41D3-8DE4-0BB91193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E210-7A94-4A3E-AC70-D7F7D6BA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0B64-90C8-4F29-8623-BCD9D468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C634-AEF3-44F6-91E6-2FDE69B9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DC39-427E-4E63-B11C-C78E23D9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0C5-3941-4FEA-A030-C4493636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6214-B0BA-46CD-B09B-9BBF0CDC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4BB-E7A0-4EA6-BA50-C449DCD6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7EC-2905-49E6-8578-42D68AD2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DEE-7F5A-417A-807D-F2335E8B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0257-B7F4-4BA2-9AF9-55170B1C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FC10-EEA2-4B26-9424-8757A9BE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49A4-6D26-49F0-BA51-CE3CEE1BA6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E42D-E6C8-4C06-AA78-70E8DDE2DA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epa.gov/air/emissions/voc.ht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://www.epa.gov/air/emissions/pm.htm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air/urbanair/nox/index.html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epa.gov/cgi-bin/broker?_service=data&amp;_debug=0&amp;_program=dataprog.dw_do_all_emis.sas&amp;pol=225&amp;stfips=19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epa.gov/air/emissions/nox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hyperlink" Target="http://www.epa.gov/air/emissions/so2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air we breath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 air consist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og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small amounts of argon, carbon dioxide and water vap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breathe 3,000 gallons of air each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harmful substances reach unhealthy levels we call this “air pollutio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Volatile Organic Compounds (VOC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c compounds that easily become toxic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hicles are a major source, also found in household products (paint, varnish, dry cleaned clothing, air freshen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 to smog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serious health problems including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State-level Emissions Chart"/>
          <p:cNvPicPr/>
          <p:nvPr/>
        </p:nvPicPr>
        <p:blipFill>
          <a:blip r:embed="rId2"/>
          <a:stretch/>
        </p:blipFill>
        <p:spPr>
          <a:xfrm>
            <a:off x="1066680" y="304920"/>
            <a:ext cx="7532640" cy="5894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5880" y="6248520"/>
            <a:ext cx="438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voc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rticulate Matter (PM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y particles of liquid or sol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e particles come from vehicles, coal burning power plants. Coarse particles come from cement plants, mining and agri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form clouds that reduce visi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cause a variety of respiratory problems and canc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State-level Emissions Chart"/>
          <p:cNvPicPr/>
          <p:nvPr/>
        </p:nvPicPr>
        <p:blipFill>
          <a:blip r:embed="rId2"/>
          <a:stretch/>
        </p:blipFill>
        <p:spPr>
          <a:xfrm>
            <a:off x="1447920" y="685800"/>
            <a:ext cx="6599160" cy="5164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320" y="6324480"/>
            <a:ext cx="50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pm.htm#pm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condary Polluta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z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O3) is a gas composed of three oxygen ato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not usually emitted directly into the air, but at ground-level is created by a chemical reaction between oxides of nitrogen (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NO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volatile organic compounds (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VO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in the presence of sunligh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zone has the same chemical structure whether it occurs miles above the earth or at ground-level and can be "good" or "bad," depending on its location in the atmosphe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Ozone: good up high, bad nearby!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Altitude ozone protects life on Earth from harmful UV r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-made chemicals, such as CFC’s, have depleted our ozone 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1987 we have practically eliminated the use of ozone depleting sub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ozone layer is recov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lth Effects of Ground level ozon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way irritation, coughing, and pain when taking a deep breath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ezing and breathing difficulties during exercise or outdoor activitie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, which is much like a sunburn on the skin;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avation of asthma and increased susceptibility to respiratory illnesses like pneumonia and bronch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anent lung damage with repeated exposu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29152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Pollu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ir pollution is man-m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air pollution includes volcanic ash, dust, pollen, and sp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rimary Pollutant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e that is put directly into the air by human activity ex. so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ary Pollutant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s when two primary pollutants react in air, or when one combines with a naturally occurring substance ex. ground level o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arbon monoxide (CO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419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orless, colorless, poison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d by the incomplete burning of fossil fu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s include vehicles, burning propane or natural gas indoors, faulty furn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 Americans die each year from accidental CO pois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5638320"/>
            <a:ext cx="419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ects blood’s ability to carry oxyg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ow CO enters red blood cell"/>
          <p:cNvPicPr/>
          <p:nvPr/>
        </p:nvPicPr>
        <p:blipFill>
          <a:blip r:embed="rId2"/>
          <a:stretch/>
        </p:blipFill>
        <p:spPr>
          <a:xfrm>
            <a:off x="4952880" y="2057400"/>
            <a:ext cx="3810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State-level Emissions Chart"/>
          <p:cNvPicPr/>
          <p:nvPr/>
        </p:nvPicPr>
        <p:blipFill>
          <a:blip r:embed="rId2"/>
          <a:stretch/>
        </p:blipFill>
        <p:spPr>
          <a:xfrm>
            <a:off x="533520" y="152280"/>
            <a:ext cx="8235720" cy="6248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80" y="6461280"/>
            <a:ext cx="70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cgi-bin/broker?_service=data&amp;_debug=0&amp;_program=dataprog.dw_do_all_emis.sas&amp;pol=225&amp;stfips=1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itrogen Oxides (NO</a:t>
            </a:r>
            <a:r>
              <a:rPr b="1" lang="en-US" sz="4400" spc="-1" strike="noStrike" baseline="-25000">
                <a:solidFill>
                  <a:srgbClr val="ffcc00"/>
                </a:solidFill>
                <a:latin typeface="Arial"/>
              </a:rPr>
              <a:t>X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vehicle exhausts, coal burning power plants,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your body vulnerable to respiratory disease and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5892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" descr="State-level Emissions Chart"/>
          <p:cNvPicPr/>
          <p:nvPr/>
        </p:nvPicPr>
        <p:blipFill>
          <a:blip r:embed="rId2"/>
          <a:stretch/>
        </p:blipFill>
        <p:spPr>
          <a:xfrm>
            <a:off x="990720" y="457200"/>
            <a:ext cx="7413480" cy="5800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600" y="649116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nox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lfur Dioxide (SO</a:t>
            </a:r>
            <a:r>
              <a:rPr b="0" lang="en-US" sz="4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interactions between sulfur and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 from burning of coal and oil which contain sulf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s to acid rain as sulfur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ms plants and irritates human respiratory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State-level Emissions Chart"/>
          <p:cNvPicPr/>
          <p:nvPr/>
        </p:nvPicPr>
        <p:blipFill>
          <a:blip r:embed="rId2"/>
          <a:stretch/>
        </p:blipFill>
        <p:spPr>
          <a:xfrm>
            <a:off x="914400" y="380880"/>
            <a:ext cx="7532640" cy="589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3640" y="6324480"/>
            <a:ext cx="51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a.gov/air/emissions/so2.htm#so2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5:02:10Z</dcterms:created>
  <dc:creator>Owner</dc:creator>
  <dc:description/>
  <dc:language>en-US</dc:language>
  <cp:lastModifiedBy>L-Net</cp:lastModifiedBy>
  <dcterms:modified xsi:type="dcterms:W3CDTF">2008-10-23T12:23:48Z</dcterms:modified>
  <cp:revision>35</cp:revision>
  <dc:subject/>
  <dc:title>Slide 1</dc:title>
</cp:coreProperties>
</file>