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wmf" ContentType="image/x-wmf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A5EB-A312-427F-B350-EFF861158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06D9-AA1E-44D3-B3F9-4AC50905D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3E3F-567A-4D1C-A1E7-2D2F4D026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03CE-FC4F-4074-ACCE-88DD201A2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CD8FD-F119-40E4-BF1A-8E496C608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6786F-EC08-47F4-841B-EDD93F5BF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6FBDE-A61F-4469-B481-DDF8DA80D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6860B-2DF0-4EB2-834B-66CC428E6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015FE-191B-4466-B387-5285672BB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65E70-B2CD-401A-AFA7-3B453CF82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98F98-56CF-4D77-ADD3-C3E0EDFFC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7CF9-91A7-45D6-B17F-1F4ECC704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E779B-A5F0-4CBB-9C7D-F69F487C0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D013A-B3F1-4588-973C-E64D3B164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7FCA2-6175-46BA-8CD1-2F2667E20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8186A-4A4A-4C38-A18A-8285700DF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948C5-DAB0-439D-821C-67D107842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1C20-D9AE-4D1F-80A4-74C68CDF1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253D-2542-4389-B7B5-04D799F76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1F28-6CAE-4896-B400-14E1B9AB9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8A1E-3B32-412E-B4A0-891AD8C2D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49B8-EFB7-4F25-AFF1-35C706FC2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B2AF-48E9-4E48-B6EF-A0FC15F9D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82E0-3E3E-441D-BCD9-16105CC45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6E87B-66B6-4091-948F-DE7E83DEDC1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7009A-06A0-4866-B76B-DCBDFE92F79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hyperlink" Target="http://www.epa.gov/air/emissions/voc.htm" TargetMode="Externa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hyperlink" Target="http://www.epa.gov/air/emissions/pm.htm" TargetMode="External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pa.gov/air/urbanair/nox/index.html" TargetMode="External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hyperlink" Target="http://www.epa.gov/cgi-bin/broker?_service=data&amp;_debug=0&amp;_program=dataprog.dw_do_all_emis.sas&amp;pol=225&amp;stfips=19" TargetMode="Externa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hyperlink" Target="http://www.epa.gov/air/emissions/nox.htm" TargetMode="External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hyperlink" Target="http://www.epa.gov/air/emissions/so2.htm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The air we breath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ean air consists of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itroge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xyge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ry small amounts of argon, carbon dioxide and water vapo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breathe 3,000 gallons of air each da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harmful substances reach unhealthy levels we call this “air pollution.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64832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800600" y="2133720"/>
            <a:ext cx="39625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Volatile Organic Compounds (VOC)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ganic compounds that easily become toxic g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hicles are a major source, also found in household products (paint, varnish, dry cleaned clothing, air freshene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ribute to smog 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use serious health problems including canc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State-level Emissions Chart"/>
          <p:cNvPicPr/>
          <p:nvPr/>
        </p:nvPicPr>
        <p:blipFill>
          <a:blip r:embed="rId2"/>
          <a:stretch/>
        </p:blipFill>
        <p:spPr>
          <a:xfrm>
            <a:off x="1066680" y="304920"/>
            <a:ext cx="7532640" cy="58942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55880" y="6248520"/>
            <a:ext cx="438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hlinkClick r:id="rId3"/>
              </a:rPr>
              <a:t>http://www.epa.gov/air/emissions/voc.ht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Particulate Matter (PM)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ny particles of liquid or sol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ne particles come from vehicles, coal burning power plants. Coarse particles come from cement plants, mining and agricul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 form clouds that reduce visibil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 cause a variety of respiratory problems and canc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State-level Emissions Chart"/>
          <p:cNvPicPr/>
          <p:nvPr/>
        </p:nvPicPr>
        <p:blipFill>
          <a:blip r:embed="rId2"/>
          <a:stretch/>
        </p:blipFill>
        <p:spPr>
          <a:xfrm>
            <a:off x="1447920" y="685800"/>
            <a:ext cx="6599160" cy="51642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4320" y="6324480"/>
            <a:ext cx="50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hlinkClick r:id="rId3"/>
              </a:rPr>
              <a:t>http://www.epa.gov/air/emissions/pm.htm#pmlo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econdary Pollutant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zon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O3) is a gas composed of three oxygen atom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is not usually emitted directly into the air, but at ground-level is created by a chemical reaction between oxides of nitrogen (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Arial"/>
                <a:hlinkClick r:id="rId2"/>
              </a:rPr>
              <a:t>NOx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 and volatile organic compounds (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VOC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 in the presence of sunlight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zone has the same chemical structure whether it occurs miles above the earth or at ground-level and can be "good" or "bad," depending on its location in the atmospher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Ozone: good up high, bad nearby!</a:t>
            </a:r>
            <a:br>
              <a:rPr sz="4000"/>
            </a:b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gh Altitude ozone protects life on Earth from harmful UV ray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n-made chemicals, such as CFC’s, have depleted our ozone lay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ce 1987 we have practically eliminated the use of ozone depleting substan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ur ozone layer is recover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64832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4952880" y="2057400"/>
            <a:ext cx="381024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Health Effects of Ground level ozone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irway irritation, coughing, and pain when taking a deep breath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ezing and breathing difficulties during exercise or outdoor activities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lammation, which is much like a sunburn on the skin; 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ggravation of asthma and increased susceptibility to respiratory illnesses like pneumonia and bronch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manent lung damage with repeated exposure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57200" y="0"/>
            <a:ext cx="8291520" cy="661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ir Pollution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t air pollution is man-mad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tural air pollution includes volcanic ash, dust, pollen, and spor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Primary Pollutant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ne that is put directly into the air by human activity ex. soo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Secondary Pollutant: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ms when two primary pollutants react in air, or when one combines with a naturally occurring substance ex. ground level ozo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arbon monoxide (CO)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218960"/>
            <a:ext cx="419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dorless, colorless, poisono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duced by the incomplete burning of fossil fu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urces include vehicles, burning propane or natural gas indoors, faulty furna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0 Americans die each year from accidental CO poiso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648320" y="5638320"/>
            <a:ext cx="419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ffects blood’s ability to carry oxyge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How CO enters red blood cell"/>
          <p:cNvPicPr/>
          <p:nvPr/>
        </p:nvPicPr>
        <p:blipFill>
          <a:blip r:embed="rId2"/>
          <a:stretch/>
        </p:blipFill>
        <p:spPr>
          <a:xfrm>
            <a:off x="4952880" y="2057400"/>
            <a:ext cx="381024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State-level Emissions Chart"/>
          <p:cNvPicPr/>
          <p:nvPr/>
        </p:nvPicPr>
        <p:blipFill>
          <a:blip r:embed="rId2"/>
          <a:stretch/>
        </p:blipFill>
        <p:spPr>
          <a:xfrm>
            <a:off x="533520" y="152280"/>
            <a:ext cx="8235720" cy="62485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2880" y="6461280"/>
            <a:ext cx="7061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cc00"/>
                </a:solidFill>
                <a:uFillTx/>
                <a:latin typeface="Arial"/>
                <a:hlinkClick r:id="rId3"/>
              </a:rPr>
              <a:t>http://www.epa.gov/cgi-bin/broker?_service=data&amp;_debug=0&amp;_program=dataprog.dw_do_all_emis.sas&amp;pol=225&amp;stfips=19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Nitrogen Oxides (NO</a:t>
            </a:r>
            <a:r>
              <a:rPr b="1" lang="en-US" sz="4400" spc="-1" strike="noStrike" baseline="-25000">
                <a:solidFill>
                  <a:srgbClr val="ffcc00"/>
                </a:solidFill>
                <a:latin typeface="Arial"/>
              </a:rPr>
              <a:t>X</a:t>
            </a: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om vehicle exhausts, coal burning power plants, indust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kes your body vulnerable to respiratory disease and canc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64832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589280" cy="40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0" name="" descr="State-level Emissions Chart"/>
          <p:cNvPicPr/>
          <p:nvPr/>
        </p:nvPicPr>
        <p:blipFill>
          <a:blip r:embed="rId2"/>
          <a:stretch/>
        </p:blipFill>
        <p:spPr>
          <a:xfrm>
            <a:off x="990720" y="457200"/>
            <a:ext cx="7413480" cy="58006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600" y="6491160"/>
            <a:ext cx="43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hlinkClick r:id="rId3"/>
              </a:rPr>
              <a:t>http://www.epa.gov/air/emissions/nox.ht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ulfur Dioxide (SO</a:t>
            </a:r>
            <a:r>
              <a:rPr b="0" lang="en-US" sz="4400" spc="-1" strike="noStrike" baseline="-25000">
                <a:solidFill>
                  <a:srgbClr val="ffcc00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duced by interactions between sulfur and oxyg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es from burning of coal and oil which contain sulf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ributes to acid rain as sulfuric ac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rms plants and irritates human respiratory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State-level Emissions Chart"/>
          <p:cNvPicPr/>
          <p:nvPr/>
        </p:nvPicPr>
        <p:blipFill>
          <a:blip r:embed="rId2"/>
          <a:stretch/>
        </p:blipFill>
        <p:spPr>
          <a:xfrm>
            <a:off x="914400" y="380880"/>
            <a:ext cx="7532640" cy="58946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33640" y="6324480"/>
            <a:ext cx="517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hlinkClick r:id="rId3"/>
              </a:rPr>
              <a:t>http://www.epa.gov/air/emissions/so2.htm#so2lo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6T15:02:10Z</dcterms:created>
  <dc:creator>Owner</dc:creator>
  <dc:description/>
  <dc:language>en-US</dc:language>
  <cp:lastModifiedBy>L-Net</cp:lastModifiedBy>
  <dcterms:modified xsi:type="dcterms:W3CDTF">2008-10-23T12:23:48Z</dcterms:modified>
  <cp:revision>35</cp:revision>
  <dc:subject/>
  <dc:title>Slide 1</dc:title>
</cp:coreProperties>
</file>