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7BC24-4FA6-48CA-97CC-917742070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80AB5-172D-469D-9757-6160A6588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CBD84-86FA-4C8A-B517-FCD093EE8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ECCDE-493A-4321-9EF7-C81B1C835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A627A-1FE5-4C38-8FEE-2EBD44B8B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DF843-7B0B-4DD7-A7A3-117921A89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937DE-1BF8-4268-9C2F-D0BAD8235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D5E95-968F-4261-B57C-33EBE8FBD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66CF3-D9AB-4861-BC74-CDA5A87C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8FDA3-83AD-4191-A74F-774F72047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7FEC2-6A2A-49C6-9B7F-A197D0F1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8379B-E2F4-4C61-9437-D34E4176E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A1E44-E091-435C-8555-2E5B62E6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C0292-21F4-4297-A8F6-F98C9779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06AFD-AADC-444A-B25D-26FEB28E7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CACE1-B5F5-4695-AEB6-9993D5CDA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D6600-46AD-44F2-9F71-AE0420ABE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CB19E-156C-4223-921A-23C14AB37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6F9F2-028E-4D31-A560-11856CAE7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EE5E2-CB7F-4159-A69F-B75A39382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9567D-40DB-4476-9187-704C36966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8418A-624B-4155-99E4-00F129FD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33F02-C12F-400B-A4B1-9B637294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B5FAF-BEC5-44EC-AEED-B261FC2B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DF9AD-2219-4409-9EA7-F791A113652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2D33E-30B4-40CF-8877-9C7AA02F097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q7JgenD4fdw&amp;feature=related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vLsV_7wJlVE&amp;feature=related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aine.gov/agriculture/pi/images/nationalorganicseal.jpg&amp;imgrefurl=http://www.maine.gov/agriculture/pi/organicprogram/index.htm&amp;usg=__zze2FmtUdNPTm2LlKYzJzpRf1HA=&amp;h=436&amp;w=436&amp;sz=22&amp;hl=en&amp;start=2&amp;um=1&amp;tbnid=oj4bUOEzwq2b8M:&amp;tbnh=126&amp;tbnw=126&amp;prev=/images%3Fq%3Dnational%2Borganic%2Bstandards%26hl%3Den%26rls%3Dcom.microsoft:en-us:IE-SearchBox%26rlz%3D1I7GFRC%26sa%3DN%26um%3D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8380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Alternative agricultural system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09680" y="3048120"/>
            <a:ext cx="5046840" cy="36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hy does organic food cost more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ganic farming involves more ris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imits on pesticides means more hand weed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post and manure are bulkier than synthetic fertilizers so cost more to transpor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rop rotation means you can’t grow your highest value crop every yea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mand exceeds supp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ertification cos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ganic farmers do not receive the same subsid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ere can you buy Organic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ocal grocery stor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ealth food stor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armers marke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mmunity Supported Agriculture (CSA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 partnership between farmer and consum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nsumer takes on some of th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isks of farm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embers receive a weekly sh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f locally grown organi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du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105520" y="3276720"/>
            <a:ext cx="4038480" cy="34052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105520" y="1295280"/>
            <a:ext cx="38383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739360" cy="65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groecology (Miguel Altieri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application of ecology to the design and management of sustainable agroecosyste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e renewable resour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nimize the use of materials that harm the environ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serve soil, water, energ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nage ecological relationships – enhance beneficial insect populations, recycle nutri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versify – crops and livestoc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iodynamic Farming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(Rudolph Steiner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rganic farming with a spiritual world view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nsiders the farm as an organis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lies of herbal and mineral preparations ex fill cow horn with manure and bury it in the groun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ses an astronomical calendar ex. Planting according to phases of the mo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4176720" cy="37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maculture (Bill Mollison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ermaculture is a design system for creating sustainable human environment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 people to feed themselves sustainably, they need to move away from industrialized agricultur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dustrial farms use technology powered by fossil fuels and each farm specializes in producing high yields of a single crop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ermaculture is built upon an ethic of caring for the earth and interacting with the environment in mutually beneficial way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maculture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267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core of permaculture is design and the working relationships and connections between all things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ach component in a system performs multiple functions, and each function is supported by many elements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xample: Chicken greenhous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hicken coop heats greenhous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hicken pecking clears land for crop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anure fertilizes soi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eathers used as mulch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www.youtube.com/watch?v=q7JgenD4fdw&amp;feature=relat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105520" y="1506600"/>
            <a:ext cx="3565440" cy="53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quaponic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www.youtube.com/watch?v=vLsV_7wJlVE&amp;feature=relat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rganic Agricultu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griculture that relies on crop rotation, green manure, compost, biological pest control, and mechanical cultivation to maintain soil productivity and control pes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ynthetic fertilizers, synthetic pesticides, livestock feed additives, and genetically modified organisms are NOT allow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rganic Agriculture in Europ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236080" cy="51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rganic Agriculture in The U.S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" descr="U.S. certified organic acreage and operations, 2005"/>
          <p:cNvPicPr/>
          <p:nvPr/>
        </p:nvPicPr>
        <p:blipFill>
          <a:blip r:embed="rId1"/>
          <a:stretch/>
        </p:blipFill>
        <p:spPr>
          <a:xfrm>
            <a:off x="762120" y="1371600"/>
            <a:ext cx="76197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ational Organic Progra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USDA National Organic Program certifies farms as organi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credited agencies inspect farms to insure they are in compliance with National Organic Standar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penalty of up to $11,000 can be charged for mis-labeled foo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10080" y="1981080"/>
            <a:ext cx="284328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rganic Farming 101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 become an organic farm a farmer must transition the land for 3 year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esent an organic system plan with records of: all farm practices, products used, how co-mingling of organic and non-organic products or non-approved substances is avoid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nual inspections and unannounced inspec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andom sampling of products for evidence of unauthorized substan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rganic Soil Managem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ealthy soil is at the center of organic agricultu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armers use crop rotation to maintain soil health, manage weeds and pes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armers can use compost, manure, minerals such as rock phosphate to fertilize the soi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lley cropping, intercropping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reen manu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724280" y="1219320"/>
            <a:ext cx="4038840" cy="21589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419720" y="3505320"/>
            <a:ext cx="4424400" cy="31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rganic Weed managem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384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and weed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ulc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rn gluten me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inega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lame weed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rops such as ry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Rice husk can be used as a mulch."/>
          <p:cNvPicPr/>
          <p:nvPr/>
        </p:nvPicPr>
        <p:blipFill>
          <a:blip r:embed="rId3"/>
          <a:stretch/>
        </p:blipFill>
        <p:spPr>
          <a:xfrm>
            <a:off x="4876920" y="121932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4800600" y="3886200"/>
            <a:ext cx="3897360" cy="29718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762120" y="4419720"/>
            <a:ext cx="29700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rganic Pest Managem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iocontrol – using natural predators to control pests ex. Ladybugs, spi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ow cov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rop rot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ganic approved pesticides ex. Surround, garlic, neem, BT, pyrethru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5029200" y="1219320"/>
            <a:ext cx="3546360" cy="26589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5334120" y="3733920"/>
            <a:ext cx="29890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9T12:05:05Z</dcterms:created>
  <dc:creator>Owner</dc:creator>
  <dc:description/>
  <dc:language>en-US</dc:language>
  <cp:lastModifiedBy>L-Net</cp:lastModifiedBy>
  <dcterms:modified xsi:type="dcterms:W3CDTF">2010-05-25T12:04:03Z</dcterms:modified>
  <cp:revision>23</cp:revision>
  <dc:subject/>
  <dc:title>Alternative agricultural systems</dc:title>
</cp:coreProperties>
</file>