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977FC-4649-443D-95E2-B7FC057D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C6B8B-6F4A-4A88-8820-D2404FBB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59785-7837-4DB7-BCDA-A5B116EC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57D01-FD86-4400-A43F-4A482BCD0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93BC-8DA0-49FB-AFDB-B5CF73084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B8E2-7A56-4CE0-94C5-93F6D704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82E4-5C8B-440A-BD49-9C1CF247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6C08-2985-4D9C-96DC-A2F431E0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39DE-5C5B-403E-9F92-7BFD3DD5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D8C9-6BE5-41B3-8DA6-F414B13B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D9C2-2535-4568-AD63-44E1F7FC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FDBF5-0D69-428B-A677-1AEA0E0B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29C7-8953-4E4C-B9A0-E6D7968A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68F9-8B9C-4608-A7C3-9414AC6F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2F14-CF3B-4D30-93AA-07B51416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E6FE-EE84-4B24-999C-3ACA1F06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7399-9A16-400B-905A-628901B2E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7023B-ECDB-4E41-91C8-C8E9106D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6D3EF-0070-424D-82D9-1A52E891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F70E5-0425-4D6E-851D-497E12CA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B2B97-C9A2-41CD-9CF8-54991ABE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DF793-62C9-4AA3-9231-BE1BD0B6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08C0B-5621-4859-BFCF-4EB055AF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A1045-3946-4786-9514-335960BF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053B-78FA-4672-ADAF-A6180EA651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4D06-7CE0-47BB-B522-A32400FE0D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7JgenD4fdw&amp;feature=related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vLsV_7wJlVE&amp;feature=related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ine.gov/agriculture/pi/images/nationalorganicseal.jpg&amp;imgrefurl=http://www.maine.gov/agriculture/pi/organicprogram/index.htm&amp;usg=__zze2FmtUdNPTm2LlKYzJzpRf1HA=&amp;h=436&amp;w=436&amp;sz=22&amp;hl=en&amp;start=2&amp;um=1&amp;tbnid=oj4bUOEzwq2b8M:&amp;tbnh=126&amp;tbnw=126&amp;prev=/images%3Fq%3Dnational%2Borganic%2Bstandards%26hl%3Den%26rls%3Dcom.microsoft:en-us:IE-SearchBox%26rlz%3D1I7GFRC%26sa%3DN%26um%3D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Alternative agricultural system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09680" y="3048120"/>
            <a:ext cx="5046840" cy="36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y does organic food cost more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ic farming involves more ris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mits on pesticides means more hand wee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ost and manure are bulkier than synthetic fertilizers so cost more to trans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op rotation means you can’t grow your highest value crop every ye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mand exceeds supp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rtification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ic farmers do not receive the same subsid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ere can you buy Organic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cal grocery stor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alth food stor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rmers marke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mmunity Supported Agriculture (CS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partnership between farmer and consum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umer takes on some of th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isks of farm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mbers receive a weekly sh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f locally grown organi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du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105520" y="3276720"/>
            <a:ext cx="4038480" cy="3405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383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39360" cy="65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groecology (Miguel Altieri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pplication of ecology to the design and management of sustainable agroecosyst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renewable resour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imize the use of materials that harm the environ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erve soil, water, ener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age ecological relationships – enhance beneficial insect populations, recycle nutri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versify – crops and livestoc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iodynamic Farming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Rudolph Steiner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ganic farming with a spiritual world view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iders the farm as an organis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lies of herbal and mineral preparations ex fill cow horn with manure and bury it in the grou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es an astronomical calendar ex. Planting according to phases of the mo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176720" cy="37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maculture (Bill Mollison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maculture is a design system for creating sustainable human environment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people to feed themselves sustainably, they need to move away from industrialized agricultur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dustrial farms use technology powered by fossil fuels and each farm specializes in producing high yields of a single crop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maculture is built upon an ethic of caring for the earth and interacting with the environment in mutually beneficial way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maculture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267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core of permaculture is design and the working relationships and connections between all thing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ach component in a system performs multiple functions, and each function is supported by many element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xample: Chicken greenho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icken coop heats greenho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icken pecking clears land for crop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nure fertilizes soi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eathers used as mulc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youtube.com/watch?v=q7JgenD4fdw&amp;feature=rela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105520" y="1506600"/>
            <a:ext cx="356544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quapon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youtube.com/watch?v=vLsV_7wJlVE&amp;feature=rela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c Agricul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griculture that relies on crop rotation, green manure, compost, biological pest control, and mechanical cultivation to maintain soil productivity and control pe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ynthetic fertilizers, synthetic pesticides, livestock feed additives, and genetically modified organisms are NOT allow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c Agriculture in Europ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3608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c Agriculture in The U.S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U.S. certified organic acreage and operations, 2005"/>
          <p:cNvPicPr/>
          <p:nvPr/>
        </p:nvPicPr>
        <p:blipFill>
          <a:blip r:embed="rId1"/>
          <a:stretch/>
        </p:blipFill>
        <p:spPr>
          <a:xfrm>
            <a:off x="762120" y="1371600"/>
            <a:ext cx="7619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ational Organic Progr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USDA National Organic Program certifies farms as organi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redited agencies inspect farms to insure they are in compliance with National Organic Standa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penalty of up to $11,000 can be charged for mis-labeled fo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1981080"/>
            <a:ext cx="28432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c Farming 10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become an organic farm a farmer must transition the land for 3 yea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sent an organic system plan with records of: all farm practices, products used, how co-mingling of organic and non-organic products or non-approved substances is avoid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inspections and unannounced inspe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ndom sampling of products for evidence of unauthorized substa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c Soil Manag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althy soil is at the center of organic agricult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rmers use crop rotation to maintain soil health, manage weeds and pe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rmers can use compost, manure, minerals such as rock phosphate to fertilize the soi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ley cropping, intercropping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reen man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24280" y="1219320"/>
            <a:ext cx="4038840" cy="2158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419720" y="3505320"/>
            <a:ext cx="442440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c Weed manag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nd wee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ul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rn gluten me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ineg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ame wee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ops such as ry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Rice husk can be used as a mulch."/>
          <p:cNvPicPr/>
          <p:nvPr/>
        </p:nvPicPr>
        <p:blipFill>
          <a:blip r:embed="rId3"/>
          <a:stretch/>
        </p:blipFill>
        <p:spPr>
          <a:xfrm>
            <a:off x="4876920" y="12193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800600" y="3886200"/>
            <a:ext cx="3897360" cy="2971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762120" y="4419720"/>
            <a:ext cx="2970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c Pest Manag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ocontrol – using natural predators to control pests ex. Ladybugs, spi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w cov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op ro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ic approved pesticides ex. Surround, garlic, neem, BT, pyrethru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029200" y="1219320"/>
            <a:ext cx="3546360" cy="2658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5334120" y="3733920"/>
            <a:ext cx="2989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9T12:05:05Z</dcterms:created>
  <dc:creator>Owner</dc:creator>
  <dc:description/>
  <dc:language>en-US</dc:language>
  <cp:lastModifiedBy>L-Net</cp:lastModifiedBy>
  <dcterms:modified xsi:type="dcterms:W3CDTF">2010-05-25T12:04:03Z</dcterms:modified>
  <cp:revision>23</cp:revision>
  <dc:subject/>
  <dc:title>Alternative agricultural systems</dc:title>
</cp:coreProperties>
</file>