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2533-9E7E-451F-8952-9173CE98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7713-C913-4B53-8321-5397807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49C2-2F34-473B-BB4A-0274D299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52BC-AF89-43C6-BB09-CB75075B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5034-E26D-4496-A9B8-A1E2D197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6EE8-3FBB-4F28-A86E-590DE3B3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DD96-AD04-4A80-858C-6338AD8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1FCB-6BA5-452E-B7FB-147935D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1F5-91CE-4DA7-92E3-C194DBD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4FAB-012C-48B4-8403-FE253125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196-8ECE-47E3-84E2-4977885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0E5B-D5BF-4637-A013-6179378B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B463-C85E-4121-B910-058A2A2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80B9-0F59-4626-9CEF-CE63B79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37B5-8981-4F15-B90A-D21DE54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1573-0E23-4961-B490-6061404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0D99-2582-410A-90BC-988AC828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49D4-AC1B-4B56-822A-D57E40FC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6EE0-FB64-425B-BA3D-BFC09F27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F201-DA8D-4F82-BFD1-C1266ED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9295-A3A0-4A72-B92F-EE3CF33B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56A2-219D-4B74-9CA5-C34197C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A765-0EF6-495F-A527-FCB5CE7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B19B-C63D-429B-8DFB-A7A93184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7A15-48E9-49C7-9D93-B175489171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101-0387-48E0-BD87-AC6400788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7JgenD4fdw&amp;feature=relate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sV_7wJlVE&amp;feature=relat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ine.gov/agriculture/pi/images/nationalorganicseal.jpg&amp;imgrefurl=http://www.maine.gov/agriculture/pi/organicprogram/index.htm&amp;usg=__zze2FmtUdNPTm2LlKYzJzpRf1HA=&amp;h=436&amp;w=436&amp;sz=22&amp;hl=en&amp;start=2&amp;um=1&amp;tbnid=oj4bUOEzwq2b8M:&amp;tbnh=126&amp;tbnw=126&amp;prev=/images%3Fq%3Dnational%2Borganic%2Bstandards%26hl%3Den%26rls%3Dcom.microsoft:en-us:IE-SearchBox%26rlz%3D1I7GFRC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lternative agricultural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50468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es organic food cost mor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ing involves more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on pesticides means more 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st and manure are bulkier than synthetic fertilizers so cost more to 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 means you can’t grow your highest value crop every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exceeds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ers do not receive the same subsi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can you buy Organ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grocery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food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ty Supported Agriculture (CS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nership between farmer and consu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 takes on some of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sks of far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ers receive a weekly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locally grown organ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4038480" cy="3405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8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oecology (Miguel Altier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of ecology to the design and management of sustainable agroeco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newable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use of materials that harm the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rve soil, water,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 ecological relationships – enhance beneficial insect populations, recycle nutri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ersify – crops and livest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iodynamic Farm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Rudolph Steine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c farming with a spiritual world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s the farm as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ies of herbal and mineral preparations ex fill cow horn with manure and bury it in the 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s an astronomical calendar ex. Planting according to phases of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767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(Bill Mollis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a design system for creating sustainable human environme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people to feed themselves sustainably, they need to move away from industrialized agricult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farms use technology powered by fossil fuels and each farm specializes in producing high yields of a single cro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built upon an ethic of caring for the earth and interacting with the environment in mutually beneficial way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re of permaculture is design and the working relationships and connections between all thing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component in a system performs multiple functions, and each function is supported by many eleme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ample: Chicken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coop heats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pecking clears land for cr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ure fertilizes s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athers used as mul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q7JgenD4fdw&amp;feature=re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1506600"/>
            <a:ext cx="356544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quap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vLsV_7wJlVE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riculture that relies on crop rotation, green manure, compost, biological pest control, and mechanical cultivation to maintain soil productivity and control p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fertilizers, synthetic pesticides, livestock feed additives, and genetically modified organisms are NOT allow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Europ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36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The U.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U.S. certified organic acreage and operations, 2005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ional Organic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SDA National Organic Program certifies farms as organ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redited agencies inspect farms to insure they are in compliance with National Organic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enalty of up to $11,000 can be charged for mis-labeled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810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Farming 1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become an organic farm a farmer must transition the land for 3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an organic system plan with records of: all farm practices, products used, how co-mingling of organic and non-organic products or non-approved substances is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inspections and unannounced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ing of products for evidence of unauthorized subst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Soil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y soil is at the center of organic 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use crop rotation to maintain soil health, manage weeds and p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can use compost, manure, minerals such as rock phosphate to fertilize the so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ey cropping, intercropping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en man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424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Weed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n gluten me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me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s such as ry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ice husk can be used as a mulch."/>
          <p:cNvPicPr/>
          <p:nvPr/>
        </p:nvPicPr>
        <p:blipFill>
          <a:blip r:embed="rId3"/>
          <a:stretch/>
        </p:blipFill>
        <p:spPr>
          <a:xfrm>
            <a:off x="4876920" y="1219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8973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97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Pest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control – using natural predators to control pests ex. Ladybugs, sp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co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approved pesticides ex. Surround, garlic, neem, BT, pyrethr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546360" cy="26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2989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2:05:05Z</dcterms:created>
  <dc:creator>Owner</dc:creator>
  <dc:description/>
  <dc:language>en-US</dc:language>
  <cp:lastModifiedBy>L-Net</cp:lastModifiedBy>
  <dcterms:modified xsi:type="dcterms:W3CDTF">2010-05-25T12:04:03Z</dcterms:modified>
  <cp:revision>23</cp:revision>
  <dc:subject/>
  <dc:title>Alternative agricultural systems</dc:title>
</cp:coreProperties>
</file>