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68E7-1629-49EE-8B44-5ECFD69D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09FB-4600-414B-BE47-C44A9E00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9206-606E-4B37-A08B-F21FE870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F86A-92AE-418A-A978-EE6D6EC4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30BD-36A6-4AEE-BB43-2A40CCB7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D7BB-BDE8-4AF5-9DB0-5697F17D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3855-3981-4C5A-9C2D-A39FDD7E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D79D-38E2-437E-AF93-EF929D7B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5B77-B699-4D4A-B457-41523B2F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E708-0EF8-4562-9A02-B2342DE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DB6A-026B-4D62-B098-175ED74E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2839-E40D-4D27-9AD3-88E21B45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2BB2-EA0D-4D17-B6F9-ACE5168F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B125-8A5C-467F-8CFB-47E124E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DA86-DEF6-4A71-AACD-67FD382C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1925-C345-455C-906B-DA9BF764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C6D6-17AE-403D-884C-1B412F39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4654-6BDA-461D-A572-4BA27E00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A322-94A6-448B-A0EF-474A7501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8DA7-4539-4709-AF0E-1CEF3BC8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4048-A88A-461C-82C8-5AE595E1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C4E0-B688-4543-9DE6-B41DD6A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C0AB-D1AF-43CD-BBC6-5FFA22D2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E8156-0255-4842-B83C-AD840573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DF13-FEE6-481D-A2FE-BD073E385E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E63B-4FE1-4E72-A488-BB885AAFBA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7JgenD4fdw&amp;feature=related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sV_7wJlVE&amp;feature=relate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ine.gov/agriculture/pi/images/nationalorganicseal.jpg&amp;imgrefurl=http://www.maine.gov/agriculture/pi/organicprogram/index.htm&amp;usg=__zze2FmtUdNPTm2LlKYzJzpRf1HA=&amp;h=436&amp;w=436&amp;sz=22&amp;hl=en&amp;start=2&amp;um=1&amp;tbnid=oj4bUOEzwq2b8M:&amp;tbnh=126&amp;tbnw=126&amp;prev=/images%3Fq%3Dnational%2Borganic%2Bstandards%26hl%3Den%26rls%3Dcom.microsoft:en-us:IE-SearchBox%26rlz%3D1I7GFRC%26sa%3D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lternative agricultural syst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50468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does organic food cost mor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ing involves more r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mits on pesticides means more 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st and manure are bulkier than synthetic fertilizers so cost more to trans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 means you can’t grow your highest value crop every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exceeds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tification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farmers do not receive the same subsid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re can you buy Organic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grocery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food st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ty Supported Agriculture (CS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artnership between farmer and consu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 takes on some of t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sks of far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bers receive a weekly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locally grown organ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du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4038480" cy="3405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8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oecology (Miguel Altier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of ecology to the design and management of sustainable agroeco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newable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the use of materials that harm the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erve soil, water,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e ecological relationships – enhance beneficial insect populations, recycle nutri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ersify – crops and livesto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iodynamic Farming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Rudolph Steine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ganic farming with a spiritual world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s the farm as an organ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ies of herbal and mineral preparations ex fill cow horn with manure and bury it in the g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s an astronomical calendar ex. Planting according to phases of the mo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7672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(Bill Molliso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a design system for creating sustainable human environme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people to feed themselves sustainably, they need to move away from industrialized agricult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farms use technology powered by fossil fuels and each farm specializes in producing high yields of a single cro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maculture is built upon an ethic of caring for the earth and interacting with the environment in mutually beneficial way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maculture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ore of permaculture is design and the working relationships and connections between all thing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ach component in a system performs multiple functions, and each function is supported by many elemen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ample: Chicken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coop heats greenho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cken pecking clears land for cro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ure fertilizes so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athers used as mul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q7JgenD4fdw&amp;feature=re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105520" y="1506600"/>
            <a:ext cx="356544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quapon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vLsV_7wJlVE&amp;feature=rel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riculture that relies on crop rotation, green manure, compost, biological pest control, and mechanical cultivation to maintain soil productivity and control p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fertilizers, synthetic pesticides, livestock feed additives, and genetically modified organisms are NOT allow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Europ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360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Agriculture in The U.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U.S. certified organic acreage and operations, 2005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tional Organic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SDA National Organic Program certifies farms as organ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redited agencies inspect farms to insure they are in compliance with National Organic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enalty of up to $11,000 can be charged for mis-labeled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8108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Farming 10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become an organic farm a farmer must transition the land for 3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 an organic system plan with records of: all farm practices, products used, how co-mingling of organic and non-organic products or non-approved substances is avoi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inspections and unannounced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om sampling of products for evidence of unauthorized substa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Soil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y soil is at the center of organic agricul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use crop rotation to maintain soil health, manage weeds and p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 can use compost, manure, minerals such as rock phosphate to fertilize the so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ey cropping, intercropping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een man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03884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44244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Weed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n gluten me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ame w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s such as ry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ice husk can be used as a mulch."/>
          <p:cNvPicPr/>
          <p:nvPr/>
        </p:nvPicPr>
        <p:blipFill>
          <a:blip r:embed="rId3"/>
          <a:stretch/>
        </p:blipFill>
        <p:spPr>
          <a:xfrm>
            <a:off x="4876920" y="1219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89736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297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Pest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control – using natural predators to control pests ex. Ladybugs, spi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co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p ro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approved pesticides ex. Surround, garlic, neem, BT, pyrethr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3546360" cy="265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2989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2:05:05Z</dcterms:created>
  <dc:creator>Owner</dc:creator>
  <dc:description/>
  <dc:language>en-US</dc:language>
  <cp:lastModifiedBy>L-Net</cp:lastModifiedBy>
  <dcterms:modified xsi:type="dcterms:W3CDTF">2010-05-25T12:04:03Z</dcterms:modified>
  <cp:revision>23</cp:revision>
  <dc:subject/>
  <dc:title>Alternative agricultural systems</dc:title>
</cp:coreProperties>
</file>