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8729-10B6-4B2C-8D89-A4AB157B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FEF9-4F5E-4D6F-BA3D-5601E8FD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1114-952B-4C8A-AED2-DD2C7637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5301-4D5E-4530-A9C7-D430A5ED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31E7-FF56-4B91-A180-C42E5CDC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4D8D-1DE1-4238-8C54-4188F74B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3219-3C89-4E49-9AA3-2DCB19B5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7BA4-4BBE-400D-8621-85414369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6137-C414-4D77-8EEA-2BB05B78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B11F-B846-4FB9-A74A-938E9A34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28B7-599C-44F0-9B0F-037E1C45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705E-1214-4E67-BF73-8ACFCA5C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7DDB-2F43-4C0E-97A4-EEDABFAA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B5FD-E25F-4F30-8EF4-51B74C05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FE22-C630-4537-9CA0-26825AF8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F560-F5F0-4464-892C-180E8CBA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480F-3933-4772-9D52-796AACF7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2E0C-682F-4481-9B44-E89426B9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FF87-F05A-4FA4-858D-D31AC849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A421-4548-4A48-9AE1-F4C1370D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4D74-8569-49E7-ABA0-BCBBF604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5951-08EE-4C00-8486-C131CF6F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0BDE-9488-478A-ABCD-6A8BDA1C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141C-47AB-4C5E-9C70-32FBAA26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E35A-13C8-4869-A42E-0664CC9434D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E910-58D6-4340-80F4-096AAE091A8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qbEHP3RzUE&amp;feature=PlayList&amp;p=B1303796BB470740&amp;index=0" TargetMode="External"/><Relationship Id="rId2" Type="http://schemas.openxmlformats.org/officeDocument/2006/relationships/hyperlink" Target="http://www.youtube.com/watch?v=4d6XZspJiUw&amp;feature=PlayList&amp;p=B1303796BB470740&amp;index=1" TargetMode="External"/><Relationship Id="rId3" Type="http://schemas.openxmlformats.org/officeDocument/2006/relationships/hyperlink" Target="http://www.youtube.com/watch?v=bmUse7HzGZw&amp;feature=PlayList&amp;p=B1303796BB470740&amp;index=2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Animal Welfare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ompassion in World Farmin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The leading farm animal welfare charity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Verdana"/>
              </a:rPr>
              <a:t>COMPASSION IN WORLD FARMING WAS FOUNDED OVER 40 YEARS AGO IN 1967 BY A BRITISH FARMER WHO BECAME HORRIFIED BY THE DEVELOPMENT OF MODERN, INTENSIVE FACTORY FARMING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arm animals and us part 1-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youtube.com/watch?v=QqbEHP3RzUE&amp;feature=PlayList&amp;p=B1303796BB470740&amp;index=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www.youtube.com/watch?v=4d6XZspJiUw&amp;feature=PlayList&amp;p=B1303796BB470740&amp;index=1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http://www.youtube.com/watch?v=bmUse7HzGZw&amp;feature=PlayList&amp;p=B1303796BB470740&amp;index=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18:32:34Z</dcterms:created>
  <dc:creator>Owner</dc:creator>
  <dc:description/>
  <dc:language>en-US</dc:language>
  <cp:lastModifiedBy>Owner</cp:lastModifiedBy>
  <dcterms:modified xsi:type="dcterms:W3CDTF">2009-05-02T18:33:06Z</dcterms:modified>
  <cp:revision>1</cp:revision>
  <dc:subject/>
  <dc:title>Animal Welfare</dc:title>
</cp:coreProperties>
</file>