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C22-E9C9-46CF-B78A-515CF13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900-BFA4-4F61-BCED-E086484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A87-9EBD-461E-A8C9-CBBD7229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64C-0F89-4CC9-B701-6C3D2A0D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5577-5EF8-442A-8F34-5349213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B60F-ECE9-4DAE-B0F4-AE9D471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270-C37B-4D1D-9A2B-35F9377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D12D-4F2E-4F42-94CC-ED87DEE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757-DCF8-4D0E-8068-9E795A4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F356-184F-4BB8-A756-3EAD269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0546-F473-4A0D-8EDB-7157EF0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CD5-EC87-430B-8300-B1F4C93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34F0-E0B6-4A69-86BD-BB9A4E8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24D-4C83-4756-9395-F311580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A3A9-36A1-4DD1-9F62-571F30B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E136-4204-454B-952A-D2A36B6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35BA-029F-4628-AB7A-002BBA37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C25-FD9B-4920-9AA2-FEEE3A5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395-D5D4-4778-A665-CF9F583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157-0B4B-40E8-9048-FFC7757B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961-0480-4697-BEDE-01A79F3E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9D0-49D8-4698-998A-33DC0D8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C35-D30C-4AF2-BEDF-8B1CBD6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9A0-D229-4D85-8DF7-2FACED1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4FC0-ADD1-4373-9917-95BC436D2B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37C-2330-41E3-9380-6DEEC7911D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bEHP3RzUE&amp;feature=PlayList&amp;p=B1303796BB470740&amp;index=0" TargetMode="External"/><Relationship Id="rId2" Type="http://schemas.openxmlformats.org/officeDocument/2006/relationships/hyperlink" Target="http://www.youtube.com/watch?v=4d6XZspJiUw&amp;feature=PlayList&amp;p=B1303796BB470740&amp;index=1" TargetMode="External"/><Relationship Id="rId3" Type="http://schemas.openxmlformats.org/officeDocument/2006/relationships/hyperlink" Target="http://www.youtube.com/watch?v=bmUse7HzGZw&amp;feature=PlayList&amp;p=B1303796BB470740&amp;index=2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nimal Welfar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assion in World Farm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leading farm animal welfare char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COMPASSION IN WORLD FARMING WAS FOUNDED OVER 40 YEARS AGO IN 1967 BY A BRITISH FARMER WHO BECAME HORRIFIED BY THE DEVELOPMENT OF MODERN, INTENSIVE FACTORY FARMING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 animals and us part 1-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QqbEHP3RzUE&amp;feature=PlayList&amp;p=B1303796BB470740&amp;index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youtube.com/watch?v=4d6XZspJiUw&amp;feature=PlayList&amp;p=B1303796BB470740&amp;index=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www.youtube.com/watch?v=bmUse7HzGZw&amp;feature=PlayList&amp;p=B1303796BB470740&amp;index=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32:34Z</dcterms:created>
  <dc:creator>Owner</dc:creator>
  <dc:description/>
  <dc:language>en-US</dc:language>
  <cp:lastModifiedBy>Owner</cp:lastModifiedBy>
  <dcterms:modified xsi:type="dcterms:W3CDTF">2009-05-02T18:33:06Z</dcterms:modified>
  <cp:revision>1</cp:revision>
  <dc:subject/>
  <dc:title>Animal Welfare</dc:title>
</cp:coreProperties>
</file>