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7284-D97D-4B71-8176-6D1BE18D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6061-33DE-46EB-9146-3E31155F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32C4-3A5E-47DC-BE38-3D3CE073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A2D7-ADB5-48C1-8AE8-7D45E9A3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CC7E-D613-4FA6-9501-99F63714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24B3-8AB3-481E-B698-D76B1FE2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ACD6-F21C-45A6-AB20-EC833F6B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182D-464F-4ACE-A4C6-205D62BA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1D58-52FA-460B-ACB6-3290DC9A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0F7E-8A2F-4BA7-8C03-B857F615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B388-6E99-4A73-AA6B-CAC1CF8F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3FD-117D-4306-8BA6-808C2D11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98FC-88BA-4FCD-A3A2-58B0AC1F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12CF-AFBE-46BF-A812-84C7E7F2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6100-A351-4123-B6F9-D589D4D7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2125-2D63-4B6B-833A-D4D86431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C27C-AF5B-45C1-A0C1-C26BCE07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CC3B-9E68-4EF5-968A-B13C3966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C38D-1CE0-49CE-8A9B-8783273D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2145-EB1B-4777-9C74-FC0764C5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57CF-64C3-49AE-B37A-08FB0162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BD3-B553-43D1-ABE0-1FE588AA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1D50-0258-4155-B8D5-1016AE7A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6A50-49E1-4D45-81E6-E9F5D6ED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179C-378E-451B-8043-8F2E7662520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BDEB-737F-4FFA-9455-C34DAF0F876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qbEHP3RzUE&amp;feature=PlayList&amp;p=B1303796BB470740&amp;index=0" TargetMode="External"/><Relationship Id="rId2" Type="http://schemas.openxmlformats.org/officeDocument/2006/relationships/hyperlink" Target="http://www.youtube.com/watch?v=4d6XZspJiUw&amp;feature=PlayList&amp;p=B1303796BB470740&amp;index=1" TargetMode="External"/><Relationship Id="rId3" Type="http://schemas.openxmlformats.org/officeDocument/2006/relationships/hyperlink" Target="http://www.youtube.com/watch?v=bmUse7HzGZw&amp;feature=PlayList&amp;p=B1303796BB470740&amp;index=2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Animal Welfar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ompassion in World Farmin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The leading farm animal welfare charity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Verdana"/>
              </a:rPr>
              <a:t>COMPASSION IN WORLD FARMING WAS FOUNDED OVER 40 YEARS AGO IN 1967 BY A BRITISH FARMER WHO BECAME HORRIFIED BY THE DEVELOPMENT OF MODERN, INTENSIVE FACTORY FARMING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arm animals and us part 1-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youtube.com/watch?v=QqbEHP3RzUE&amp;feature=PlayList&amp;p=B1303796BB470740&amp;index=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www.youtube.com/watch?v=4d6XZspJiUw&amp;feature=PlayList&amp;p=B1303796BB470740&amp;index=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http://www.youtube.com/watch?v=bmUse7HzGZw&amp;feature=PlayList&amp;p=B1303796BB470740&amp;index=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18:32:34Z</dcterms:created>
  <dc:creator>Owner</dc:creator>
  <dc:description/>
  <dc:language>en-US</dc:language>
  <cp:lastModifiedBy>Owner</cp:lastModifiedBy>
  <dcterms:modified xsi:type="dcterms:W3CDTF">2009-05-02T18:33:06Z</dcterms:modified>
  <cp:revision>1</cp:revision>
  <dc:subject/>
  <dc:title>Animal Welfare</dc:title>
</cp:coreProperties>
</file>