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DCD5-FC53-4D65-9C1C-64BC4A827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2098-8A55-4096-B54E-E26AB29E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D0C4-2B30-40EF-BC1A-4DC88B55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E769-224B-479D-A70A-B0FAB23D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D7D5-4D85-4234-B552-BA8E81AA7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50C6-1BAD-4ACA-8A8A-D81BB069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A3DE-9A84-4AA9-902B-D527B2AC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6381-0E8B-46E5-B59C-644BB29F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F309-83E4-4483-9622-5E1D2B7F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D72C-B3AC-49ED-9D7C-A224DB62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32F9-1785-40A6-B345-3C4D3AC2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39D0-8853-4CBE-97C9-210F6B9A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55E8-F9C5-418C-A9E0-07BBE04D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EF2B-2325-4C96-B60A-542FE0EB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B1B2-DAF9-41D4-A212-3B113F6B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1B4C-4972-4FAA-AB2F-20A2FC11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5D64-2916-4180-8E1C-DF6850DF1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9FB5-3027-4088-B55C-77A40950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1615-456D-47A4-B3CE-2534E48A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9CE3-5E0D-4AAF-966C-7FF5A0F2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808E-5A42-41CD-90FB-EBC6E1D9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B8B6-EEF0-4219-8441-B34986E5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371A-1878-46F5-8130-A9FBB963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F9D5-D18D-4648-88F2-90592D12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F430-C2FB-4FCD-93BC-3EBE8A728C5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D5FC-6378-49D8-8D1E-BB2D0A6F416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qbEHP3RzUE&amp;feature=PlayList&amp;p=B1303796BB470740&amp;index=0" TargetMode="External"/><Relationship Id="rId2" Type="http://schemas.openxmlformats.org/officeDocument/2006/relationships/hyperlink" Target="http://www.youtube.com/watch?v=4d6XZspJiUw&amp;feature=PlayList&amp;p=B1303796BB470740&amp;index=1" TargetMode="External"/><Relationship Id="rId3" Type="http://schemas.openxmlformats.org/officeDocument/2006/relationships/hyperlink" Target="http://www.youtube.com/watch?v=bmUse7HzGZw&amp;feature=PlayList&amp;p=B1303796BB470740&amp;index=2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Animal Welfare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Compassion in World Farming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The leading farm animal welfare charity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Verdana"/>
              </a:rPr>
              <a:t>COMPASSION IN WORLD FARMING WAS FOUNDED OVER 40 YEARS AGO IN 1967 BY A BRITISH FARMER WHO BECAME HORRIFIED BY THE DEVELOPMENT OF MODERN, INTENSIVE FACTORY FARMING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arm animals and us part 1-3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www.youtube.com/watch?v=QqbEHP3RzUE&amp;feature=PlayList&amp;p=B1303796BB470740&amp;index=0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://www.youtube.com/watch?v=4d6XZspJiUw&amp;feature=PlayList&amp;p=B1303796BB470740&amp;index=1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http://www.youtube.com/watch?v=bmUse7HzGZw&amp;feature=PlayList&amp;p=B1303796BB470740&amp;index=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2T18:32:34Z</dcterms:created>
  <dc:creator>Owner</dc:creator>
  <dc:description/>
  <dc:language>en-US</dc:language>
  <cp:lastModifiedBy>Owner</cp:lastModifiedBy>
  <dcterms:modified xsi:type="dcterms:W3CDTF">2009-05-02T18:33:06Z</dcterms:modified>
  <cp:revision>1</cp:revision>
  <dc:subject/>
  <dc:title>Animal Welfare</dc:title>
</cp:coreProperties>
</file>