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2F9AA2C-1235-44EC-A786-55238709D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E472C72-A30A-4E96-A4AD-0F678E2AC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16B9E6C-8EB8-4DD9-987D-60D4F8199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6B1959A-0AAE-4B2C-9BE2-D31C0E082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09A78A-0EC1-40FD-BE61-3CCD8CF78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CA8F0-4FCA-42D6-A514-3E064989E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AF7AA-D7DE-4FD3-BE88-8DD39FA36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89FE1-CC38-4CD1-AD3D-528629347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E2DCB-7CAB-4480-8D3C-8975653C3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1518C-460F-43A7-AD9F-66CDF2312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D759F-937D-4595-AB92-F62C6AD15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4A30ACC-4B5E-49FC-8C29-D96923072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FEA4E-4ADA-4656-A45E-618BFF694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B169E-8012-43C6-B2FA-179A403F7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2217C-EC6F-4375-ADCC-27E6C6DAF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BC70FD-AF1D-4CBE-A445-F380DD64B5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ADB818-FD8E-4B30-AC24-D53F522B2E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841E6B3-0E3D-426D-8A1D-75424602D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33930CA-0AD6-439C-A322-10CCDBD4E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4F8827C-3710-4C72-B701-2C6780362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FBE3068-841A-44C6-BFB7-4A0D828FE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43EB15-3BCF-4511-B922-86C3515EC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5E23A8-4D98-4CE3-AF5A-384B10CAE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C2C131A-C19B-4036-A9D6-D61AA0961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726B1-455B-4E7D-AE5B-3E50D08EBEA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B21A-FFB1-4DF8-91BC-912D94907A9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hannel12.dmps.k12.ia.us/stories/classroomconnections/0708classconnect/cc-080421video.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should we save energy?</a:t>
            </a: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7238880" cy="452592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mericans now spend over $700 billion on energ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ergy demand is expected to climb 40% by 2025</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5% of US Carbon Emissions stem from electricity generation and us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eenhouse gas emissions are expected to climb as much as 60% by 2025</a:t>
            </a:r>
            <a:endParaRPr b="0" lang="en-US" sz="32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1" name="" descr=""/>
          <p:cNvPicPr/>
          <p:nvPr/>
        </p:nvPicPr>
        <p:blipFill>
          <a:blip r:embed="rId1"/>
          <a:stretch/>
        </p:blipFill>
        <p:spPr>
          <a:xfrm>
            <a:off x="7736040" y="0"/>
            <a:ext cx="1407960" cy="686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will be away for 15 minutes or more: turn off your monitor (while leaving the CPU on)</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r monitor uses the most energy, switching if off when not in use will cut your energy use.</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CPU will continue to use energy but this is a good compromise. </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urning off a computer monitor @ night and on weekends can save more than $50.00 per year. </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mmary</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urn off monitor between use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compact fluorescent bulbs in lamp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natural lighting from windows to replace or supplement electric lighting.</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 on alert for machines or equipment that shouldn’t be left running.</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ut computer down (CPU and Monitor) and other appliances at night</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ttp://channel12.dmps.k12.ia.us/stories/classroomconnections/0708classconnect/cc-080421video.html</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 What can we do?</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4" name="" descr=""/>
          <p:cNvPicPr/>
          <p:nvPr/>
        </p:nvPicPr>
        <p:blipFill>
          <a:blip r:embed="rId1"/>
          <a:stretch/>
        </p:blipFill>
        <p:spPr>
          <a:xfrm>
            <a:off x="2362320" y="1371600"/>
            <a:ext cx="4680000" cy="508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e your Blinds</a:t>
            </a:r>
            <a:endParaRPr b="1" lang="en-US" sz="4400" spc="-1" strike="noStrike">
              <a:solidFill>
                <a:srgbClr val="e5e5ff"/>
              </a:solidFill>
              <a:latin typeface="Garamond"/>
            </a:endParaRPr>
          </a:p>
        </p:txBody>
      </p:sp>
      <p:sp>
        <p:nvSpPr>
          <p:cNvPr id="106" name="PlaceHolder 2"/>
          <p:cNvSpPr>
            <a:spLocks noGrp="1"/>
          </p:cNvSpPr>
          <p:nvPr>
            <p:ph/>
          </p:nvPr>
        </p:nvSpPr>
        <p:spPr>
          <a:xfrm>
            <a:off x="228600" y="1371240"/>
            <a:ext cx="4038480" cy="53341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 cold days, turn window blinds downward</a:t>
            </a:r>
            <a:r>
              <a:rPr b="0" lang="en-US" sz="2400" spc="-1" strike="noStrike">
                <a:solidFill>
                  <a:srgbClr val="ffffff"/>
                </a:solidFill>
                <a:latin typeface="Garamond"/>
              </a:rPr>
              <a:t>.</a:t>
            </a: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Use the winter sun for both lighting and heating. </a:t>
            </a: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 cold nights, turn blinds upward </a:t>
            </a:r>
            <a:r>
              <a:rPr b="0" lang="en-US" sz="2400" spc="-1" strike="noStrike">
                <a:solidFill>
                  <a:srgbClr val="ffffff"/>
                </a:solidFill>
                <a:latin typeface="Garamond"/>
              </a:rPr>
              <a:t>before you leave. </a:t>
            </a: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d air will be trapped next to the window and warm air will remain in the room.</a:t>
            </a: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107"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8" name="" descr="The Finished Animation"/>
          <p:cNvPicPr/>
          <p:nvPr/>
        </p:nvPicPr>
        <p:blipFill>
          <a:blip r:embed="rId1"/>
          <a:stretch/>
        </p:blipFill>
        <p:spPr>
          <a:xfrm>
            <a:off x="4572000" y="2362320"/>
            <a:ext cx="4278240" cy="330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ghting</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ording to the United States Environmental Protection Agency (EPA), 25 to 30 percent of a building’s energy use goes toward building lighting.</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p the switch!</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1" name="" descr=""/>
          <p:cNvPicPr/>
          <p:nvPr/>
        </p:nvPicPr>
        <p:blipFill>
          <a:blip r:embed="rId1"/>
          <a:stretch/>
        </p:blipFill>
        <p:spPr>
          <a:xfrm>
            <a:off x="4648320" y="1600200"/>
            <a:ext cx="4038480" cy="4525920"/>
          </a:xfrm>
          <a:prstGeom prst="rect">
            <a:avLst/>
          </a:prstGeom>
          <a:ln w="0">
            <a:noFill/>
          </a:ln>
        </p:spPr>
      </p:pic>
      <p:pic>
        <p:nvPicPr>
          <p:cNvPr id="112" name="" descr=""/>
          <p:cNvPicPr/>
          <p:nvPr/>
        </p:nvPicPr>
        <p:blipFill>
          <a:blip r:embed="rId2"/>
          <a:stretch/>
        </p:blipFill>
        <p:spPr>
          <a:xfrm>
            <a:off x="5257800" y="2057400"/>
            <a:ext cx="3244680" cy="337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t all adds up!</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typical school classroom has 14-2 lamp light fixture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he lights in this classroom are left on for an extra 2 hour per day; the added cost is approximately $18.00 per year.</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gh School average 60 classrooms= $1,080.00 per year</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trict Wide: Over $15,000 of added cost or potential savings</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CFL’s?</a:t>
            </a:r>
            <a:endParaRPr b="1" lang="en-US" sz="4400" spc="-1" strike="noStrike">
              <a:solidFill>
                <a:srgbClr val="e5e5ff"/>
              </a:solidFill>
              <a:latin typeface="Garamond"/>
            </a:endParaRPr>
          </a:p>
        </p:txBody>
      </p:sp>
      <p:sp>
        <p:nvSpPr>
          <p:cNvPr id="116" name="PlaceHolder 2"/>
          <p:cNvSpPr>
            <a:spLocks noGrp="1"/>
          </p:cNvSpPr>
          <p:nvPr>
            <p:ph/>
          </p:nvPr>
        </p:nvSpPr>
        <p:spPr>
          <a:xfrm>
            <a:off x="151920" y="1294920"/>
            <a:ext cx="4343400" cy="5257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FLs use 66% less energy than a standard incandescent bulb </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st up to 10 times longer. </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placing a 100-watt incandescent with a 32-watt CFL can save you at least $30 in energy costs over the life of the bulb.</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every household in the U.S. replaced one light bulb with an ENERGY STAR qualified compact fluorescent light bulb (CFL), it would prevent enough pollution to equal removing one million cars from the road.</a:t>
            </a:r>
            <a:endParaRPr b="0" lang="en-US" sz="2400" spc="-1" strike="noStrike">
              <a:solidFill>
                <a:srgbClr val="ffffff"/>
              </a:solidFill>
              <a:latin typeface="Garamond"/>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7" name="" descr=""/>
          <p:cNvPicPr/>
          <p:nvPr/>
        </p:nvPicPr>
        <p:blipFill>
          <a:blip r:embed="rId1"/>
          <a:stretch/>
        </p:blipFill>
        <p:spPr>
          <a:xfrm>
            <a:off x="4952880" y="2514600"/>
            <a:ext cx="4038840" cy="265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eating your home</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For each degree you lower the temperature in your home or at work, you can cut your winter heating bills by 4%,depending on how many hours a day you turn down the he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ENERGY STAR programmable thermostat can make this eas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ergy Vampir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the U.S. alone, the amount of energy consumed by home electronics when </a:t>
            </a:r>
            <a:r>
              <a:rPr b="1" lang="en-US" sz="2800" spc="-1" strike="noStrike">
                <a:solidFill>
                  <a:srgbClr val="ffffff"/>
                </a:solidFill>
                <a:latin typeface="Garamond"/>
              </a:rPr>
              <a:t>not </a:t>
            </a:r>
            <a:r>
              <a:rPr b="0" lang="en-US" sz="2800" spc="-1" strike="noStrike">
                <a:solidFill>
                  <a:srgbClr val="ffffff"/>
                </a:solidFill>
                <a:latin typeface="Garamond"/>
              </a:rPr>
              <a:t>in use equals the annual output of </a:t>
            </a:r>
            <a:r>
              <a:rPr b="1" lang="en-US" sz="2800" spc="-1" strike="noStrike">
                <a:solidFill>
                  <a:srgbClr val="ffffff"/>
                </a:solidFill>
                <a:latin typeface="Garamond"/>
              </a:rPr>
              <a:t>SIX </a:t>
            </a:r>
            <a:r>
              <a:rPr b="0" lang="en-US" sz="2800" spc="-1" strike="noStrike">
                <a:solidFill>
                  <a:srgbClr val="ffffff"/>
                </a:solidFill>
                <a:latin typeface="Garamond"/>
              </a:rPr>
              <a:t>power plants.</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2" name="" descr=""/>
          <p:cNvPicPr/>
          <p:nvPr/>
        </p:nvPicPr>
        <p:blipFill>
          <a:blip r:embed="rId1"/>
          <a:stretch/>
        </p:blipFill>
        <p:spPr>
          <a:xfrm>
            <a:off x="4648320" y="1600200"/>
            <a:ext cx="4038480" cy="4525920"/>
          </a:xfrm>
          <a:prstGeom prst="rect">
            <a:avLst/>
          </a:prstGeom>
          <a:ln w="0">
            <a:noFill/>
          </a:ln>
        </p:spPr>
      </p:pic>
      <p:pic>
        <p:nvPicPr>
          <p:cNvPr id="123" name="" descr=""/>
          <p:cNvPicPr/>
          <p:nvPr/>
        </p:nvPicPr>
        <p:blipFill>
          <a:blip r:embed="rId2"/>
          <a:stretch/>
        </p:blipFill>
        <p:spPr>
          <a:xfrm>
            <a:off x="4572000" y="1828800"/>
            <a:ext cx="4268880" cy="426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urn off your computer</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ven screen savers that make the screen go blank don’t significantly lower energy use. </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best way to save your screen and save energy at the same time is to </a:t>
            </a:r>
            <a:r>
              <a:rPr b="1" lang="en-US" sz="3200" spc="-1" strike="noStrike">
                <a:solidFill>
                  <a:srgbClr val="ffffff"/>
                </a:solidFill>
                <a:latin typeface="Garamond"/>
              </a:rPr>
              <a:t>turn off</a:t>
            </a:r>
            <a:r>
              <a:rPr b="0" lang="en-US" sz="3200" spc="-1" strike="noStrike">
                <a:solidFill>
                  <a:srgbClr val="ffffff"/>
                </a:solidFill>
                <a:latin typeface="Garamond"/>
              </a:rPr>
              <a:t> your computer when you are not using it. </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will be away for 30 minutes or more, turn everything off –the monitor and the CPU. </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8T21:26:42Z</dcterms:created>
  <dc:creator>Owner</dc:creator>
  <dc:description/>
  <dc:language>en-US</dc:language>
  <cp:lastModifiedBy>L-Net</cp:lastModifiedBy>
  <dcterms:modified xsi:type="dcterms:W3CDTF">2009-03-04T21:34:54Z</dcterms:modified>
  <cp:revision>19</cp:revision>
  <dc:subject/>
  <dc:title>Sunlight can be a benefit to our district’s energy consumption.How you operate your window blinds can help retain building temperatures.On cold days, turn window blinds downward.This will allow you to use the winter sun for both lighting and heating. If the sun’s rays can shine into your room, the amount of energy needed for heating can be reduced.On cold nights, turn blinds upwardbefore you leave.Since cold air falls and warm air rises, cold air will be trapped next to the window and warm air will remain in the room. </dc:title>
</cp:coreProperties>
</file>