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552-A6F7-4321-BA62-ADBB218D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504-EFF3-4AEF-945D-389379F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472-D529-4289-BDB6-06E073C8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F44-E45F-4D06-A609-9D7B3FB4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0EA-FB6B-47A2-8763-B6C626D7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37B-C63F-45E4-9189-BBB6BD9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35D-8A68-4BB6-B26B-94517DA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71E-1925-48DF-9ACA-4376C24B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E7D-3CEC-4EE3-866C-3CF5084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45F-F0CB-4E86-9E8F-B920C0B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8E2-59EC-48D2-AEA8-114F2E8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9BD-4CB7-4AF7-98A3-A7E9A1F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1E7A-BA96-499D-8CEB-26EB282B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ciSp5X40t0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lThSXKb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of the air in our homes and school may be worse than the air outs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424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are consistently higher indoors (up to ten times higher) than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 and lacqu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strip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su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materials and furnis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copiers and prin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 flu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less copy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es and adhes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37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aces and poorly ventilated space heaters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ed wood (shelving) may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ally when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pores will always be present in air. Only become a problem where moisture allows mol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772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s a radioactive ga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es from the natural decay of uranium that is found in nearly all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ves up through the ground to the air above and into your home through cracks and other holes in the found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ome traps radon inside, where it can build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home may have a radon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n indoor air is estimated to cause about 21,000 lung cancer deaths each year in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recommends all homes be tested for 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include deteriorating, damaged, or disturbed insulation, fireproofing and floor 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angerous asbestos fibers are too small to be visible. After they are inhaled, they can remain and accumulate in the lu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os can cause lung cancer, mesothelioma (a cancer of the chest and abdominal linings), and asbestosis (irreversible lung scarring that can be fat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of these diseases do not show up until many years after exposure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Quality 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percent of the U.S. population spend their days in our elementary and secondary sch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990s 1 in 5 of our nation's schools reported unsatisfactory indoor 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4 schools reported ventilation as unsatis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t greater risk because of the hours spent in school facilities and because children are especially susceptible to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Air Quality in your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gciSp5X40t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Q School walk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bVlThSXKbv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34:03Z</dcterms:created>
  <dc:creator>Owner</dc:creator>
  <dc:description/>
  <dc:language>en-US</dc:language>
  <cp:lastModifiedBy>L-Net</cp:lastModifiedBy>
  <dcterms:modified xsi:type="dcterms:W3CDTF">2009-11-09T16:16:20Z</dcterms:modified>
  <cp:revision>9</cp:revision>
  <dc:subject/>
  <dc:title>Slide 1</dc:title>
</cp:coreProperties>
</file>