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FF6-74CD-47E5-B9D0-B8CD6036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79D-6794-48B2-9375-2B6C14A8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C2A-5170-48BF-BBA2-5EE6AB8F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3F5-D744-4D5C-8EB6-95F6A4CE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093-AD11-4B1C-BAD6-621BCA78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E8B-8B91-4A76-A9EC-3218FFB7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1FC-3F5E-447B-BF90-1DBA3CA7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46D-8611-44D5-8A06-DE4E5647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F46-2528-46B9-AD34-259AF4CB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202-476B-4C47-850A-8282F8B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94C-E330-4715-B957-BC7F4336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683-3909-4B3E-9F08-4150B1F8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F741-BF21-48C1-8544-ECF1630D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ciSp5X40t0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lThSXKb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ty of the air in our homes and school may be worse than the air outsi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4244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are consistently higher indoors (up to ten times higher) than outdo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 and lacqu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strip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supp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tic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materials and furnis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copiers and prin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on flu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less copy 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es and adhes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ma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537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naces and poorly ventilated space heaters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ed wood (shelving) may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dehy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ally when 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pores will always be present in air. Only become a problem where moisture allows mold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772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s a radioactive ga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es from the natural decay of uranium that is found in nearly all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ves up through the ground to the air above and into your home through cracks and other holes in the found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home traps radon inside, where it can build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home may have a radon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n indoor air is estimated to cause about 21,000 lung cancer deaths each year in the United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recommends all homes be tested for Ra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b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include deteriorating, damaged, or disturbed insulation, fireproofing and floor 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angerous asbestos fibers are too small to be visible. After they are inhaled, they can remain and accumulate in the lu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os can cause lung cancer, mesothelioma (a cancer of the chest and abdominal linings), and asbestosis (irreversible lung scarring that can be fata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of these diseases do not show up until many years after exposure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Quality at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 percent of the U.S. population spend their days in our elementary and secondary sch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d-1990s 1 in 5 of our nation's schools reported unsatisfactory indoor ai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 4 schools reported ventilation as unsatis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at greater risk because of the hours spent in school facilities and because children are especially susceptible to pollut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the Air Quality in your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gciSp5X40t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AQ School walk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bVlThSXKbv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4:34:03Z</dcterms:created>
  <dc:creator>Owner</dc:creator>
  <dc:description/>
  <dc:language>en-US</dc:language>
  <cp:lastModifiedBy>L-Net</cp:lastModifiedBy>
  <dcterms:modified xsi:type="dcterms:W3CDTF">2009-11-09T16:16:20Z</dcterms:modified>
  <cp:revision>9</cp:revision>
  <dc:subject/>
  <dc:title>Slide 1</dc:title>
</cp:coreProperties>
</file>