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200-19C7-4E8A-B4BC-6E9073A8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8E1-E6EC-48CF-B143-E87F0471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6E8-BEC5-44C7-8918-2AF983DD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D8E-18B8-438A-A73F-4F8E0610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465-1693-4756-ADEA-3A19F7A3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C2C-17E4-4B23-ACF4-DD573EBE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63E-D1AE-4369-A900-C3BBE7C2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14C-D979-46C8-8F8F-401DD95F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85F-9DD3-4550-862C-11E802F3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39E-839C-4F57-B5F8-BF887279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0A4-4290-4C40-9ACD-7CFC886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612-D53B-4A70-AA5A-3E078DB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7594-3D03-4A92-9DC8-D4348C73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ciSp5X40t0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lThSXKb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of the air in our homes and school may be worse than the air outs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424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are consistently higher indoors (up to ten times higher) than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 and lacqu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strip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su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materials and furnis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copiers and prin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 flu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less copy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es and adhes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37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aces and poorly ventilated space heaters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ed wood (shelving) may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ally when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pores will always be present in air. Only become a problem where moisture allows mol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772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s a radioactive ga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es from the natural decay of uranium that is found in nearly all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ves up through the ground to the air above and into your home through cracks and other holes in the found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ome traps radon inside, where it can build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home may have a radon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n indoor air is estimated to cause about 21,000 lung cancer deaths each year in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recommends all homes be tested for 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include deteriorating, damaged, or disturbed insulation, fireproofing and floor 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angerous asbestos fibers are too small to be visible. After they are inhaled, they can remain and accumulate in the lu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os can cause lung cancer, mesothelioma (a cancer of the chest and abdominal linings), and asbestosis (irreversible lung scarring that can be fat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of these diseases do not show up until many years after exposure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Quality 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percent of the U.S. population spend their days in our elementary and secondary sch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990s 1 in 5 of our nation's schools reported unsatisfactory indoor 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4 schools reported ventilation as unsatis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t greater risk because of the hours spent in school facilities and because children are especially susceptible to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Air Quality in your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gciSp5X40t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Q School walk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bVlThSXKbv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34:03Z</dcterms:created>
  <dc:creator>Owner</dc:creator>
  <dc:description/>
  <dc:language>en-US</dc:language>
  <cp:lastModifiedBy>L-Net</cp:lastModifiedBy>
  <dcterms:modified xsi:type="dcterms:W3CDTF">2009-11-09T16:16:20Z</dcterms:modified>
  <cp:revision>9</cp:revision>
  <dc:subject/>
  <dc:title>Slide 1</dc:title>
</cp:coreProperties>
</file>