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CF2-2509-4C7A-989F-B4F1F784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272-02BB-41FB-8397-85215FDA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30E-38B8-4ED8-98F3-E8C9A092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BC5-8AF8-4C15-A00C-819741C8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0CA-3469-4A30-B447-2458090B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3580-8C02-45BF-B717-63DACED9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8C0-07BD-47C5-8D03-4E07BED2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62A-502C-457D-8AC6-9C040D3B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E80-5DA4-417B-B78B-8F7609B1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E9A-6108-4EC1-A792-E041260F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CA0-A931-47C9-B74E-0AD2EBC1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B941-8B04-481C-83B0-5D352EBA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7841-338C-4C2A-9DF1-F10D54265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ciSp5X40t0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lThSXKbv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oor Air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ality of the air in our homes and school may be worse than the air outsi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442440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ndoor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 are consistently higher indoors (up to ten times higher) than outdo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s and lacqu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 stripp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supp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stic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materials and furnis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copiers and prin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on flu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less copy pa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ues and adhes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ma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5370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ndoor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naces and poorly ventilated space heaters contribu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n mon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ed wood (shelving) may contribu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dehy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pecially when n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pores will always be present in air. Only become a problem where moisture allows mold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772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on is a radioactive ga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mes from the natural decay of uranium that is found in nearly all so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ves up through the ground to the air above and into your home through cracks and other holes in the found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home traps radon inside, where it can build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home may have a radon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on in indoor air is estimated to cause about 21,000 lung cancer deaths each year in the United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recommends all homes be tested for Ra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b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include deteriorating, damaged, or disturbed insulation, fireproofing and floor t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dangerous asbestos fibers are too small to be visible. After they are inhaled, they can remain and accumulate in the lu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bestos can cause lung cancer, mesothelioma (a cancer of the chest and abdominal linings), and asbestosis (irreversible lung scarring that can be fata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of these diseases do not show up until many years after exposure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Quality at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nty percent of the U.S. population spend their days in our elementary and secondary schoo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id-1990s 1 in 5 of our nation's schools reported unsatisfactory indoor air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 4 schools reported ventilation as unsatisfac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e at greater risk because of the hours spent in school facilities and because children are especially susceptible to pollut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the Air Quality in your H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youtube.com/watch?v=gciSp5X40t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AQ School walkthro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youtube.com/watch?v=bVlThSXKbv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4:34:03Z</dcterms:created>
  <dc:creator>Owner</dc:creator>
  <dc:description/>
  <dc:language>en-US</dc:language>
  <cp:lastModifiedBy>L-Net</cp:lastModifiedBy>
  <dcterms:modified xsi:type="dcterms:W3CDTF">2009-11-09T16:16:20Z</dcterms:modified>
  <cp:revision>9</cp:revision>
  <dc:subject/>
  <dc:title>Slide 1</dc:title>
</cp:coreProperties>
</file>