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0EA2-E4CE-4AEB-93B4-34A4F998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6512-39B5-4556-ABB6-9F061F8D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4E98-BCDD-4F0D-81E4-5651DA94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19A0-6E5D-40CB-94E7-85CFDE77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96C-C097-4DEE-8433-11FA4859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14C0-6C65-4D21-9BB4-EC9B9C76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606B-DCC2-4EB5-B725-AC882779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5673-6F03-4DDE-BB0C-AF45A7A4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F782-80C7-4384-8926-E02A3FEE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6D48-1FD3-4714-BF8A-8A71AC08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D42-46DB-4A5F-8179-D481F5F7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F99F-C9D6-461C-AE1E-3323409C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83F5-342E-464C-B3FC-C5548D88A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ciSp5X40t0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lThSXKbv0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oor Air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ality of the air in our homes and school may be worse than the air outsid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38280" y="2209680"/>
            <a:ext cx="442440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ndoor 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s are consistently higher indoors (up to ten times higher) than outdo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s and lacqu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 stripp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suppl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stici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materials and furnish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copiers and prin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ion flui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onless copy pa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ues and adhes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ma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53700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ndoor 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naces and poorly ventilated space heaters contribu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n mon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ed wood (shelving) may contribu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dehy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pecially when n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pores will always be present in air. Only become a problem where moisture allows mold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37720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on is a radioactive ga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mes from the natural decay of uranium that is found in nearly all soi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oves up through the ground to the air above and into your home through cracks and other holes in the found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home traps radon inside, where it can build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home may have a radon probl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on in indoor air is estimated to cause about 21,000 lung cancer deaths each year in the United St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 recommends all homes be tested for Ra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b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include deteriorating, damaged, or disturbed insulation, fireproofing and floor t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dangerous asbestos fibers are too small to be visible. After they are inhaled, they can remain and accumulate in the lu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bestos can cause lung cancer, mesothelioma (a cancer of the chest and abdominal linings), and asbestosis (irreversible lung scarring that can be fata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toms of these diseases do not show up until many years after exposure beg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Quality at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enty percent of the U.S. population spend their days in our elementary and secondary schoo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mid-1990s 1 in 5 of our nation's schools reported unsatisfactory indoor air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in 4 schools reported ventilation as unsatisfac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are at greater risk because of the hours spent in school facilities and because children are especially susceptible to pollut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the Air Quality in your H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www.youtube.com/watch?v=gciSp5X40t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AQ School walkthrou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www.youtube.com/watch?v=bVlThSXKbv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4:34:03Z</dcterms:created>
  <dc:creator>Owner</dc:creator>
  <dc:description/>
  <dc:language>en-US</dc:language>
  <cp:lastModifiedBy>L-Net</cp:lastModifiedBy>
  <dcterms:modified xsi:type="dcterms:W3CDTF">2009-11-09T16:16:20Z</dcterms:modified>
  <cp:revision>9</cp:revision>
  <dc:subject/>
  <dc:title>Slide 1</dc:title>
</cp:coreProperties>
</file>