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3FC-1A55-42F6-9F56-37E5686A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A14-CF43-4837-9EC4-654665F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1A2-B0C1-4D84-ACF8-644237FB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457-49C5-4414-A26A-7B3D3865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AD2-64C8-471B-8BDD-F18189F3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775-AE14-49D6-83A4-4ED5B39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D31-A26B-496F-A10E-190AFC68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C09-5A3B-4A47-BD84-04B69FD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57E-535F-47A3-B0E1-0BDB98C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45C-2036-4550-B244-61EFBE0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3E-EB96-4F6E-B271-2245651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D04-21CC-4262-81E8-34A6B98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438-8850-4DFF-9C7F-9FBBF84C1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oil…..not, just dirt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il is the great connector of our lives, the source and destination of a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endell Ber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e Unsettling of America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, 197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ovel of soil holds more living things than all the human beings ever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more about the movement of celestial bodies than about the soil underfoot.”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-- Leonardo daVin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every plant and animal depends on this vast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arthworm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72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1, 750, 000 per acre in good agricultural so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worms might outweigh the weight of livestock on a far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break down plant material into nutrient rich h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owing improves soil structure for plant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aerate th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bring minerals from lower levels to the plant root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6072120"/>
            <a:ext cx="7340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else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s: 23 million per hectare (2.47 ac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: 2.5 billion per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y is soil importa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Nutrient cyc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controls the release and uptake of nutrients (soil can trap carbon –reducing greenhouse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Water rela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cts as a filter to protect the quality of water an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Biodiversity and 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oil supports the growth of a variety of plants, animals and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Physical stability and suppor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llows plant roots to anchor in the ground and structural support for buildings, roads and p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es soil for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 erodes from parent material (rock) 1cm in 250 -2,5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2916360"/>
            <a:ext cx="5759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0" name="" descr="SK stands on a Soil Horizon and shows layers: O, A, B, C"/>
          <p:cNvPicPr/>
          <p:nvPr/>
        </p:nvPicPr>
        <p:blipFill>
          <a:blip r:embed="rId1"/>
          <a:stretch/>
        </p:blipFill>
        <p:spPr>
          <a:xfrm>
            <a:off x="3429000" y="1219320"/>
            <a:ext cx="2505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oil profi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forms distinct layers called horiz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pth of soil varies from less than a meter to tens of meters th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scientists classify soils according to their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helps to determine how the soil can be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233360"/>
            <a:ext cx="33177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rofile photograph of an Alfisol"/>
          <p:cNvPicPr/>
          <p:nvPr/>
        </p:nvPicPr>
        <p:blipFill>
          <a:blip r:embed="rId1"/>
          <a:stretch/>
        </p:blipFill>
        <p:spPr>
          <a:xfrm>
            <a:off x="685800" y="22860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8440" y="6589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file photograph of an Andisol"/>
          <p:cNvPicPr/>
          <p:nvPr/>
        </p:nvPicPr>
        <p:blipFill>
          <a:blip r:embed="rId2"/>
          <a:stretch/>
        </p:blipFill>
        <p:spPr>
          <a:xfrm>
            <a:off x="5029200" y="15228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4840" y="6589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file photograph of an Oxisol"/>
          <p:cNvPicPr/>
          <p:nvPr/>
        </p:nvPicPr>
        <p:blipFill>
          <a:blip r:embed="rId1"/>
          <a:stretch/>
        </p:blipFill>
        <p:spPr>
          <a:xfrm>
            <a:off x="533520" y="0"/>
            <a:ext cx="3295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040" y="6324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Profile photograph of an Vertisol"/>
          <p:cNvPicPr/>
          <p:nvPr/>
        </p:nvPicPr>
        <p:blipFill>
          <a:blip r:embed="rId2"/>
          <a:stretch/>
        </p:blipFill>
        <p:spPr>
          <a:xfrm>
            <a:off x="5257800" y="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760" y="6361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owa - Molliso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s of grassland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surface horizon formed from long term addition of plant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soil 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 most productive agricultural soils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Profile photograph of an Mollisol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s soil made of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%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organic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oil we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2286000"/>
          <a:ext cx="4038480" cy="4338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-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032800" y="17524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texture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20:04Z</dcterms:created>
  <dc:creator>Owner</dc:creator>
  <dc:description/>
  <dc:language>en-US</dc:language>
  <cp:lastModifiedBy>L-Net</cp:lastModifiedBy>
  <dcterms:modified xsi:type="dcterms:W3CDTF">2008-09-23T18:15:09Z</dcterms:modified>
  <cp:revision>15</cp:revision>
  <dc:subject/>
  <dc:title>Introduction to Soil</dc:title>
</cp:coreProperties>
</file>