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4C0-622F-4D97-B8F8-2122A727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FA03-A529-4A80-9C6A-150DC14D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258-C169-4C8E-BD33-3C4C2E9D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59E2-D1CB-4326-9D34-D65D844D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CBCD-8DE5-4651-82FA-F5530E0B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644-44ED-4327-9EE0-36D1A972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E94-EEF4-4828-A409-768B1811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4A5-6F52-4B7B-BC02-BBDF2DDD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067-206C-4EEC-B364-C32B1C6B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FE9-21AF-4395-BECE-682FD2EC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D96-808C-4D21-95EB-9B2B36C9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305-2E6E-4437-822D-58E23FFA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F123-C6CE-458F-8637-B7B562B887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Soil…..not, just dirt!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32004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il is the great connector of our lives, the source and destination of all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endell Berr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The Unsettling of America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, 197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lives in the soil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hovel of soil holds more living things than all the human beings ever bor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more about the movement of celestial bodies than about the soil underfoot.”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-- Leonardo daVinc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, every plant and animal depends on this vast eco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Earthworms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40728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 to 1, 750, 000 per acre in good agricultural soi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eight of worms might outweigh the weight of livestock on a farm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ms break down plant material into nutrient rich hu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owing improves soil structure for plant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worms aerate the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worms bring minerals from lower levels to the plant root 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6072120"/>
            <a:ext cx="73407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else lives in the soil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cts: 23 million per hectare (2.47 acr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: 2.5 billion per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57150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y is soil important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Nutrient cycling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il controls the release and uptake of nutrients (soil can trap carbon –reducing greenhouse g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Water rela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il acts as a filter to protect the quality of water and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Biodiversity and habit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oil supports the growth of a variety of plants, animals and microorg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b400"/>
                </a:solidFill>
                <a:latin typeface="Arial"/>
              </a:rPr>
              <a:t>Physical stability and suppor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il allows plant roots to anchor in the ground and structural support for buildings, roads and par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How does soil form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il erodes from parent material (rock) 1cm in 250 -2,50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52480" y="2916360"/>
            <a:ext cx="57596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0" name="" descr="SK stands on a Soil Horizon and shows layers: O, A, B, C"/>
          <p:cNvPicPr/>
          <p:nvPr/>
        </p:nvPicPr>
        <p:blipFill>
          <a:blip r:embed="rId1"/>
          <a:stretch/>
        </p:blipFill>
        <p:spPr>
          <a:xfrm>
            <a:off x="3429000" y="1219320"/>
            <a:ext cx="25052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he soil profil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il forms distinct layers called horiz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pth of soil varies from less than a meter to tens of meters th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il scientists classify soils according to their pro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cation helps to determine how the soil can best b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86400" y="1233360"/>
            <a:ext cx="331776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Profile photograph of an Alfisol"/>
          <p:cNvPicPr/>
          <p:nvPr/>
        </p:nvPicPr>
        <p:blipFill>
          <a:blip r:embed="rId1"/>
          <a:stretch/>
        </p:blipFill>
        <p:spPr>
          <a:xfrm>
            <a:off x="685800" y="228600"/>
            <a:ext cx="3295800" cy="6400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48440" y="65898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f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Profile photograph of an Andisol"/>
          <p:cNvPicPr/>
          <p:nvPr/>
        </p:nvPicPr>
        <p:blipFill>
          <a:blip r:embed="rId2"/>
          <a:stretch/>
        </p:blipFill>
        <p:spPr>
          <a:xfrm>
            <a:off x="5029200" y="152280"/>
            <a:ext cx="3295800" cy="6400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44840" y="65898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Profile photograph of an Oxisol"/>
          <p:cNvPicPr/>
          <p:nvPr/>
        </p:nvPicPr>
        <p:blipFill>
          <a:blip r:embed="rId1"/>
          <a:stretch/>
        </p:blipFill>
        <p:spPr>
          <a:xfrm>
            <a:off x="533520" y="0"/>
            <a:ext cx="3295440" cy="640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6040" y="6324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Profile photograph of an Vertisol"/>
          <p:cNvPicPr/>
          <p:nvPr/>
        </p:nvPicPr>
        <p:blipFill>
          <a:blip r:embed="rId2"/>
          <a:stretch/>
        </p:blipFill>
        <p:spPr>
          <a:xfrm>
            <a:off x="5257800" y="0"/>
            <a:ext cx="3286080" cy="6400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96760" y="63612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t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Iowa - Mollisol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ils of grassland ec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le surface horizon formed from long term addition of plant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idespread soil order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g the most productive agricultural soils of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Profile photograph of an Mollisol"/>
          <p:cNvPicPr/>
          <p:nvPr/>
        </p:nvPicPr>
        <p:blipFill>
          <a:blip r:embed="rId1"/>
          <a:stretch/>
        </p:blipFill>
        <p:spPr>
          <a:xfrm>
            <a:off x="5410080" y="228600"/>
            <a:ext cx="3295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is soil made of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5% miner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%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%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% organic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soil we consi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800600" y="2286000"/>
          <a:ext cx="4038480" cy="4338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le 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 (m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-0.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5-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5032800" y="175248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il texture classif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3:20:04Z</dcterms:created>
  <dc:creator>Owner</dc:creator>
  <dc:description/>
  <dc:language>en-US</dc:language>
  <cp:lastModifiedBy>L-Net</cp:lastModifiedBy>
  <dcterms:modified xsi:type="dcterms:W3CDTF">2008-09-23T18:15:09Z</dcterms:modified>
  <cp:revision>15</cp:revision>
  <dc:subject/>
  <dc:title>Introduction to Soil</dc:title>
</cp:coreProperties>
</file>