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711-003A-4E5E-8BCB-63A07223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0D8-CFB3-4070-8878-DB04839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7C3-E330-40B3-9D72-F189C3D1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E66-DB74-4C6A-8840-5F6D0847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697-F5A7-4169-BABE-0922ED67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27A-DE93-4F3A-BD27-A748EE7A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A96-C05B-41CA-AFA8-43A5F65A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D7A-8181-4686-95A0-0657A307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037-851A-47CA-B99F-8583013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C4E-0250-4553-A0C4-696A235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37D-8E81-4648-8123-455E738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129-4D9F-4B5B-BC06-8D837E9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AD3-0281-4CDE-A6BC-99EE09DDCE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oil…..not, just dirt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il is the great connector of our lives, the source and destination of al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endell Ber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e Unsettling of America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, 197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ovel of soil holds more living things than all the human beings ever bor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more about the movement of celestial bodies than about the soil underfoot.”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-- Leonardo daVin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every plant and animal depends on this vast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arthworm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072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1, 750, 000 per acre in good agricultural so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worms might outweigh the weight of livestock on a far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break down plant material into nutrient rich h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owing improves soil structure for plant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aerate th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bring minerals from lower levels to the plant root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6072120"/>
            <a:ext cx="7340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else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s: 23 million per hectare (2.47 ac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: 2.5 billion per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y is soil importa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Nutrient cycl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controls the release and uptake of nutrients (soil can trap carbon –reducing greenhouse g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Water rela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cts as a filter to protect the quality of water an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Biodiversity and 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oil supports the growth of a variety of plants, animals and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Physical stability and suppor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llows plant roots to anchor in the ground and structural support for buildings, roads and p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es soil for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 erodes from parent material (rock) 1cm in 250 -2,5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2916360"/>
            <a:ext cx="5759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0" name="" descr="SK stands on a Soil Horizon and shows layers: O, A, B, C"/>
          <p:cNvPicPr/>
          <p:nvPr/>
        </p:nvPicPr>
        <p:blipFill>
          <a:blip r:embed="rId1"/>
          <a:stretch/>
        </p:blipFill>
        <p:spPr>
          <a:xfrm>
            <a:off x="3429000" y="1219320"/>
            <a:ext cx="2505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oil profi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forms distinct layers called horiz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pth of soil varies from less than a meter to tens of meters th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scientists classify soils according to their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helps to determine how the soil can best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233360"/>
            <a:ext cx="33177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rofile photograph of an Alfisol"/>
          <p:cNvPicPr/>
          <p:nvPr/>
        </p:nvPicPr>
        <p:blipFill>
          <a:blip r:embed="rId1"/>
          <a:stretch/>
        </p:blipFill>
        <p:spPr>
          <a:xfrm>
            <a:off x="685800" y="22860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8440" y="6589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file photograph of an Andisol"/>
          <p:cNvPicPr/>
          <p:nvPr/>
        </p:nvPicPr>
        <p:blipFill>
          <a:blip r:embed="rId2"/>
          <a:stretch/>
        </p:blipFill>
        <p:spPr>
          <a:xfrm>
            <a:off x="5029200" y="15228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4840" y="6589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file photograph of an Oxisol"/>
          <p:cNvPicPr/>
          <p:nvPr/>
        </p:nvPicPr>
        <p:blipFill>
          <a:blip r:embed="rId1"/>
          <a:stretch/>
        </p:blipFill>
        <p:spPr>
          <a:xfrm>
            <a:off x="533520" y="0"/>
            <a:ext cx="3295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040" y="6324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Profile photograph of an Vertisol"/>
          <p:cNvPicPr/>
          <p:nvPr/>
        </p:nvPicPr>
        <p:blipFill>
          <a:blip r:embed="rId2"/>
          <a:stretch/>
        </p:blipFill>
        <p:spPr>
          <a:xfrm>
            <a:off x="5257800" y="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760" y="6361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owa - Molliso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s of grassland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surface horizon formed from long term addition of plant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soil 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the most productive agricultural soils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Profile photograph of an Mollisol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s soil made of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%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 organic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oil we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2286000"/>
          <a:ext cx="4038480" cy="4338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 (m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-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-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032800" y="17524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texture 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20:04Z</dcterms:created>
  <dc:creator>Owner</dc:creator>
  <dc:description/>
  <dc:language>en-US</dc:language>
  <cp:lastModifiedBy>L-Net</cp:lastModifiedBy>
  <dcterms:modified xsi:type="dcterms:W3CDTF">2008-09-23T18:15:09Z</dcterms:modified>
  <cp:revision>15</cp:revision>
  <dc:subject/>
  <dc:title>Introduction to Soil</dc:title>
</cp:coreProperties>
</file>