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12.jpeg" ContentType="image/jpeg"/>
  <Override PartName="/ppt/media/image10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D696-73EA-4635-9D78-94F9AC885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8956-BFDF-42FC-9797-23294A38B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0C94-EDD3-4A7A-86B3-951B098B3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D2D7-FB01-420A-B9B7-4351D1FE9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073C-37CE-45D4-A3BF-DBA4DA2E5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C608-EC93-45F1-B156-4DD309CE6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0FDD-7346-47A7-8404-A4C3166EE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D6B2-1040-4D23-AB9E-A9BF91518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DC3A-93B8-4796-89C5-B931E9A22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F7C8-61B1-4F2F-AB8E-EEE29051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52F3-E954-49BD-B619-6CE09404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0D4E-F374-4841-A03B-7BAFC11C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B39FC-E658-44F1-A807-8A5357B9D34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Soil…..not, just dirt!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440" y="3200400"/>
            <a:ext cx="8001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oil is the great connector of our lives, the source and destination of all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Wendell Berry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The Unsettling of America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, 1977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What lives in the soil?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shovel of soil holds more living things than all the human beings ever born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know more about the movement of celestial bodies than about the soil underfoot.”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--- Leonardo daVinc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t, every plant and animal depends on this vast eco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Earthworms 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6407280" cy="51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 to 1, 750, 000 per acre in good agricultural soil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eight of worms might outweigh the weight of livestock on a farm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ms break down plant material into nutrient rich hum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rrowing improves soil structure for plant grow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thworms aerate the so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thworms bring minerals from lower levels to the plant root z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5800" y="6072120"/>
            <a:ext cx="734076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What else lives in the soil?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ects: 23 million per hectare (2.47 acr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cteria: 2.5 billion per 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600200" y="2971800"/>
            <a:ext cx="571500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Why is soil important?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b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b400"/>
                </a:solidFill>
                <a:latin typeface="Arial"/>
              </a:rPr>
              <a:t>Nutrient cycling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oil controls the release and uptake of nutrients (soil can trap carbon –reducing greenhouse ga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b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b400"/>
                </a:solidFill>
                <a:latin typeface="Arial"/>
              </a:rPr>
              <a:t>Water relation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oil acts as a filter to protect the quality of water and a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b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b400"/>
                </a:solidFill>
                <a:latin typeface="Arial"/>
              </a:rPr>
              <a:t>Biodiversity and habita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oil supports the growth of a variety of plants, animals and microorganis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b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b400"/>
                </a:solidFill>
                <a:latin typeface="Arial"/>
              </a:rPr>
              <a:t>Physical stability and support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oil allows plant roots to anchor in the ground and structural support for buildings, roads and park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How does soil form?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il erodes from parent material (rock) 1cm in 250 -2,500 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3938760"/>
            <a:ext cx="8229600" cy="2187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752480" y="2916360"/>
            <a:ext cx="575964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pic>
        <p:nvPicPr>
          <p:cNvPr id="50" name="" descr="SK stands on a Soil Horizon and shows layers: O, A, B, C"/>
          <p:cNvPicPr/>
          <p:nvPr/>
        </p:nvPicPr>
        <p:blipFill>
          <a:blip r:embed="rId1"/>
          <a:stretch/>
        </p:blipFill>
        <p:spPr>
          <a:xfrm>
            <a:off x="3429000" y="1219320"/>
            <a:ext cx="250524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The soil profile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il forms distinct layers called horiz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epth of soil varies from less than a meter to tens of meters thi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il scientists classify soils according to their profi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ification helps to determine how the soil can best be u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486400" y="1233360"/>
            <a:ext cx="3317760" cy="56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Profile photograph of an Alfisol"/>
          <p:cNvPicPr/>
          <p:nvPr/>
        </p:nvPicPr>
        <p:blipFill>
          <a:blip r:embed="rId1"/>
          <a:stretch/>
        </p:blipFill>
        <p:spPr>
          <a:xfrm>
            <a:off x="685800" y="228600"/>
            <a:ext cx="3295800" cy="6400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48440" y="65898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fis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Profile photograph of an Andisol"/>
          <p:cNvPicPr/>
          <p:nvPr/>
        </p:nvPicPr>
        <p:blipFill>
          <a:blip r:embed="rId2"/>
          <a:stretch/>
        </p:blipFill>
        <p:spPr>
          <a:xfrm>
            <a:off x="5029200" y="152280"/>
            <a:ext cx="3295800" cy="6400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244840" y="658980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dis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Profile photograph of an Oxisol"/>
          <p:cNvPicPr/>
          <p:nvPr/>
        </p:nvPicPr>
        <p:blipFill>
          <a:blip r:embed="rId1"/>
          <a:stretch/>
        </p:blipFill>
        <p:spPr>
          <a:xfrm>
            <a:off x="533520" y="0"/>
            <a:ext cx="3295440" cy="6400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36040" y="632448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xis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" descr="Profile photograph of an Vertisol"/>
          <p:cNvPicPr/>
          <p:nvPr/>
        </p:nvPicPr>
        <p:blipFill>
          <a:blip r:embed="rId2"/>
          <a:stretch/>
        </p:blipFill>
        <p:spPr>
          <a:xfrm>
            <a:off x="5257800" y="0"/>
            <a:ext cx="3286080" cy="6400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396760" y="63612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rtis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Iowa - Mollisol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ils of grassland eco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rtile surface horizon formed from long term addition of plant mate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widespread soil order in the U.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ong the most productive agricultural soils of the 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Profile photograph of an Mollisol"/>
          <p:cNvPicPr/>
          <p:nvPr/>
        </p:nvPicPr>
        <p:blipFill>
          <a:blip r:embed="rId1"/>
          <a:stretch/>
        </p:blipFill>
        <p:spPr>
          <a:xfrm>
            <a:off x="5410080" y="228600"/>
            <a:ext cx="3295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What is soil made of?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5% miner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5% a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5%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% organic mat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describe soil we consid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x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800600" y="2286000"/>
          <a:ext cx="4038480" cy="43387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icle typ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ze (mm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2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l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2-0.00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5-2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"/>
          <p:cNvSpPr/>
          <p:nvPr/>
        </p:nvSpPr>
        <p:spPr>
          <a:xfrm>
            <a:off x="5032800" y="1752480"/>
            <a:ext cx="26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il texture classif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0T13:20:04Z</dcterms:created>
  <dc:creator>Owner</dc:creator>
  <dc:description/>
  <dc:language>en-US</dc:language>
  <cp:lastModifiedBy>L-Net</cp:lastModifiedBy>
  <dcterms:modified xsi:type="dcterms:W3CDTF">2008-09-23T18:15:09Z</dcterms:modified>
  <cp:revision>15</cp:revision>
  <dc:subject/>
  <dc:title>Introduction to Soil</dc:title>
</cp:coreProperties>
</file>