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4DD-488F-4873-8EC8-5561EE45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B35-C67F-4F6C-BC63-F9301CBA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191-ACB1-4B48-9B4C-4049D1B9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9F64-3B27-46D9-B911-543D696A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EE654-EE46-4E68-A8AF-8B60D442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70B4F-2285-4B7C-8847-23CE1C2E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F8356-D550-4B16-9773-69BE398E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6CE8E-B6AB-4F13-9EC7-09367DA7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896F6-D43B-4BB8-A02F-CABC72CF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954BC-BC80-4982-954F-2936C79E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07E92-EC43-4C30-9988-A4E8073D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5866-0F7E-4046-9152-EF30A79C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15D6D-0F67-4563-9A40-9C8AB7C3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FAB18-7F4E-4B04-8384-A48B60DD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298AA-8191-4048-8A74-60FD8DE4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66750-C779-4DAE-BE33-6DBA841F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A1799-8AEF-45D9-982C-FF455A92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4201-C66C-43A6-B0A3-04AF39AA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D4EC-8A45-4EA4-9E1A-E12647E4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DEAB-C855-4F40-B74B-6C1E6607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2E27-1531-4D54-AE8E-E2087F44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F08-6C06-4CD3-B25C-DC719AE0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B8E2-B3AB-4630-8D81-BF37EBAE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F3A-EEC8-44E7-A591-68C128DB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E1F3-A597-4327-B271-5573BB3F6C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2608-606F-4140-AB15-0837849D97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owater.net/ppPresentations.htm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Iowa’s Surface Water resour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owa receives approximately 32” of precipitation annuall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owa has 72,000 miles of stream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25,000 acres of lakes, reservoirs and ponds and 50,500 marsh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ter pollution in Iow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4343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owa in 19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ways were running red with waste from slaughtering p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ties were sending untreated sewage into riv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nitrate levels plagued drinking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3419640" cy="3247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57800" y="426708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972 – Clean Water A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restore and maintain the chemical, physical, and biological integrity of the nation’s water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goal was to make all surface waters safe for swimming and fishing by 198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has failed to achieve this but some progress has been m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2004,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Iowa’s waterways were considered impa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are the main sources of water pollution in Iow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off from agricultural land adds sediment, nutrients and pestic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ure spills add ammonia and bacter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off from construction sites, lawns and stre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king septic tank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d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Iowa, the #1 water quality concern is soil ero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osion carries fine particles (sediment) to our stre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sediment settles on stream bottoms it smothers plants and anim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diment suspended in water prevents light reaching plants in the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diment makes rivers shallower and slower. Such rivers have less dissolved 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86400" y="1523880"/>
            <a:ext cx="33274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utri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trogen and Phosphorus are necessary nutrients for growing cro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ur water they contribute to overproduction of alga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ificial eutrophication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419720" y="1828800"/>
            <a:ext cx="45162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o is responsible for Iowa’s water qualit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te provides $2.9 million annually to the Department of Natural Resources for its water quality monitoring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ependent experts believe $6-8 million is required for comprehensive monito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OWATER volunteers help bridge the shortfall of the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iowater.net/ppPresentations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52480" y="304920"/>
            <a:ext cx="538488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20:57:49Z</dcterms:created>
  <dc:creator>L-Net</dc:creator>
  <dc:description/>
  <dc:language>en-US</dc:language>
  <cp:lastModifiedBy>L-Net</cp:lastModifiedBy>
  <dcterms:modified xsi:type="dcterms:W3CDTF">2008-09-02T12:24:37Z</dcterms:modified>
  <cp:revision>11</cp:revision>
  <dc:subject/>
  <dc:title>Slide 1</dc:title>
</cp:coreProperties>
</file>