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2CC-59EA-4495-947A-F5D45D23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656-B4AB-481B-B85C-035FAAE0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20C-8E97-4A80-B31A-C148FCEC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4A0-43C7-4D54-92A7-6BD17544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9C248-D926-4F7B-BD79-6532323E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398C1-B486-4E2C-85D7-F6459C25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AD2E0-538A-4015-B460-7C0A2306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C9B0F-F026-4101-AB81-BB8EAE88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B9726-7C10-41C3-B39B-EBDCBEB1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38440-83E3-4BE3-8C2D-112553B5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9943D-3FA7-4997-8137-705579B2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800-99A4-42DB-9164-9F833ADC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979A3-AD3B-4D09-9094-5A2D1B3E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8256D-35BD-407C-B49E-35FAE584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5A5F5-4C9F-4488-95F8-EB669601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8126D-7F16-47FD-A354-417DB8CC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094DC-EF71-4594-A008-EC48A85F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73F-7D33-4B5A-92FC-AB9B8FA8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172-DDB4-46E3-B922-E30BCD2B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218-A8F1-46A9-9EB6-F76A489D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15C-A2BB-4A0F-BD07-22970724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89F-ECCD-45DB-BA9D-A664BBE5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1A5-0BA5-4DA3-98C0-56A8FEC4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B4B-9ACE-4BCD-A220-B7AAAB40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F840-8AA8-4B0D-9CD9-8E72391B18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EE80-5DB1-4B35-B526-016EF231D1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owater.net/ppPresentations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Iowa’s Surface Water re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owa receives approximately 32” of precipitation annuall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owa has 72,000 miles of stream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25,000 acres of lakes, reservoirs and ponds and 50,500 marsh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llution in Iow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343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owa in 19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ways were running red with waste from slaughtering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ties were sending untreated sewage into riv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nitrate levels plagued drinking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419640" cy="3247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57800" y="426708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972 – Clean Water A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restore and maintain the chemical, physical, and biological integrity of the nation’s water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goal was to make all surface waters safe for swimming and fishing by 198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failed to achieve this but some progress has been m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2004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Iowa’s waterways were considered impa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are the main sources of water pollution in Iow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from agricultural land adds sediment, nutrients and pestic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re spills add ammonia and bacter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from construction sites, lawns and stre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king septic tank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Iowa, the #1 water quality concern is soil ero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osion carries fine particles (sediment) to our stre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sediment settles on stream bottoms it smothers plants and anim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iment suspended in water prevents light reaching plants in th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iment makes rivers shallower and slower. Such rivers have less dissolved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3274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utri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trogen and Phosphorus are necessary nutrients for growing cro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ur water they contribute to overproduction of alg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ficial eutrophication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19720" y="1828800"/>
            <a:ext cx="45162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is responsible for Iowa’s water quali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te provides $2.9 million annually to the Department of Natural Resources for its water quality monitoring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t experts believe $6-8 million is required for comprehensive monito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OWATER volunteers help bridge the shortfall of the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iowater.net/ppPresentations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52480" y="304920"/>
            <a:ext cx="538488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0:57:49Z</dcterms:created>
  <dc:creator>L-Net</dc:creator>
  <dc:description/>
  <dc:language>en-US</dc:language>
  <cp:lastModifiedBy>L-Net</cp:lastModifiedBy>
  <dcterms:modified xsi:type="dcterms:W3CDTF">2008-09-02T12:24:37Z</dcterms:modified>
  <cp:revision>11</cp:revision>
  <dc:subject/>
  <dc:title>Slide 1</dc:title>
</cp:coreProperties>
</file>