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EDD-5A0B-4920-8125-15D5DA5F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22A-6060-4791-8AB8-27886261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A5F-1364-4069-91E5-0D95B9B8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154-2E12-4EAE-9F76-F5B368D0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62292-DEE6-4BC1-B312-5AD39966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1F28E-EA46-49AD-8CB7-801727C4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E7FC5-2FE0-4D8A-92C6-78BD9993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AE635-C4EE-429F-A3D4-533A0139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D41D0-AAB0-45FA-A7BA-151BE4D9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74879-4553-484F-BCFD-9995295C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3201A-B816-49B7-AFE2-255F571C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FFC-2C0D-40B2-9B24-F9762FA4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B6B81-C01E-43DB-BD22-D227FC34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433ED-FE2F-42A0-A276-112F0CAA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531DB-ADCA-4129-9A2F-F5D8017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BE3E9-EFEC-4555-8D54-85017DC3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3C218-9BBA-4149-9B90-BBD0FCFC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164-1515-4D25-9203-D2A1A4B6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CFF-BC5D-441D-A069-127AFADE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A77-DDA2-4E41-9B71-E730AC2F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E80-8934-4E8D-A76B-F2587FEA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CC8-861F-4B25-969F-AB9EA09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99F-96D4-4650-A8A4-04D623E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B55-1635-4505-B7FE-7F0CA05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83CD-7F31-4BD9-8644-58EACDE846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475D-67B5-4321-A761-0FAFDFACF6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owater.net/ppPresentations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Iowa’s Surface Water 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receives approximately 32” of precipitation annual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has 72,000 miles of stream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5,000 acres of lakes, reservoirs and ponds and 50,500 mars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 in Iow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owa in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ways were running red with waste from slaughtering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ies were sending untreated sewage into riv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nitrate levels plagued drink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419640" cy="324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972 – Clean Water A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restore and maintain the chemical, physical, and biological integrity of the nation’s wate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goal was to make all surface waters safe for swimming and fishing by 198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failed to achieve this but some progress has been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4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Iowa’s waterways were considered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are the main sources of water pollution in Iow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agricultural land adds sediment, nutrients and pestic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re spills add ammonia and bacte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construction sites, lawns and str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king septic tank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Iowa, the #1 water quality concern is soil ero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osion carries fine particles (sediment) to our st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ediment settles on stream bottoms it smothers plants and anim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suspended in water prevents light reaching plants in th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makes rivers shallower and slower. Such rivers have less dissolved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327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tri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trogen and Phosphorus are necessary nutrients for growing cr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ur water they contribute to overproduction of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ficial eutrophication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45162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is responsible for Iowa’s water qual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te provides $2.9 million annually to the Department of Natural Resources for its water quality monitor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experts believe $6-8 million is required for comprehensive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WATER volunteers help bridge the shortfall of th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iowater.net/ppPresentation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52480" y="304920"/>
            <a:ext cx="538488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0:57:49Z</dcterms:created>
  <dc:creator>L-Net</dc:creator>
  <dc:description/>
  <dc:language>en-US</dc:language>
  <cp:lastModifiedBy>L-Net</cp:lastModifiedBy>
  <dcterms:modified xsi:type="dcterms:W3CDTF">2008-09-02T12:24:37Z</dcterms:modified>
  <cp:revision>11</cp:revision>
  <dc:subject/>
  <dc:title>Slide 1</dc:title>
</cp:coreProperties>
</file>