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89F-7C7A-4EEE-9472-E55F5A39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D5B-64EC-4317-8DAB-FCE4C4C6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429-EFCE-4FF2-A621-AE7B30E1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6A9-E932-48C1-9F5A-3F1A34D1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6B5DA-941B-4598-97FE-64345E07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4DACE-7645-4EE8-85E6-B3D22282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0C874-ED60-4652-AD13-F4EEA92B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43947-08BF-4F65-9A54-59E2BC18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01020-5CD8-49A6-9B4D-BA2C72A0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9FBD8-7003-4B6E-AB14-592C5D1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BC1AF-A517-47C8-BAEB-96CFE277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E69-08CD-4370-A546-60259ED6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C5270-A303-41DE-A175-E6F334A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3B5A0-84FB-4511-8A17-4DA3E609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DDD81-C887-47C2-B580-21F3D738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5FABA-3F68-472C-9739-39DE4D5C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4A1F2-D36B-490B-9AD9-513129F9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9E8-C97B-4688-81B2-F2029981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B1E-BF63-47F0-AF55-768C21D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CE5-5856-4C05-873A-F25C8B77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320-2C52-43F5-A7FE-9E0E9841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388-1E46-436B-B85D-CFED278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ED9-8866-4A8B-98D4-7C822BF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983-0B08-4CDA-996F-B902847B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FC22-CF67-4888-9F4E-B7142D46F7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18C1-0D21-4493-AD25-1B2B993EA0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owater.net/ppPresentations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Iowa’s Surface Water 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receives approximately 32” of precipitation annual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has 72,000 miles of stream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5,000 acres of lakes, reservoirs and ponds and 50,500 mars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 in Iow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owa in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ways were running red with waste from slaughtering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ies were sending untreated sewage into riv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nitrate levels plagued drink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419640" cy="324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972 – Clean Water A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restore and maintain the chemical, physical, and biological integrity of the nation’s wate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goal was to make all surface waters safe for swimming and fishing by 198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failed to achieve this but some progress has been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4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Iowa’s waterways were considered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are the main sources of water pollution in Iow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agricultural land adds sediment, nutrients and pestic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re spills add ammonia and bacte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construction sites, lawns and str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king septic tank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Iowa, the #1 water quality concern is soil ero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osion carries fine particles (sediment) to our st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ediment settles on stream bottoms it smothers plants and anim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suspended in water prevents light reaching plants in th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makes rivers shallower and slower. Such rivers have less dissolved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327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tri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trogen and Phosphorus are necessary nutrients for growing cr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ur water they contribute to overproduction of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ficial eutrophication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45162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is responsible for Iowa’s water qual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te provides $2.9 million annually to the Department of Natural Resources for its water quality monitor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experts believe $6-8 million is required for comprehensive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WATER volunteers help bridge the shortfall of th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iowater.net/ppPresentation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52480" y="304920"/>
            <a:ext cx="538488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0:57:49Z</dcterms:created>
  <dc:creator>L-Net</dc:creator>
  <dc:description/>
  <dc:language>en-US</dc:language>
  <cp:lastModifiedBy>L-Net</cp:lastModifiedBy>
  <dcterms:modified xsi:type="dcterms:W3CDTF">2008-09-02T12:24:37Z</dcterms:modified>
  <cp:revision>11</cp:revision>
  <dc:subject/>
  <dc:title>Slide 1</dc:title>
</cp:coreProperties>
</file>