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C0A-47B7-415D-B1E4-E5F9CE6C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20D-2EC7-4E92-ACCC-2A29E960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371-41B2-4A05-9B0B-95DFC7E4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807-8C2E-4B5F-B4C4-FF0DA965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11EE3-4DD5-466A-A953-5F9421ED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5F18E-EE3C-4C38-89BA-D4343511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6EF75-D248-4056-9E74-03652803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20000-786A-4E6C-B87E-210B6DA6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F0E3A-81C0-49A5-862D-6C79DCAF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BF5C1-835E-41BF-9188-4CB4A8A2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4F3E1-BC0D-4D29-9378-1570F358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E6D-3ADF-493D-B1AD-4AF1D20B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F50FD-A985-4EC5-8553-0F955FFD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2CC9F-743F-42F4-9EFB-4295D7DE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6288C-3EFB-4575-B522-A9DD3F2A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EF343-B6A2-44FE-95F3-0C700AFA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9CBF3-DBD2-4A08-A1DF-3A4E0956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651-44C1-433B-AAB9-1DD335CF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A515-475C-43DE-A8C7-938B3015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ECB2-A257-4FD1-A843-F2C4E45E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CFE0-7942-4CCA-A513-4033EE94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02A6-6B67-4F36-8B0E-A4EEC199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FF6C-E89D-4613-975E-586C11EF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97F-619E-46C2-AB6A-1C11FEE2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925F-9209-4810-8F47-41AAA8212A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F78E-81D3-4889-9ACC-6143406A9A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owater.net/ppPresentations.htm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Iowa’s Surface Water resour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owa receives approximately 32” of precipitation annuall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owa has 72,000 miles of stream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25,000 acres of lakes, reservoirs and ponds and 50,500 marsh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ter pollution in Iow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4343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owa in 19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ways were running red with waste from slaughtering pl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ties were sending untreated sewage into riv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nitrate levels plagued drinking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3419640" cy="3247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257800" y="426708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972 – Clean Water A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restore and maintain the chemical, physical, and biological integrity of the nation’s waters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goal was to make all surface waters safe for swimming and fishing by 198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has failed to achieve this but some progress has been ma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2004,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Iowa’s waterways were considered impa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are the main sources of water pollution in Iow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off from agricultural land adds sediment, nutrients and pestic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ure spills add ammonia and bacter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off from construction sites, lawns and stre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king septic tank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d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Iowa, the #1 water quality concern is soil ero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osion carries fine particles (sediment) to our stre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sediment settles on stream bottoms it smothers plants and anim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diment suspended in water prevents light reaching plants in the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diment makes rivers shallower and slower. Such rivers have less dissolved 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86400" y="1523880"/>
            <a:ext cx="332748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utri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trogen and Phosphorus are necessary nutrients for growing cro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ur water they contribute to overproduction of alga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ificial eutrophication 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419720" y="1828800"/>
            <a:ext cx="45162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o is responsible for Iowa’s water qualit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te provides $2.9 million annually to the Department of Natural Resources for its water quality monitoring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ependent experts believe $6-8 million is required for comprehensive monito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OWATER volunteers help bridge the shortfall of the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iowater.net/ppPresentations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52480" y="304920"/>
            <a:ext cx="538488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20:57:49Z</dcterms:created>
  <dc:creator>L-Net</dc:creator>
  <dc:description/>
  <dc:language>en-US</dc:language>
  <cp:lastModifiedBy>L-Net</cp:lastModifiedBy>
  <dcterms:modified xsi:type="dcterms:W3CDTF">2008-09-02T12:24:37Z</dcterms:modified>
  <cp:revision>11</cp:revision>
  <dc:subject/>
  <dc:title>Slide 1</dc:title>
</cp:coreProperties>
</file>