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3582-7748-42E6-82F2-84FA7B19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A5F-DE7F-45F0-B4C0-672BDDED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B82-83A2-4684-94D7-7D156059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640-5A1B-45C3-B547-3E402128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17B9C-37D8-4E16-A4D6-E3493EC0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1478F-E8E2-4D8B-9EB1-D4F8234F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32E70-C924-485F-8725-587A70C8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2CD21-344B-47F2-BE0F-8C0A8D3D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7432B-BEB8-46DE-B6EC-A6CBFC80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DB2D1-D66E-4DFA-9BCB-F8A33AC1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D9009-BE5C-4182-BCE5-7D49BA2E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4FA-0FDE-451D-B24F-5D82399A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697EB-39A8-4E73-92BB-7B52D276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CB19F-7EAC-4FF3-8C62-0C3E53D2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5A7C6-17D0-4D0E-B7A1-63120CE9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BEE37-D877-4EE7-8045-4B34DE6F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2A6BC-F010-4DBE-8BD9-56F7C9EC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85ED-DAD2-464C-B13B-0005B560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014-34F0-4DC8-9CB7-86CB4BE8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20B3-2C15-40A4-BB62-14B8EA03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B8D7-2F24-4641-A2F4-5B8675CF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6D0-24BE-4B19-916A-5CEFEEF1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59E0-AF28-4F92-A6B5-EA171554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C87F-C067-4E68-B9D3-72057FA2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6EFF-495D-4EA1-8523-E38CCA941A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B327-31B0-4169-938A-2801CD294F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owater.net/ppPresentations.htm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Iowa’s Surface Water resour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owa receives approximately 32” of precipitation annuall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owa has 72,000 miles of stream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25,000 acres of lakes, reservoirs and ponds and 50,500 marsh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ter pollution in Iow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4343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owa in 19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ways were running red with waste from slaughtering pl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ties were sending untreated sewage into riv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nitrate levels plagued drinking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3419640" cy="3247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257800" y="426708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972 – Clean Water A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restore and maintain the chemical, physical, and biological integrity of the nation’s waters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goal was to make all surface waters safe for swimming and fishing by 198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has failed to achieve this but some progress has been ma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2004,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Iowa’s waterways were considered impa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are the main sources of water pollution in Iow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off from agricultural land adds sediment, nutrients and pestic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ure spills add ammonia and bacter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off from construction sites, lawns and stre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king septic tank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d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Iowa, the #1 water quality concern is soil ero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osion carries fine particles (sediment) to our stre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sediment settles on stream bottoms it smothers plants and anim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diment suspended in water prevents light reaching plants in the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diment makes rivers shallower and slower. Such rivers have less dissolved 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86400" y="1523880"/>
            <a:ext cx="332748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utri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trogen and Phosphorus are necessary nutrients for growing cro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ur water they contribute to overproduction of alga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ificial eutrophication 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419720" y="1828800"/>
            <a:ext cx="45162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o is responsible for Iowa’s water qualit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te provides $2.9 million annually to the Department of Natural Resources for its water quality monitoring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ependent experts believe $6-8 million is required for comprehensive monito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OWATER volunteers help bridge the shortfall of the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iowater.net/ppPresentations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52480" y="304920"/>
            <a:ext cx="538488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20:57:49Z</dcterms:created>
  <dc:creator>L-Net</dc:creator>
  <dc:description/>
  <dc:language>en-US</dc:language>
  <cp:lastModifiedBy>L-Net</cp:lastModifiedBy>
  <dcterms:modified xsi:type="dcterms:W3CDTF">2008-09-02T12:24:37Z</dcterms:modified>
  <cp:revision>11</cp:revision>
  <dc:subject/>
  <dc:title>Slide 1</dc:title>
</cp:coreProperties>
</file>