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01A-FAA6-4A08-8DA1-05D302D9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050-9853-4618-A549-687AD1B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624-7B22-49B2-9935-22BB5AA1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03B-AC6D-4F7C-B15E-BC3AA91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D3F70-FA28-461D-85F9-82918E52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66BFA-0FA1-4A72-864B-1EC81005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86806-23AA-4301-B60D-7AAA73AD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27528-F472-4B8C-89B3-912C8A3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DFC4-28AC-4B95-921D-2368795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EF74B-300D-4DD0-8AD7-2473D35B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AD4C1-8F21-42A8-84E7-5C837086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C23-6BA6-4D0C-A289-F3C6054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E0725-4C31-4814-BA7C-548C680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1BFEF-5EE4-4674-851A-646E3A87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2B8D0-C740-4A01-8429-4212DCBC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2C459-CD74-44F2-A5BF-6AAAD5A3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245A0-3223-4D44-A596-3B3D96B2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D7A-3175-4322-8D7D-CE6251A1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DED-AB48-4D5A-BAF3-7374250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ECF-524E-4356-AE91-93D85C69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843-119F-43FD-829C-E47C970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649-F247-4368-BA22-938EEA1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72E-F4A8-4253-9C45-33B97AF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624-A883-4B90-B7C9-5FFEDF6C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611-A465-4621-A514-04BE54662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548B-FDBE-4C99-B1D4-1621D2DAF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u-T-TYowBo4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Exe_estuary_from_ballo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ne Eco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Blue fish Fish Free Animated GIF"/>
          <p:cNvPicPr/>
          <p:nvPr/>
        </p:nvPicPr>
        <p:blipFill>
          <a:blip r:embed="rId2"/>
          <a:stretch/>
        </p:blipFill>
        <p:spPr>
          <a:xfrm>
            <a:off x="4191120" y="3886200"/>
            <a:ext cx="10699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light only penetrates 330 ft into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cean life is concentrated in shallow, coastal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ths of the ocean are d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mposers and filter feeders feed on organisms that fall from the su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16200000">
            <a:off x="1162080" y="-112392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ats to the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ceans are becoming steadily pollu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leads to algal 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from cities and industry pollutes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wage from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youtube.com/watch?v=u-T-TYowBo4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astal Wet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stal areas covered by salt water for all or part of th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abitat and nest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 and wild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lood and eros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ilter out pollu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53040" y="2819520"/>
            <a:ext cx="48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ea where freshwater from a river mixes with salt water from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y producti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tantly receive nutrients from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hallow so sunlight can reach to the bot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s of rooted plants and plankton support diverse food ch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Image:Exe estuary from ballo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2133720"/>
            <a:ext cx="466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Estuary food web "/>
          <p:cNvPicPr/>
          <p:nvPr/>
        </p:nvPicPr>
        <p:blipFill>
          <a:blip r:embed="rId2"/>
          <a:stretch/>
        </p:blipFill>
        <p:spPr>
          <a:xfrm>
            <a:off x="4892760" y="0"/>
            <a:ext cx="4251240" cy="680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eagrass"/>
          <p:cNvPicPr/>
          <p:nvPr/>
        </p:nvPicPr>
        <p:blipFill>
          <a:blip r:embed="rId3"/>
          <a:stretch/>
        </p:blipFill>
        <p:spPr>
          <a:xfrm>
            <a:off x="609480" y="60948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ud crab at its burrow"/>
          <p:cNvPicPr/>
          <p:nvPr/>
        </p:nvPicPr>
        <p:blipFill>
          <a:blip r:embed="rId4"/>
          <a:stretch/>
        </p:blipFill>
        <p:spPr>
          <a:xfrm>
            <a:off x="990720" y="2362320"/>
            <a:ext cx="325440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White-faced heron"/>
          <p:cNvPicPr/>
          <p:nvPr/>
        </p:nvPicPr>
        <p:blipFill>
          <a:blip r:embed="rId5"/>
          <a:stretch/>
        </p:blipFill>
        <p:spPr>
          <a:xfrm>
            <a:off x="533520" y="4648320"/>
            <a:ext cx="172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ment on 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of the world’s cities were built on estuar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, Shanghai, Buenos Air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mb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aries are threatened by sewage, agricultural runoff and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al Reef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fs are built by tiny animals called coral polyps and the algae that live insid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polyps secrete skeletons of calcium carbonate which accumulate to form re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reefs are very diverse eco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warm salt water with enough light for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efs in dan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of the world’s coral reefs are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obal wa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il sp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lluting ru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4869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58:33Z</dcterms:created>
  <dc:creator>Owner</dc:creator>
  <dc:description/>
  <dc:language>en-US</dc:language>
  <cp:lastModifiedBy>Owner</cp:lastModifiedBy>
  <dcterms:modified xsi:type="dcterms:W3CDTF">2008-11-30T15:29:56Z</dcterms:modified>
  <cp:revision>15</cp:revision>
  <dc:subject/>
  <dc:title>Marine Ecosystems</dc:title>
</cp:coreProperties>
</file>