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3F3-DB03-438D-A9FF-92BDEEF4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000-9B54-443B-8A4A-B3CFF0AF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3B3-EA57-4F1C-9800-E7385A62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F11-F85B-4D05-89D7-08D3D0EB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F59C4-7F48-405B-9C69-F821B51E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972AF-E9DF-49E3-8B83-1FAB6604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F2124-B905-41FC-975E-3D2A73A6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B780A-4EDB-4483-82D9-B5EE6FB6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D435F-1D11-4E59-8AC3-041A913F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8C488-D857-40C3-8D9C-CA9132EC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D735D-600D-4B1B-9B20-556171B0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6AC-8DBE-4F61-A057-30AB7B8A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6D62F-09CF-467E-9F2A-3A838C4C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95BC2-D592-4090-B751-3DFFD17F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22C12-F5F9-4DA1-B4CA-7C0A7BA3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3379A-18B4-474A-A099-78FBB9CB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0A781-4047-43FA-9DED-B48CA360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E64-4B37-478A-BA85-CF42D389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725-69E1-4A8C-8E66-9AA942DD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32B-AF53-4325-A6B4-8CC37EC7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5CF-32DD-4E1B-A1DC-D9B5ACA4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ED9-9848-48D8-92A8-6634738B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400-504A-4963-9BDD-D553F68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B91-589B-4CB0-8542-D05D8A8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F55-A504-4286-B274-6C26332F0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7DAA-B8ED-4151-8E12-6822C5567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u-T-TYowBo4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8/Exe_estuary_from_balloo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ne Ecosy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Blue fish Fish Free Animated GIF"/>
          <p:cNvPicPr/>
          <p:nvPr/>
        </p:nvPicPr>
        <p:blipFill>
          <a:blip r:embed="rId2"/>
          <a:stretch/>
        </p:blipFill>
        <p:spPr>
          <a:xfrm>
            <a:off x="4191120" y="3886200"/>
            <a:ext cx="10699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nlight only penetrates 330 ft into the 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ch ocean life is concentrated in shallow, coastal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pths of the ocean are d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mposers and filter feeders feed on organisms that fall from the su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16200000">
            <a:off x="1162080" y="-1123920"/>
            <a:ext cx="6819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ats to the 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oceans are becoming steadily pollu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leads to algal bl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 from cities and industry pollutes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wage from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youtube.com/watch?v=u-T-TYowBo4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astal Wetla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astal areas covered by salt water for all or part of th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Habitat and nesting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 and wild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lood and erosion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ilter out pollut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re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2960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53040" y="2819520"/>
            <a:ext cx="48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ea where freshwater from a river mixes with salt water from the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y productiv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onstantly receive nutrients from the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hallow so sunlight can reach to the bott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populations of rooted plants and plankton support diverse food ch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Image:Exe estuary from ballo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2133720"/>
            <a:ext cx="46623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Estuary food web "/>
          <p:cNvPicPr/>
          <p:nvPr/>
        </p:nvPicPr>
        <p:blipFill>
          <a:blip r:embed="rId2"/>
          <a:stretch/>
        </p:blipFill>
        <p:spPr>
          <a:xfrm>
            <a:off x="4892760" y="0"/>
            <a:ext cx="4251240" cy="680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eagrass"/>
          <p:cNvPicPr/>
          <p:nvPr/>
        </p:nvPicPr>
        <p:blipFill>
          <a:blip r:embed="rId3"/>
          <a:stretch/>
        </p:blipFill>
        <p:spPr>
          <a:xfrm>
            <a:off x="609480" y="609480"/>
            <a:ext cx="2541600" cy="167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ud crab at its burrow"/>
          <p:cNvPicPr/>
          <p:nvPr/>
        </p:nvPicPr>
        <p:blipFill>
          <a:blip r:embed="rId4"/>
          <a:stretch/>
        </p:blipFill>
        <p:spPr>
          <a:xfrm>
            <a:off x="990720" y="2362320"/>
            <a:ext cx="3254400" cy="2166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White-faced heron"/>
          <p:cNvPicPr/>
          <p:nvPr/>
        </p:nvPicPr>
        <p:blipFill>
          <a:blip r:embed="rId5"/>
          <a:stretch/>
        </p:blipFill>
        <p:spPr>
          <a:xfrm>
            <a:off x="533520" y="4648320"/>
            <a:ext cx="17269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velopment on 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of the world’s cities were built on estuar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York, Shanghai, Buenos Aire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mb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aries are threatened by sewage, agricultural runoff and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al Reef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efs are built by tiny animals called coral polyps and the algae that live insid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polyps secrete skeletons of calcium carbonate which accumulate to form re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reefs are very diverse eco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ly in warm salt water with enough light for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efs in dang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% of the world’s coral reefs are in dang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obal wa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il sp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lluting ru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4869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58:33Z</dcterms:created>
  <dc:creator>Owner</dc:creator>
  <dc:description/>
  <dc:language>en-US</dc:language>
  <cp:lastModifiedBy>Owner</cp:lastModifiedBy>
  <dcterms:modified xsi:type="dcterms:W3CDTF">2008-11-30T15:29:56Z</dcterms:modified>
  <cp:revision>15</cp:revision>
  <dc:subject/>
  <dc:title>Marine Ecosystems</dc:title>
</cp:coreProperties>
</file>