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391-DB53-4832-A1AB-B84845FD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485-A75F-455C-B714-1A246E9C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D74-7944-48B5-8B99-CA6B8215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F62-F8B1-4D6C-A90A-7F7B8F69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CBDFF-586D-4BCE-B1FE-04F86A6F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27254-FCE9-4FA3-B418-DD71508E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F7396-B626-490F-8320-AC890EFB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E826F-F868-4915-83FD-DDC838E4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A6CB3-A415-45A5-8B4D-4C28768A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9456C-FA00-4789-94F2-FD937B3F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93F5E-ADF2-42B8-8F68-D93EFA79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057-A3E2-4B75-B9F8-9BC1BC62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1161A-EBDF-4796-BE53-741B41A0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C7DB8-0014-49B0-BBCA-A18E7E34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65351-0946-48C6-884A-7481C03A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5A3AC-C771-4C12-9273-D698B811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3B3DC-371A-4D82-BD64-972DABEE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D49-57E1-41A5-8B1B-328BD96E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AEC-9FE1-4959-B774-2D01D0EB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D9A-7A46-44B8-8E8C-5E8263A5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DDB-2CE2-4E8E-96DB-F1B30CBC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BF6-F971-4B07-AE70-224CF280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82C-D388-401B-B75F-041301EC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E0A-DB0D-4776-9C0D-0992A90E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6734-5D98-460A-87D6-1CD97FA53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8022-FB16-424F-86B9-58AEF45A9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u-T-TYowBo4&amp;feature=relate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f/f8/Exe_estuary_from_balloon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rine Ecosyste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Blue fish Fish Free Animated GIF"/>
          <p:cNvPicPr/>
          <p:nvPr/>
        </p:nvPicPr>
        <p:blipFill>
          <a:blip r:embed="rId2"/>
          <a:stretch/>
        </p:blipFill>
        <p:spPr>
          <a:xfrm>
            <a:off x="4191120" y="3886200"/>
            <a:ext cx="10699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ce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nlight only penetrates 330 ft into the oc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ch ocean life is concentrated in shallow, coastal wa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pths of the ocean are d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omposers and filter feeders feed on organisms that fall from the su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 rot="16200000">
            <a:off x="1162080" y="-1123920"/>
            <a:ext cx="68198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reats to the Oce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oceans are becoming steadily pollu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leads to algal bl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te from cities and industry pollutes coastal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wage from coastal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f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youtube.com/watch?v=u-T-TYowBo4&amp;feature=re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astal Wetla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astal areas covered by salt water for all or part of the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s inclu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Habitat and nesting f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h and wild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Flood and erosion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ilter out pollut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recre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8229600" cy="198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253040" y="2819520"/>
            <a:ext cx="489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tuar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area where freshwater from a river mixes with salt water from the oc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ly productiv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constantly receive nutrients from the r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hallow so sunlight can reach to the bott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populations of rooted plants and plankton support diverse food cha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Image:Exe estuary from ballo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2133720"/>
            <a:ext cx="466236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Estuary food web "/>
          <p:cNvPicPr/>
          <p:nvPr/>
        </p:nvPicPr>
        <p:blipFill>
          <a:blip r:embed="rId2"/>
          <a:stretch/>
        </p:blipFill>
        <p:spPr>
          <a:xfrm>
            <a:off x="4892760" y="0"/>
            <a:ext cx="4251240" cy="680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Seagrass"/>
          <p:cNvPicPr/>
          <p:nvPr/>
        </p:nvPicPr>
        <p:blipFill>
          <a:blip r:embed="rId3"/>
          <a:stretch/>
        </p:blipFill>
        <p:spPr>
          <a:xfrm>
            <a:off x="609480" y="609480"/>
            <a:ext cx="2541600" cy="1671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Mud crab at its burrow"/>
          <p:cNvPicPr/>
          <p:nvPr/>
        </p:nvPicPr>
        <p:blipFill>
          <a:blip r:embed="rId4"/>
          <a:stretch/>
        </p:blipFill>
        <p:spPr>
          <a:xfrm>
            <a:off x="990720" y="2362320"/>
            <a:ext cx="3254400" cy="2166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White-faced heron"/>
          <p:cNvPicPr/>
          <p:nvPr/>
        </p:nvPicPr>
        <p:blipFill>
          <a:blip r:embed="rId5"/>
          <a:stretch/>
        </p:blipFill>
        <p:spPr>
          <a:xfrm>
            <a:off x="533520" y="4648320"/>
            <a:ext cx="17269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velopment on estuar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of the world’s cities were built on estuari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York, Shanghai, Buenos Aire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mb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aries are threatened by sewage, agricultural runoff and industrial was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ral Reef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efs are built by tiny animals called coral polyps and the algae that live inside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al polyps secrete skeletons of calcium carbonate which accumulate to form reef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al reefs are very diverse eco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only in warm salt water with enough light for photosyn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efs in dang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% of the world’s coral reefs are in dang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s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obal wa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il sp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Polluting run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verf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48692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2:58:33Z</dcterms:created>
  <dc:creator>Owner</dc:creator>
  <dc:description/>
  <dc:language>en-US</dc:language>
  <cp:lastModifiedBy>Owner</cp:lastModifiedBy>
  <dcterms:modified xsi:type="dcterms:W3CDTF">2008-11-30T15:29:56Z</dcterms:modified>
  <cp:revision>15</cp:revision>
  <dc:subject/>
  <dc:title>Marine Ecosystems</dc:title>
</cp:coreProperties>
</file>