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074-08E6-4338-8568-DB905803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977E-3CE9-41D7-991B-D5CA74DF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2AD-41D7-469B-B046-E26008D4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863B-3F2B-46AE-908A-6131458B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58BE1-B391-4B8B-8020-E5A5515D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24A83-D03B-4360-9B36-181D7C49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F1E1C-1F75-492E-B7D3-4174599A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42846-D49E-443E-AC39-5C0610B8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D11DF-1F0F-45EE-9B53-D8FD7D18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B13CF-00A3-47F2-9A75-D48CB8F1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C5681-8FEB-4545-8EBC-16F3C128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DA0F-9DFC-40C1-81EC-45F22262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0C555-0B11-4B5E-83C5-A83238C7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F7FC2-2EC4-4B34-A0F7-699EC9A3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C53F0-3237-47AB-9675-908481EB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475FD-D19C-412A-BD70-B8E2F426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C09A5-86C2-407B-A699-932774CB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E99-EC1D-4283-9CC6-8C7541EA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A76-F679-4486-85C4-975DCB21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CAEB-2ABC-4157-A32C-4C2A59CA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D83-BC81-41F8-BDD9-29828C68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D9BD-7E97-47C3-9F7E-2325884D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065-13D1-4007-8239-A61635FD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08D9-C34C-4697-9ED5-56460695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8E6F-3B8A-47A0-891E-9D8E05823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7056-ADBC-4171-B797-36E82D8F12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u-T-TYowBo4&amp;feature=related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f/f8/Exe_estuary_from_balloon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rine Ecosyste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Blue fish Fish Free Animated GIF"/>
          <p:cNvPicPr/>
          <p:nvPr/>
        </p:nvPicPr>
        <p:blipFill>
          <a:blip r:embed="rId2"/>
          <a:stretch/>
        </p:blipFill>
        <p:spPr>
          <a:xfrm>
            <a:off x="4191120" y="3886200"/>
            <a:ext cx="10699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cea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nlight only penetrates 330 ft into the oce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ch ocean life is concentrated in shallow, coastal wa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epths of the ocean are da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omposers and filter feeders feed on organisms that fall from the su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 rot="16200000">
            <a:off x="1162080" y="-1123920"/>
            <a:ext cx="68198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reats to the Oce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oceans are becoming steadily pollu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off leads to algal bl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te from cities and industry pollutes coastal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wage from coastal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fis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youtube.com/watch?v=u-T-TYowBo4&amp;feature=rel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astal Wetla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astal areas covered by salt water for all or part of the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s inclu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Habitat and nesting f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sh and wildli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Flood and erosion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ilter out pollut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recre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8229600" cy="198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253040" y="2819520"/>
            <a:ext cx="4890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tuar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area where freshwater from a river mixes with salt water from the oce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ly productiv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constantly receive nutrients from the ri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shallow so sunlight can reach to the bott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rge populations of rooted plants and plankton support diverse food cha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Image:Exe estuary from ballo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2133720"/>
            <a:ext cx="466236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Estuary food web "/>
          <p:cNvPicPr/>
          <p:nvPr/>
        </p:nvPicPr>
        <p:blipFill>
          <a:blip r:embed="rId2"/>
          <a:stretch/>
        </p:blipFill>
        <p:spPr>
          <a:xfrm>
            <a:off x="4892760" y="0"/>
            <a:ext cx="4251240" cy="680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Seagrass"/>
          <p:cNvPicPr/>
          <p:nvPr/>
        </p:nvPicPr>
        <p:blipFill>
          <a:blip r:embed="rId3"/>
          <a:stretch/>
        </p:blipFill>
        <p:spPr>
          <a:xfrm>
            <a:off x="609480" y="609480"/>
            <a:ext cx="2541600" cy="1671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Mud crab at its burrow"/>
          <p:cNvPicPr/>
          <p:nvPr/>
        </p:nvPicPr>
        <p:blipFill>
          <a:blip r:embed="rId4"/>
          <a:stretch/>
        </p:blipFill>
        <p:spPr>
          <a:xfrm>
            <a:off x="990720" y="2362320"/>
            <a:ext cx="3254400" cy="2166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White-faced heron"/>
          <p:cNvPicPr/>
          <p:nvPr/>
        </p:nvPicPr>
        <p:blipFill>
          <a:blip r:embed="rId5"/>
          <a:stretch/>
        </p:blipFill>
        <p:spPr>
          <a:xfrm>
            <a:off x="533520" y="4648320"/>
            <a:ext cx="172692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velopment on estuar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of the world’s cities were built on estuari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York, Shanghai, Buenos Aire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mb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uaries are threatened by sewage, agricultural runoff and industrial was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ral Reef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efs are built by tiny animals called coral polyps and the algae that live inside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al polyps secrete skeletons of calcium carbonate which accumulate to form reef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al reefs are very diverse eco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only in warm salt water with enough light for photosyn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efs in dang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0% of the world’s coral reefs are in dang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es inclu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Global wa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il sp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Polluting runo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verfis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48692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2:58:33Z</dcterms:created>
  <dc:creator>Owner</dc:creator>
  <dc:description/>
  <dc:language>en-US</dc:language>
  <cp:lastModifiedBy>Owner</cp:lastModifiedBy>
  <dcterms:modified xsi:type="dcterms:W3CDTF">2008-11-30T15:29:56Z</dcterms:modified>
  <cp:revision>15</cp:revision>
  <dc:subject/>
  <dc:title>Marine Ecosystems</dc:title>
</cp:coreProperties>
</file>