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78D-2DB5-4E48-BB80-E7FF9F35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D9C-C9B1-4146-BAF4-92792C61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1FB-56C6-4F19-831F-52DC908B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59D3-7CD2-4392-B952-6FDAA6BC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5FE2A-0485-4049-A3E1-38E9D692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E47B6-70C3-4E5F-AD29-266F2B74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1CBAC-0B1B-4AB4-9A75-C9643678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623DA-EE0C-497F-9514-6B23190D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E79BB-C2E9-4C14-B418-0E3D86B8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BC5FF-9095-4E42-ABDC-98FF73D6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E5EE6-9512-4087-8D1E-7D464D00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B90-2CB1-4796-8927-96440A38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0774C-CE8C-4355-B788-F02BF10C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CE3C0-C902-49B6-881B-055CF89F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7C8E6-98B6-4BA5-A4F3-077573D0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9778F-55FA-46BD-8FD0-A829F876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12DD5-5FB3-43C8-A9C9-27C13C1B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758-1DD2-4705-9EAF-6B7B2D91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2E4-317D-463E-A8E7-D1D635E7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1A5-53FA-4571-BD21-4D2F579D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CE7-1DD5-4F22-B5D1-3C5A7756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4B8-76A9-4674-927B-3E7F684F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216-5551-4025-8FE1-4B31DB26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8B8-BBE8-4F47-98BB-3F9810D3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651C-F533-4295-A23B-52BB7507CE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61AA-418C-413C-8B6E-10A658C3C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u-T-TYowBo4&amp;feature=relate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8/Exe_estuary_from_balloo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ine Ecosyste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Blue fish Fish Free Animated GIF"/>
          <p:cNvPicPr/>
          <p:nvPr/>
        </p:nvPicPr>
        <p:blipFill>
          <a:blip r:embed="rId2"/>
          <a:stretch/>
        </p:blipFill>
        <p:spPr>
          <a:xfrm>
            <a:off x="4191120" y="3886200"/>
            <a:ext cx="10699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nlight only penetrates 330 ft into the oc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ch ocean life is concentrated in shallow, coastal wa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pths of the ocean are d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omposers and filter feeders feed on organisms that fall from the su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16200000">
            <a:off x="1162080" y="-1123920"/>
            <a:ext cx="68198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reats to the Oce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oceans are becoming steadily pollu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leads to algal bl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te from cities and industry pollutes coastal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wage from coastal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f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youtube.com/watch?v=u-T-TYowBo4&amp;feature=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astal Wetla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astal areas covered by salt water for all or part of the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s inclu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Habitat and nesting f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 and wild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lood and erosion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ilter out pollut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recre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229600" cy="198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253040" y="2819520"/>
            <a:ext cx="48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tua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rea where freshwater from a river mixes with salt water from the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ly productiv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onstantly receive nutrients from the r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hallow so sunlight can reach to the bott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populations of rooted plants and plankton support diverse food cha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Image:Exe estuary from ballo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2133720"/>
            <a:ext cx="46623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Estuary food web "/>
          <p:cNvPicPr/>
          <p:nvPr/>
        </p:nvPicPr>
        <p:blipFill>
          <a:blip r:embed="rId2"/>
          <a:stretch/>
        </p:blipFill>
        <p:spPr>
          <a:xfrm>
            <a:off x="4892760" y="0"/>
            <a:ext cx="4251240" cy="680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Seagrass"/>
          <p:cNvPicPr/>
          <p:nvPr/>
        </p:nvPicPr>
        <p:blipFill>
          <a:blip r:embed="rId3"/>
          <a:stretch/>
        </p:blipFill>
        <p:spPr>
          <a:xfrm>
            <a:off x="609480" y="609480"/>
            <a:ext cx="2541600" cy="1671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Mud crab at its burrow"/>
          <p:cNvPicPr/>
          <p:nvPr/>
        </p:nvPicPr>
        <p:blipFill>
          <a:blip r:embed="rId4"/>
          <a:stretch/>
        </p:blipFill>
        <p:spPr>
          <a:xfrm>
            <a:off x="990720" y="2362320"/>
            <a:ext cx="3254400" cy="2166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White-faced heron"/>
          <p:cNvPicPr/>
          <p:nvPr/>
        </p:nvPicPr>
        <p:blipFill>
          <a:blip r:embed="rId5"/>
          <a:stretch/>
        </p:blipFill>
        <p:spPr>
          <a:xfrm>
            <a:off x="533520" y="4648320"/>
            <a:ext cx="17269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velopment on estua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of the world’s cities were built on estuari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York, Shanghai, Buenos Aire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mb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aries are threatened by sewage, agricultural runoff and industrial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ral Reef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efs are built by tiny animals called coral polyps and the algae that live inside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al polyps secrete skeletons of calcium carbonate which accumulate to form reef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al reefs are very diverse eco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 only in warm salt water with enough light for photosy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efs in dang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% of the world’s coral reefs are in dang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obal wa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il sp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Polluting run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verf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48692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58:33Z</dcterms:created>
  <dc:creator>Owner</dc:creator>
  <dc:description/>
  <dc:language>en-US</dc:language>
  <cp:lastModifiedBy>Owner</cp:lastModifiedBy>
  <dcterms:modified xsi:type="dcterms:W3CDTF">2008-11-30T15:29:56Z</dcterms:modified>
  <cp:revision>15</cp:revision>
  <dc:subject/>
  <dc:title>Marine Ecosystems</dc:title>
</cp:coreProperties>
</file>