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244A-4800-443F-A2B3-1E6ED0E74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9B2C-8176-4B5D-A6FD-DBD0E064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6689-037B-4669-9959-94FF7734A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1C68-4932-4CF8-B50F-A50C2A8C0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B61E-04C4-4A13-A4F1-9AFC5574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2456-9142-4557-8B68-FDF8AFEB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C6A6-E569-4FEA-9E25-39204846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7F4B-D15B-47DA-9209-49074CA8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ADEC-9D52-4A0A-8E70-D3FA9DD5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3E08-BFA9-4EC1-A0AD-28DBE877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77A9-4246-43C2-8726-BE3DAF16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45C1-8957-46C5-8934-9E564824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BF8A-3C0E-49D7-A628-4533BA8DFF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gallery.hd.org/_exhibits/natural-science/_more2005/_more03/elephant-African-savannah-drinking-in-waterhole-water-hole-in-Addo-Elephant-Park-Eastern-Cape-South-Africa-1-JR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983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nsity Dependent Population Regu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ths occur more quickly in a crowded popul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ed resources, predation and disease result in higher death rates in dense popul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. Emerald Ash Borer possibly going to invade Iow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486400" y="2563920"/>
            <a:ext cx="3363840" cy="4294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248520" y="914400"/>
            <a:ext cx="24955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5438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nsity independ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ertain proportion of a population dies regardless of population density. Ex. Severe we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76720" y="3581280"/>
            <a:ext cx="27874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populati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e members of a species living in the same place at the same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sms usually breed with members of their own popu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28800" y="3962520"/>
            <a:ext cx="510048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to describe popul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nsity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umber of individuals per unit area, or volume. Ex. Number of deer/k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persio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distribution or arrangement of individuals in sp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ion may b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umped, ev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nd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19520" y="4343400"/>
            <a:ext cx="60865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wth R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hange in the size of a population over a given period of time = growth r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owth rate = births – dea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tions usually stay about the same size from year to year a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cto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kill many individuals before they can reprodu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fast can a population gr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productive potential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maximum number of offspring that each member of a population can produ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species have much higher reproductive potential than 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3962520"/>
            <a:ext cx="3821400" cy="2633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Thumbnai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3962520"/>
            <a:ext cx="32907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 many bunni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28195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bbits can begin reproducing at 4 - 6 mon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station is 31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ters can be up to 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males can become pregnant within hours of giving bi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span is about 7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5 billion rabbits in 7 year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324480" y="0"/>
            <a:ext cx="294336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onential grow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rs only when there is enoug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tle or no compet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pred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s rarely grow at their reproductive pot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419720" y="1523880"/>
            <a:ext cx="47242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rrying Capac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ying capacity is: the maximum population that an ecosystem can support indefinite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systems change so carrying capacity is difficult to predict or calculate precise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39909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ource Limi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pecies reaches its carrying capacity when it consumes a natural resource at the same rate at which the ecosystem produces the resour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resource is called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miting resour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include: light, nutrients,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12:06:38Z</dcterms:created>
  <dc:creator>Owner</dc:creator>
  <dc:description/>
  <dc:language>en-US</dc:language>
  <cp:lastModifiedBy>L-Net</cp:lastModifiedBy>
  <dcterms:modified xsi:type="dcterms:W3CDTF">2008-12-15T15:02:23Z</dcterms:modified>
  <cp:revision>22</cp:revision>
  <dc:subject/>
  <dc:title>Population Ecology</dc:title>
</cp:coreProperties>
</file>