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DED7-5C78-43F4-9097-582F2FD46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6AF1-ABF8-414F-86F9-4D5D80ACE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A863-1D89-4FE7-86FF-D3C7414E6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AFB3-131D-411B-A5D4-4283D202E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AF5A-F85E-4FF3-8F59-6BDF5EAB4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89E2-DE1F-4B8F-87C4-9F98983B0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BC5B-1C9D-4396-8EE2-9AD02283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5416-0C0A-4C25-BC39-D6E0C34C7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EE78-D223-48D0-AF24-73207AACB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8FE6-8A0B-4AED-99BF-D4374607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D7B6-5246-4D36-8280-BE791C3B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518E-CA64-4900-9826-0E0F19D3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3274E-F4F4-458B-9050-A43F09EE33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gallery.hd.org/_exhibits/natural-science/_more2005/_more03/elephant-African-savannah-drinking-in-waterhole-water-hole-in-Addo-Elephant-Park-Eastern-Cape-South-Africa-1-JR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pulation Ec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69836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nsity Dependent Population Regul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aths occur more quickly in a crowded popul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mited resources, predation and disease result in higher death rates in dense popul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. Emerald Ash Borer possibly going to invade Iow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5486400" y="2563920"/>
            <a:ext cx="3363840" cy="4294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6248520" y="914400"/>
            <a:ext cx="24955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754380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nsity independ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ertain proportion of a population dies regardless of population density. Ex. Severe wea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276720" y="3581280"/>
            <a:ext cx="27874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populatio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the members of a species living in the same place at the same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sms usually breed with members of their own popul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828800" y="3962520"/>
            <a:ext cx="5100480" cy="27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to describe popul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nsity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umber of individuals per unit area, or volume. Ex. Number of deer/k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persion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distribution or arrangement of individuals in sp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persion may b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umped, eve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ndo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19520" y="4343400"/>
            <a:ext cx="60865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owth R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hange in the size of a population over a given period of time = growth r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owth rate = births – deat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pulations usually stay about the same size from year to year a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ctor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kill many individuals before they can reprodu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fast can a population gr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productive potential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maximum number of offspring that each member of a population can produ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species have much higher reproductive potential than oth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09480" y="3962520"/>
            <a:ext cx="3821400" cy="2633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Thumbnai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57800" y="3962520"/>
            <a:ext cx="329076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 many bunnie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28195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bbits can begin reproducing at 4 - 6 mon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station is 31 d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tters can be up to 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males can become pregnant within hours of giving bir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fespan is about 7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5 billion rabbits in 7 year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324480" y="0"/>
            <a:ext cx="2943360" cy="29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ponential growt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curs only when there is enough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ttle or no compet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pred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ulations rarely grow at their reproductive potent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419720" y="1523880"/>
            <a:ext cx="47242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rrying Capac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rying capacity is: the maximum population that an ecosystem can support indefinite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osystems change so carrying capacity is difficult to predict or calculate precise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438280" y="3886200"/>
            <a:ext cx="399096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source Limi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pecies reaches its carrying capacity when it consumes a natural resource at the same rate at which the ecosystem produces the resour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resource is called th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miting resour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 include: light, nutrients, w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4T12:06:38Z</dcterms:created>
  <dc:creator>Owner</dc:creator>
  <dc:description/>
  <dc:language>en-US</dc:language>
  <cp:lastModifiedBy>L-Net</cp:lastModifiedBy>
  <dcterms:modified xsi:type="dcterms:W3CDTF">2008-12-15T15:02:23Z</dcterms:modified>
  <cp:revision>22</cp:revision>
  <dc:subject/>
  <dc:title>Population Ecology</dc:title>
</cp:coreProperties>
</file>