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649-E654-4AA3-B90A-11651B21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621-CC9C-4318-94C2-E71BCE44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AD76-94F3-4D00-99BA-3D2E5D40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887-5F15-4689-9039-347E9AFC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3EC-8426-4836-84F1-4469E02C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4CA-C246-45CE-89B7-3E116501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167-A10C-45EA-9A41-CBFC73AD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776-4ED7-4C07-A083-B13F09A7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06E-5521-4608-891A-64355133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A50-B1FA-4ADC-9CC8-DFC44462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F3B-85D9-4C0F-B09F-9669D1D7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FA7-9DC0-4594-AD85-5984A0D5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0825-28C4-424D-9692-7963050A36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gallery.hd.org/_exhibits/natural-science/_more2005/_more03/elephant-African-savannah-drinking-in-waterhole-water-hole-in-Addo-Elephant-Park-Eastern-Cape-South-Africa-1-JR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983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sity Dependent Population Reg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s occur more quickly in a crowded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resources, predation and disease result in higher death rates in dense popul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. Emerald Ash Borer possibly going to invade Iow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486400" y="2563920"/>
            <a:ext cx="3363840" cy="4294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248520" y="914400"/>
            <a:ext cx="24955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nsity independ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ertain proportion of a population dies regardless of population density. Ex. Severe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76720" y="3581280"/>
            <a:ext cx="27874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popul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members of a species living in the same place at the sam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ms usually breed with members of their own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3962520"/>
            <a:ext cx="510048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describe popu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ns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mber of individuals per unit area, or volume. Ex. Number of deer/k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pers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distribution or arrangement of individuals in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ion may 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umped, e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4343400"/>
            <a:ext cx="6086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wth 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ange in the size of a population over a given period of time = growth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th rate = births – de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s usually stay about the same size from year to year a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ill many individuals before they can re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fast can a population g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roductive potential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maximum number of offspring that each member of a population can 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pecies have much higher reproductive potential than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3821400" cy="2633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Thumbnai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3962520"/>
            <a:ext cx="32907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 many bunni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bbits can begin reproducing at 4 - 6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station is 31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ers can be up to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s can become pregnant within hours of giving bi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span is about 7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5 billion rabbits in 7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943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only when there is enoug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or no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red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s rarely grow at their reproductiv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rying 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ing capacity is: the maximum population that an ecosystem can support indefini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systems change so carrying capacity is difficult to predict or calculate precis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39909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ource Lim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ecies reaches its carrying capacity when it consumes a natural resource at the same rate at which the ecosystem produces the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source is called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include: light, nutrients,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2:06:38Z</dcterms:created>
  <dc:creator>Owner</dc:creator>
  <dc:description/>
  <dc:language>en-US</dc:language>
  <cp:lastModifiedBy>L-Net</cp:lastModifiedBy>
  <dcterms:modified xsi:type="dcterms:W3CDTF">2008-12-15T15:02:23Z</dcterms:modified>
  <cp:revision>22</cp:revision>
  <dc:subject/>
  <dc:title>Population Ecology</dc:title>
</cp:coreProperties>
</file>