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7A2-1831-4E45-AA2B-99789F82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9FE-8CE5-4D49-82FA-0D03F35E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27E-D5A1-44B0-8D91-34CB3609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B5C-1973-4361-893E-4910EF8E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4B5-8387-4D50-BECD-39E2522D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5F3-BBA9-44D9-935B-FD363750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65D-BFBB-4115-B784-4E714846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CD0-BC39-433C-AFE0-8015CF1D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C78A-455A-43B8-9D8B-EE259DEE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4D6-B9A5-475C-A731-4A273261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BF0-00CF-4599-99A0-79F923AF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234-7460-4F0E-AD21-3489A2F6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5312-3268-4064-AABD-1BBAF416F5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gallery.hd.org/_exhibits/natural-science/_more2005/_more03/elephant-African-savannah-drinking-in-waterhole-water-hole-in-Addo-Elephant-Park-Eastern-Cape-South-Africa-1-JR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983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sity Dependent Population Reg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s occur more quickly in a crowded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resources, predation and disease result in higher death rates in dense popul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. Emerald Ash Borer possibly going to invade Iow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486400" y="2563920"/>
            <a:ext cx="3363840" cy="4294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248520" y="914400"/>
            <a:ext cx="24955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nsity independ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ertain proportion of a population dies regardless of population density. Ex. Severe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76720" y="3581280"/>
            <a:ext cx="27874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popul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members of a species living in the same place at the sam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ms usually breed with members of their own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3962520"/>
            <a:ext cx="510048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describe popu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ns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mber of individuals per unit area, or volume. Ex. Number of deer/k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pers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distribution or arrangement of individuals in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ion may 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umped, e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4343400"/>
            <a:ext cx="6086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wth 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ange in the size of a population over a given period of time = growth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th rate = births – de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s usually stay about the same size from year to year a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ill many individuals before they can re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fast can a population g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roductive potential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maximum number of offspring that each member of a population can 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pecies have much higher reproductive potential than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3821400" cy="2633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Thumbnai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3962520"/>
            <a:ext cx="32907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 many bunni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bbits can begin reproducing at 4 - 6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station is 31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ers can be up to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s can become pregnant within hours of giving bi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span is about 7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5 billion rabbits in 7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943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only when there is enoug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or no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red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s rarely grow at their reproductiv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rying 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ing capacity is: the maximum population that an ecosystem can support indefini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systems change so carrying capacity is difficult to predict or calculate precis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39909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ource Lim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ecies reaches its carrying capacity when it consumes a natural resource at the same rate at which the ecosystem produces the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source is called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include: light, nutrients,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2:06:38Z</dcterms:created>
  <dc:creator>Owner</dc:creator>
  <dc:description/>
  <dc:language>en-US</dc:language>
  <cp:lastModifiedBy>L-Net</cp:lastModifiedBy>
  <dcterms:modified xsi:type="dcterms:W3CDTF">2008-12-15T15:02:23Z</dcterms:modified>
  <cp:revision>22</cp:revision>
  <dc:subject/>
  <dc:title>Population Ecology</dc:title>
</cp:coreProperties>
</file>