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3C8-49DF-4BEC-A2D9-D856C2FC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A00-1C3C-4289-844E-5099429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A56-44A8-4F87-BD05-141DD6D2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982-0ADF-4464-99B9-AB6656A6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BF1-EBF2-44C2-8BBE-B1844F3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821-DEFE-4F9A-AC02-4F65D70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DF6-4727-4676-8CE8-0CD6B5E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2C1-1E10-486E-B9B1-996E808B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60A-4FF8-4595-A281-2A4BB71F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D8C-E36F-454F-B165-29CB8DF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C51-3E60-4317-832C-CA92B2A8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046-905F-4C93-A643-9636EED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6829-1990-4604-ABAE-503C81FD49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gallery.hd.org/_exhibits/natural-science/_more2005/_more03/elephant-African-savannah-drinking-in-waterhole-water-hole-in-Addo-Elephant-Park-Eastern-Cape-South-Africa-1-JR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8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sity Dependent Population Re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occur more quickly in a crowded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resources, predation and disease result in higher death rates in dense popu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Emerald Ash Borer possibly going to invade Io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86400" y="2563920"/>
            <a:ext cx="3363840" cy="429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24955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sity indepen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proportion of a population dies regardless of population density. Ex. Sever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3581280"/>
            <a:ext cx="2787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popul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members of a species living in the same place a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 usually breed with members of their own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3962520"/>
            <a:ext cx="51004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describe pop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sit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of individuals per unit area, or volume. Ex. Number of deer/k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er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distribution or arrangement of individuals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 may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umped, e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6086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e in the size of a population over a given period of time = growth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th rate = births – de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s usually stay about the same size from year to year 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ill many individuals before they can re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st can a population g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roductive potenti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aximum number of offspring that each member of a population can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pecies have much higher reproductive potential than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821400" cy="263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Thumbn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3962520"/>
            <a:ext cx="3290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 many bunni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its can begin reproducing at 4 -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station is 31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s can be up to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s can become pregnant within hours of giving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pan is about 7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5 billion rabbits in 7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943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only when there is enoug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r no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ed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rarely grow at their reproductiv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ing capacity is: the maximum population that an ecosystem can support indefini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systems change so carrying capacity is difficult to predict or calculate precis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39909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es reaches its carrying capacity when it consumes a natural resource at the same rate at which the ecosystem produces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source is calle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ing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clude: light, nutrients,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2:06:38Z</dcterms:created>
  <dc:creator>Owner</dc:creator>
  <dc:description/>
  <dc:language>en-US</dc:language>
  <cp:lastModifiedBy>L-Net</cp:lastModifiedBy>
  <dcterms:modified xsi:type="dcterms:W3CDTF">2008-12-15T15:02:23Z</dcterms:modified>
  <cp:revision>22</cp:revision>
  <dc:subject/>
  <dc:title>Population Ecology</dc:title>
</cp:coreProperties>
</file>