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50B-AD0E-416A-8C96-70C76B96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EFF-E484-402D-9B03-DAF23AA4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B82-7D81-4048-85C3-6ECCD95E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CE8-A4DA-4CC4-AFAE-B78D4C79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5C2-110A-4262-9E54-08278EED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3B5-37CE-4A8E-99E9-13E55CC5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EDD4-C8E0-4509-8D57-C5B463F6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8763-4ADB-476E-A1C2-64C39A6A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DFB-A0F4-4194-B1D8-E5485CF0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4550-FC9D-42A9-8C8C-8E58EED2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E52-D789-46DE-B018-9D238890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DE8-1526-43BA-8649-B455E271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86DA-62CA-4B3F-8F5E-0669A356C2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gallery.hd.org/_exhibits/natural-science/_more2005/_more03/elephant-African-savannah-drinking-in-waterhole-water-hole-in-Addo-Elephant-Park-Eastern-Cape-South-Africa-1-JR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983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sity Dependent Population Reg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s occur more quickly in a crowded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resources, predation and disease result in higher death rates in dense popul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. Emerald Ash Borer possibly going to invade Iow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486400" y="2563920"/>
            <a:ext cx="3363840" cy="4294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248520" y="914400"/>
            <a:ext cx="24955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nsity independ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ertain proportion of a population dies regardless of population density. Ex. Severe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76720" y="3581280"/>
            <a:ext cx="27874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popula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members of a species living in the same place at the same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sms usually breed with members of their own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3962520"/>
            <a:ext cx="510048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describe popu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nsit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mber of individuals per unit area, or volume. Ex. Number of deer/k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pers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distribution or arrangement of individuals in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ion may b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umped, ev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19520" y="4343400"/>
            <a:ext cx="6086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wth 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ange in the size of a population over a given period of time = growth 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wth rate = births – de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s usually stay about the same size from year to year a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c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ill many individuals before they can reprodu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fast can a population gr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productive potential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maximum number of offspring that each member of a population can produ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species have much higher reproductive potential than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3962520"/>
            <a:ext cx="3821400" cy="2633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Thumbnai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3962520"/>
            <a:ext cx="32907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 many bunni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bbits can begin reproducing at 4 - 6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station is 31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ers can be up to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ales can become pregnant within hours of giving bi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span is about 7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5 billion rabbits in 7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9433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onential grow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only when there is enoug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le or no com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red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s rarely grow at their reproductiv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724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rying 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ing capacity is: the maximum population that an ecosystem can support indefini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systems change so carrying capacity is difficult to predict or calculate precis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39909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ource Lim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pecies reaches its carrying capacity when it consumes a natural resource at the same rate at which the ecosystem produces the re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resource is called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ing re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include: light, nutrients,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2:06:38Z</dcterms:created>
  <dc:creator>Owner</dc:creator>
  <dc:description/>
  <dc:language>en-US</dc:language>
  <cp:lastModifiedBy>L-Net</cp:lastModifiedBy>
  <dcterms:modified xsi:type="dcterms:W3CDTF">2008-12-15T15:02:23Z</dcterms:modified>
  <cp:revision>22</cp:revision>
  <dc:subject/>
  <dc:title>Population Ecology</dc:title>
</cp:coreProperties>
</file>