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2AB-B068-4CA9-894E-B7FA74DA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5F1-6E35-4D4D-ACAA-10BD2C36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6C8-EF18-428F-BCCA-3AEE3405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912-237D-43ED-B10A-82F6844F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AAA-B75D-481A-8DE5-8FBA2C58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2DC-9A89-4713-99E7-2A2C84F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7DE-16C6-41DE-BBEF-A765BCE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625-EC92-48CC-9BD3-BF11340B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442-8C3D-445C-A0D8-226A124E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226-2F83-4E11-A99C-5D1480A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CEC-C118-46B1-BDC5-F76B553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6CA-C322-4AEE-9501-9E846ED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DE31-53E4-4212-A849-9E68FCC65B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man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uman population grew faster in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than ever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rowth has led to environmental problems around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ust understand and try to predict future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0195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we growing so fa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rates have declined more rapidly than birth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water &amp;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 (including vacc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number of years members of a population are likely to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61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graphic Tran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showing how economic and social changes have affected population growth rates in most developed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08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1 - Pre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irth and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amil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workers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U.K. or developing countrie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603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2 - 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rates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giene (boiling drinking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(vacc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s remain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opulation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3 -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infant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zation requires less workers in 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s much larger than before the tran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35400" y="1447920"/>
            <a:ext cx="4908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4 - Post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and death rate both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develope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may drop below replacement level and population will start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35400" y="1905120"/>
            <a:ext cx="49086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graphy – The study of popul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often group countries i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wer average income, agriculture based economy, high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higher average income, diverse industrial economy, slower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Population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use 4 properties to predict population 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ibution of ages in a specific population at a certa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 can be graphed in a population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high rates of growth tend to have more young people than old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slow or no growth have an even ag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Pyramids for 3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centage of members of a group that are likely to survive to any given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developed counties have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II has similar death rate at all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poor human conditions might result in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214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abies born each year per 1000 women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fertility rate: average number of children a woman gives birth to in her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ment level: average number of children each parent must have in order to replace themselves in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vement of individuals betwee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pulations of many developed countries might be decreasing, were it not for 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47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48:24Z</dcterms:created>
  <dc:creator>Owner</dc:creator>
  <dc:description/>
  <dc:language>en-US</dc:language>
  <cp:lastModifiedBy>Owner</cp:lastModifiedBy>
  <dcterms:modified xsi:type="dcterms:W3CDTF">2008-12-31T14:03:48Z</dcterms:modified>
  <cp:revision>20</cp:revision>
  <dc:subject/>
  <dc:title>The Human Population</dc:title>
</cp:coreProperties>
</file>