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D35-D7DC-42AB-AB68-0A4DA100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263-181D-4CA6-A381-EF7993AE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D1C-4BFA-4047-B4E4-DE13CD5C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DCC-1CAF-4E02-B9B2-44F6936C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273-E03D-49CB-A276-DD94A3CF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455-06B8-4338-9018-400D7642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017-9218-44F7-B2BD-6E66ED7F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BE3-1379-4806-8A9A-D400438D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E06-9A75-44A0-AB82-988FD435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389-7D45-4337-A055-727D0621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85F-E8D4-4CE0-93DE-6537610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B6E-B6A5-4D66-B83C-6165A1E6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2EE2-3F33-4FAA-9563-14420C6F75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man Pop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uman population grew faster in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than ever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growth has led to environmental problems around the gl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ust understand and try to predict future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0195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010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we growing so fa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rates have declined more rapidly than birth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 water &amp; san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ine (including vacc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number of years members of a population are likely to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619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graphic Tran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el showing how economic and social changes have affected population growth rates in most developed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08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1 - Pre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birth and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amily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ant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workers in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U.K. or developing countries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6036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2 - Transitio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rates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giene (boiling drinking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care (vacc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s remain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population grow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3 - 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de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infant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zation requires less workers in 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s much larger than before the tran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35400" y="1447920"/>
            <a:ext cx="4908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4 - Post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and death rate both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of developed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may drop below replacement level and population will start to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35400" y="1905120"/>
            <a:ext cx="49086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graphy – The study of popul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often group countries i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ower average income, agriculture based economy, high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higher average income, diverse industrial economy, slower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ting Population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use 4 properties to predict population s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ribution of ages in a specific population at a certa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 can be graphed in a population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high rates of growth tend to have more young people than old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slow or no growth have an even ag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ulation Pyramids for 3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centage of members of a group that are likely to survive to any given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lthy developed counties have 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II has similar death rate at all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poor human conditions might result in 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214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babies born each year per 1000 women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fertility rate: average number of children a woman gives birth to in her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ment level: average number of children each parent must have in order to replace themselves in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vement of individuals betwee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pulations of many developed countries might be decreasing, were it not for im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47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3:48:24Z</dcterms:created>
  <dc:creator>Owner</dc:creator>
  <dc:description/>
  <dc:language>en-US</dc:language>
  <cp:lastModifiedBy>Owner</cp:lastModifiedBy>
  <dcterms:modified xsi:type="dcterms:W3CDTF">2008-12-31T14:03:48Z</dcterms:modified>
  <cp:revision>20</cp:revision>
  <dc:subject/>
  <dc:title>The Human Population</dc:title>
</cp:coreProperties>
</file>