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ADB3-3B0A-4AAF-98A4-B5F2F022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6F9F-6019-4008-8A01-04B5D90F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BDF6-E075-4059-984A-9E24C8F7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CFCF-E5DA-4806-A808-986206CC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7E45-57FD-4B54-B503-331F9611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E162-5A8C-4305-8A02-8DF2708E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D794-510B-42E8-BCB9-E6466E0A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76BC-BEDE-4729-B04E-3879ABFC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9A1C-C5AE-4721-BB1A-34B35BCC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2B0C-A154-4052-9CBF-F09C7605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F832-7941-4890-AF6D-16D2C0F7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8C3A-2881-4A87-866A-9F4F11A9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EB31-218A-4594-B5DF-55ED1042D5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Human Popu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uman population grew faster in the 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ury than ever bef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id growth has led to environmental problems around the glo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must understand and try to predict future po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19320" y="3809880"/>
            <a:ext cx="60195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70102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are we growing so fa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th rates have declined more rapidly than birth r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 water &amp; san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ine (including vaccin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nutr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fe Expectan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verage number of years members of a population are likely to l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56196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mographic Trans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odel showing how economic and social changes have affected population growth rates in most developed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908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ge 1 - Preindustr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birth and death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family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infant mort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for workers in agri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death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ury U.K. or developing countries to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460368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ge 2 - Transition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th rates dec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giene (boiling drinking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care (vacci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tri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rates remain h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population grow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572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ge 3 - Industr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rate decr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infant mort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zation requires less workers in agri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is much larger than before the trans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235400" y="1447920"/>
            <a:ext cx="4908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ge 4 - Postindustr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rate and death rate both 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 of developed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rate may drop below replacement level and population will start to dec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235400" y="1905120"/>
            <a:ext cx="49086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mography – The study of popul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graphers often group countries in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lower average income, agriculture based economy, high population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higher average income, diverse industrial economy, slower population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dicting Population siz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graphers use 4 properties to predict population siz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ivo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rtility r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 Stru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stribution of ages in a specific population at a certain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structure can be graphed in a population pyram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ries with high rates of growth tend to have more young people than older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ries with slow or no growth have an even age distrib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pulation Pyramids for 3 count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rvivor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rcentage of members of a group that are likely to survive to any given 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lthy developed counties have Type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II has similar death rate at all 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poor human conditions might result in type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421488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rtility R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babies born each year per 1000 women in a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fertility rate: average number of children a woman gives birth to in her life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lacement level: average number of children each parent must have in order to replace themselves in the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vement of individuals between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pulations of many developed countries might be decreasing, were it not for im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6478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0T13:48:24Z</dcterms:created>
  <dc:creator>Owner</dc:creator>
  <dc:description/>
  <dc:language>en-US</dc:language>
  <cp:lastModifiedBy>Owner</cp:lastModifiedBy>
  <dcterms:modified xsi:type="dcterms:W3CDTF">2008-12-31T14:03:48Z</dcterms:modified>
  <cp:revision>20</cp:revision>
  <dc:subject/>
  <dc:title>The Human Population</dc:title>
</cp:coreProperties>
</file>