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A6C6-35BD-42CF-9BB3-6FC4FB28C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74DF-3712-4CF6-8B2C-78AC960D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16C6-43F1-4C64-8F9B-3C6A7F37B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1EDC-6B6B-449A-9699-458736BFC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ED5A-1442-4A71-A828-52764420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005E-2D8F-4EF1-BD27-70AAA7E3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75D0-AA80-4B42-891A-55C1586B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75DA-DB76-4BD4-9076-0C9DF087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709C-E24E-4FD5-A5DC-7521370C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E2C9-E159-412F-BD6D-75F2A4F6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241A-F1FA-4F37-B00F-AFB495A9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9CA7-FB76-4805-AA72-2C61F15B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7EB4-AD51-48B8-B5EB-84344248E9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Human Popul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uman population grew faster in the 2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entury than ever befo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pid growth has led to environmental problems around the glo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must understand and try to predict future popu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219320" y="3809880"/>
            <a:ext cx="60195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90720" y="152280"/>
            <a:ext cx="70102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y are we growing so fa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ath rates have declined more rapidly than birth r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 water &amp; sani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ine (including vaccin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ter nutr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fe Expectanc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verage number of years members of a population are likely to l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00200" y="2133720"/>
            <a:ext cx="56196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mographic Trans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odel showing how economic and social changes have affected population growth rates in most developed count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362320" y="3124080"/>
            <a:ext cx="49086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ge 1 - Preindustr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birth and death 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family pla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infant mort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for workers in agricul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death 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m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entury U.K. or developing countries to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343400" y="2057400"/>
            <a:ext cx="460368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ge 2 - Transition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ath rates dec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giene (boiling drinking wa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care (vaccin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uc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tri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rth rates remain hi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id population grow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45720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ge 3 - Industr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rth rate decr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ily pl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r infant mort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zation requires less workers in agricul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 is much larger than before the transi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235400" y="1447920"/>
            <a:ext cx="49086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ge 4 - Postindustr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rth rate and death rate both 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ical of developed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rth rate may drop below replacement level and population will start to dec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235400" y="1905120"/>
            <a:ext cx="490860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mography – The study of popul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graphers often group countries in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velop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lower average income, agriculture based economy, high population grow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velop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higher average income, diverse industrial economy, slower population grow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dicting Population siz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graphers use 4 properties to predict population siz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vivo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rtility r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g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ge Struc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istribution of ages in a specific population at a certain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 structure can be graphed in a population pyram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ntries with high rates of growth tend to have more young people than older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ntries with slow or no growth have an even age distrib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pulation Pyramids for 3 countr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rvivorsh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ercentage of members of a group that are likely to survive to any given a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lthy developed counties have Type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II has similar death rate at all 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poor human conditions might result in type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724280" y="1905120"/>
            <a:ext cx="421488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ertility Ra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babies born each year per 1000 women in a popul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tal fertility rate: average number of children a woman gives birth to in her life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lacement level: average number of children each parent must have in order to replace themselves in the po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g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vement of individuals between ar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opulations of many developed countries might be decreasing, were it not for im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876920" y="1600200"/>
            <a:ext cx="36478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30T13:48:24Z</dcterms:created>
  <dc:creator>Owner</dc:creator>
  <dc:description/>
  <dc:language>en-US</dc:language>
  <cp:lastModifiedBy>Owner</cp:lastModifiedBy>
  <dcterms:modified xsi:type="dcterms:W3CDTF">2008-12-31T14:03:48Z</dcterms:modified>
  <cp:revision>20</cp:revision>
  <dc:subject/>
  <dc:title>The Human Population</dc:title>
</cp:coreProperties>
</file>