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07F-0B88-42B5-BB16-C4CDE69E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44C-D487-4966-95EF-2270D2F7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A4B-3FDF-4BB7-8FCF-00D6EBBD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DED-3D47-445E-84BD-F0951353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F07-B60A-451F-8B47-3F1EECFB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BEC-2EF8-4797-8708-4DEDA845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C45-5B92-4D5F-804F-E1FA92B3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880-5C8D-4E70-9B9B-913BA985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ED1-7E8D-4F21-AE44-D7408A98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7F8-ADC3-4EDE-A17B-84D46A23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392-4A2F-4C47-A347-E1FA602D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E87-02F5-418E-AF30-DC412C15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E0E1-DAFE-49D7-AE1E-3EDE253BD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991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09720" y="942840"/>
            <a:ext cx="37245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54636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4692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08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02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sterday’s wind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200’s Europeans used mills to grind grain between mill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600’s the Dutch used windmills to pump water, draining flood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mills made Holland one of the world’s most industrialized countries in the 17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71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nding cocoa, gunpowder and mus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mills pressed oil from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 mills processed cowhides and animal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 mills ground pigments for paint as well as herb and chemicals for medi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mills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olonists used windmills to grind grain, cut wood and pump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used windmills to generate electricity in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5733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scovery of coal and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890’s the first windmills were designed to generat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ly thereafter, large power plants were built running off coal and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no longer needed wind turb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for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is the fastest growing energy source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is the world leader in terms of installed wi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Dakota, alone has greater wind energy potential than all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ind power generating capacity grew by 45% in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generated 1.5% of U.S. electricity in 2008 powering 5.7 million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p three wind generating states are: Texas, California and Iow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expected to provide 6% of the nations energy by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big are the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as V-80 2.0 MW wind tur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 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300,000 to purchase and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70 semi trucks to deliver all the parts to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54640" y="1295280"/>
            <a:ext cx="468936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your own Turbine blades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High School is accepting proposals from local wind energy design engineers for turbine blades to be used in our new school wind tur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as a team you must design and build blades to fit on the turbine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model will be tested against other t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am that generates the most electricity will win a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7:15:29Z</dcterms:created>
  <dc:creator>Owner</dc:creator>
  <dc:description/>
  <dc:language>en-US</dc:language>
  <cp:lastModifiedBy>L-Net</cp:lastModifiedBy>
  <dcterms:modified xsi:type="dcterms:W3CDTF">2009-03-09T12:21:44Z</dcterms:modified>
  <cp:revision>16</cp:revision>
  <dc:subject/>
  <dc:title>Wind Energy</dc:title>
</cp:coreProperties>
</file>