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1A8-7B75-48AE-8C24-47670064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648-4B99-4EEA-A854-3335831C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EF1-6FFF-4F9F-985C-83CDC5BC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EB4-20FC-4D9F-9283-8811873D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4E6-BC07-4F80-9E2C-1A3A0DD7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428-145A-4061-9401-785206B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896-C99C-4540-99D6-99BD2933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64A-A505-47DD-A9BD-4537B601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3B4-9C51-4F46-9A3E-FBD62E0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10E-8940-487F-960F-953AD96C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55B-6B79-437C-A4CE-2BB898D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404-2EE9-4650-8B5D-5FE1155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634-172A-4B12-BF8F-3978EB9B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991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9720" y="942840"/>
            <a:ext cx="3724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463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46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08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02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sterday’s wind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200’s Europeans used mills to grind grain between mill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0’s the Dutch used windmills to pump water, draining flood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mills made Holland one of the world’s most industrialized countries in the 17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1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nding cocoa, gunpowder and mus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mills pressed oil from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mills processed cowhides and animal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mills ground pigments for paint as well as herb and chemicals for 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mills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onists used windmills to grind grain, cut wood and pump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used windmills to generate electricity in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5733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covery of coal and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90’s the first windmills were designed 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ly thereafter, large power plants were built running off coal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no longer needed wind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for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is the fastest growing energy sourc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is the world leader in terms of installe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Dakota, alone has greater wind energy potential than all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ind power generating capacity grew by 45% in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generated 1.5% of U.S. electricity in 2008 powering 5.7 millio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 three wind generating states are: Texas, California and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expected to provide 6% of the nations energy by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big are the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as V-80 2.0 MW wind tur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 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300,000 to purchase and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70 semi trucks to deliver all the parts to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54640" y="1295280"/>
            <a:ext cx="4689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your own Turbine blades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High School is accepting proposals from local wind energy design engineers for turbine blades to be used in our new school wind tur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as a team you must design and build blades to fit on the turbine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model will be tested against other t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am that generates the most electricity will win a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7:15:29Z</dcterms:created>
  <dc:creator>Owner</dc:creator>
  <dc:description/>
  <dc:language>en-US</dc:language>
  <cp:lastModifiedBy>L-Net</cp:lastModifiedBy>
  <dcterms:modified xsi:type="dcterms:W3CDTF">2009-03-09T12:21:44Z</dcterms:modified>
  <cp:revision>16</cp:revision>
  <dc:subject/>
  <dc:title>Wind Energy</dc:title>
</cp:coreProperties>
</file>