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7B2-A3A6-4F94-AF70-0E216C38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45E-50D6-4B3C-83C8-9384C40C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552-8C95-4469-8668-B6AFF1A6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113-537A-487B-BE85-0D2B7EFF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618-337C-4530-B723-15D52BC0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B72-22B9-423B-9DB3-1AC12D04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492-7301-4E3E-8815-8693773E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10C-029B-4F37-B2F5-9A6D5A89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764-7D30-4DF4-A5AB-42CD4CAB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E95-B970-4291-88AC-E59141CB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95D-0657-4FC1-84DD-A5C15331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C96-C3DF-44F4-B63F-065804F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16C2-D4A7-4EC7-AA9B-F53B60271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991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09720" y="942840"/>
            <a:ext cx="372456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354636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4692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508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02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sterday’s windm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200’s Europeans used mills to grind grain between mill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600’s the Dutch used windmills to pump water, draining flood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mills made Holland one of the world’s most industrialized countries in the 17th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71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inding cocoa, gunpowder and must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mills pressed oil from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e mills processed cowhides and animal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 mills ground pigments for paint as well as herb and chemicals for medic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mills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colonists used windmills to grind grain, cut wood and pump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used windmills to generate electricity in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5733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scovery of coal and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890’s the first windmills were designed to generat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ly thereafter, large power plants were built running off coal and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no longer needed wind turb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for 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is the fastest growing energy source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is the world leader in terms of installed wi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Dakota, alone has greater wind energy potential than all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wind power generating capacity grew by 45% in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generated 1.5% of U.S. electricity in 2008 powering 5.7 million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p three wind generating states are: Texas, California and Iow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is expected to provide 6% of the nations energy by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big are the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as V-80 2.0 MW wind tur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 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300,000 to purchase and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70 semi trucks to deliver all the parts to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54640" y="1295280"/>
            <a:ext cx="468936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your own Turbine blades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High School is accepting proposals from local wind energy design engineers for turbine blades to be used in our new school wind turb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as a team you must design and build blades to fit on the turbine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model will be tested against other t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am that generates the most electricity will win a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7:15:29Z</dcterms:created>
  <dc:creator>Owner</dc:creator>
  <dc:description/>
  <dc:language>en-US</dc:language>
  <cp:lastModifiedBy>L-Net</cp:lastModifiedBy>
  <dcterms:modified xsi:type="dcterms:W3CDTF">2009-03-09T12:21:44Z</dcterms:modified>
  <cp:revision>16</cp:revision>
  <dc:subject/>
  <dc:title>Wind Energy</dc:title>
</cp:coreProperties>
</file>