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F462-09FB-4517-B255-3E0DD8849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7E69-6F5E-479F-8133-4C617506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7BBB-2312-40CB-B75D-1C2B3BB91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DEEA-5D01-473C-AB00-8D7FAE41F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69A5-0DB8-40F1-B933-01988180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8D54-0A69-4506-A9AC-F7B45B3E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3021-91CF-46B2-9F0B-A7756489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BBB4-CA5A-491C-BE98-9F6D03A9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7C53-1A33-4C2E-B1FE-43B99F64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29DF-F7FB-4CF1-B1C5-D363709E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E659-9445-4331-A3F0-B0EA5E84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E5C6-7178-4E3C-938D-AF8E1CB7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351D-9CD1-48BC-994F-68F1ADA32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nd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438280" y="228600"/>
            <a:ext cx="4799160" cy="63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709720" y="942840"/>
            <a:ext cx="372456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971800" y="304920"/>
            <a:ext cx="354636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4692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65088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1024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sterday’s windm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200’s Europeans used mills to grind grain between millst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600’s the Dutch used windmills to pump water, draining flooded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mills made Holland one of the world’s most industrialized countries in the 17th Cen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181480" y="1676520"/>
            <a:ext cx="307188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were they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inding cocoa, gunpowder and must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il mills pressed oil from s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ue mills processed cowhides and animal 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nt mills ground pigments for paint as well as herb and chemicals for medic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ndmills in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 colonists used windmills to grind grain, cut wood and pump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s used windmills to generate electricity in the 1920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76920" y="1523880"/>
            <a:ext cx="357336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discovery of coal and o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1890’s the first windmills were designed to generate electr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rtly thereafter, large power plants were built running off coal and 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no longer needed wind turb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nd energy for the fut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 is the fastest growing energy source in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rmany is the world leader in terms of installed wind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 Dakota, alone has greater wind energy potential than all of 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nd energy in the U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 wind power generating capacity grew by 45% in 200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 energy generated 1.5% of U.S. electricity in 2008 powering 5.7 million h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op three wind generating states are: Texas, California and Iow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 energy is expected to provide 6% of the nations energy by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ow big are the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stas V-80 2.0 MW wind turb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0 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$300,000 to purchase and inst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takes 70 semi trucks to deliver all the parts to the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454640" y="1295280"/>
            <a:ext cx="4689360" cy="54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ign your own Turbine blades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3047760"/>
            <a:ext cx="6934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osevelt High School is accepting proposals from local wind energy design engineers for turbine blades to be used in our new school wind turb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ing as a team you must design and build blades to fit on the turbine sh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model will be tested against other te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eam that generates the most electricity will win a p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7T17:15:29Z</dcterms:created>
  <dc:creator>Owner</dc:creator>
  <dc:description/>
  <dc:language>en-US</dc:language>
  <cp:lastModifiedBy>L-Net</cp:lastModifiedBy>
  <dcterms:modified xsi:type="dcterms:W3CDTF">2009-03-09T12:21:44Z</dcterms:modified>
  <cp:revision>16</cp:revision>
  <dc:subject/>
  <dc:title>Wind Energy</dc:title>
</cp:coreProperties>
</file>