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EB5-ADFE-4D5E-844B-099D628B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9EF-E025-46E1-8786-F560B199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B84-599D-4FE8-A5DB-68844BAA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5D7-7CED-485C-9697-BC23359B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5F6-3316-4F94-9390-0F893126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8D9-5149-4CFB-A80B-EBFA4B32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D19-5506-40E8-9A2C-79F14BD6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7F3-4A71-45CF-AC54-F337AADF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DF1-BD12-4D34-BC49-A0C8142A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060-E330-4A40-A2F0-D6498981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235-F32C-4B8D-843B-CDC0DAC7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12B-7FAF-4714-8EF2-1CBE2174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3AE0-6F7C-4FBB-B97B-B5D114F24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991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09720" y="942840"/>
            <a:ext cx="372456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354636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4692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508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02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sterday’s windm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200’s Europeans used mills to grind grain between mill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600’s the Dutch used windmills to pump water, draining flood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mills made Holland one of the world’s most industrialized countries in the 17th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71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inding cocoa, gunpowder and must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mills pressed oil from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e mills processed cowhides and animal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 mills ground pigments for paint as well as herb and chemicals for medic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mills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colonists used windmills to grind grain, cut wood and pump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used windmills to generate electricity in the 19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5733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scovery of coal and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890’s the first windmills were designed to generat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ly thereafter, large power plants were built running off coal and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no longer needed wind turb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for 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is the fastest growing energy source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is the world leader in terms of installed wi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Dakota, alone has greater wind energy potential than all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 energy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wind power generating capacity grew by 45% in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generated 1.5% of U.S. electricity in 2008 powering 5.7 million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p three wind generating states are: Texas, California and Iow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is expected to provide 6% of the nations energy by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big are the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as V-80 2.0 MW wind tur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 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300,000 to purchase and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70 semi trucks to deliver all the parts to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54640" y="1295280"/>
            <a:ext cx="468936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your own Turbine blades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High School is accepting proposals from local wind energy design engineers for turbine blades to be used in our new school wind turb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as a team you must design and build blades to fit on the turbine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model will be tested against other t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am that generates the most electricity will win a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7:15:29Z</dcterms:created>
  <dc:creator>Owner</dc:creator>
  <dc:description/>
  <dc:language>en-US</dc:language>
  <cp:lastModifiedBy>L-Net</cp:lastModifiedBy>
  <dcterms:modified xsi:type="dcterms:W3CDTF">2009-03-09T12:21:44Z</dcterms:modified>
  <cp:revision>16</cp:revision>
  <dc:subject/>
  <dc:title>Wind Energy</dc:title>
</cp:coreProperties>
</file>