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C79-AB47-4AC6-A1FF-73A4383B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FDC-EF9D-49C3-AD19-7A00939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499-E0B6-4537-A81B-87032235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24B-C125-44B3-B726-2057233D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96D4-5A08-4E7C-A8ED-CBDB9FD1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2FBC-AC63-4267-8B5C-A905403A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74D-BCC5-4977-A92D-947178D2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B543-6CE0-41DC-ACF4-8F92810C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574E-F531-4CAE-A181-342F836E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EB9E-3C3F-4E09-BF26-110E9EF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A2E0-5A6F-4637-AEC0-8D066D9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269-D6AD-4F69-B984-94391DA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23BF-C5F8-4F8A-939F-D69C1CF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961F-27F3-4B8D-858D-979EB5DF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8019-949C-4F44-9CAB-D9FF6E3D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FC9D-D692-4BED-B07C-E80A0468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E84-A1D2-4F03-85D4-31CBA363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B78-80F9-4CDF-B769-32BE5B1C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51A-B99B-43EB-B6C9-62C77D1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9DB-9E27-4CDE-B529-B1A0C0BE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2E3-B51C-41DC-884C-659A624D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7E3-56D0-4F81-8586-E9229ED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0F5-7487-4EC4-BD31-138A3E7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E6B-E07C-49BF-AF4B-39BAE768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BC91-4C3F-49A2-B96C-3CC80BA3E1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FCC-0302-4589-B16A-CBCFF40D7C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1DNjJd2YfA" TargetMode="External"/><Relationship Id="rId2" Type="http://schemas.openxmlformats.org/officeDocument/2006/relationships/hyperlink" Target="http://www.youtube.com/watch?v=GsjANjFlK0M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don Smog of 195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52, London abandoned their electric tramcars in favor of diesel bu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added to pollution already coming from burning c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ember 1952 was cold and fog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pollution was trapped by an inversion laye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stimated 4,000 people died from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Car in fog"/>
          <p:cNvPicPr/>
          <p:nvPr/>
        </p:nvPicPr>
        <p:blipFill>
          <a:blip r:embed="rId1"/>
          <a:stretch/>
        </p:blipFill>
        <p:spPr>
          <a:xfrm>
            <a:off x="5029200" y="1600200"/>
            <a:ext cx="3333600" cy="2257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Smog"/>
          <p:cNvPicPr/>
          <p:nvPr/>
        </p:nvPicPr>
        <p:blipFill>
          <a:blip r:embed="rId2"/>
          <a:stretch/>
        </p:blipFill>
        <p:spPr>
          <a:xfrm>
            <a:off x="5029200" y="4267080"/>
            <a:ext cx="342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Health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idence of diseases associated with exposure to particulates is relatively high in Black Hawk Coun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hma hospitalization rates among African-American citizens of Black Hawk County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5 times higher than the overall county average, and 40% higher than the state average hospitalization ra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the scientific evidence, the current Particulate Matter standard of 15 μg/m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es not protect public heal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ommend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recommend that the state lower its annual average PM2.5 standard to 12 μg/m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advocate for a moratorium on the permitting of any and all state-regulated coal-fired facil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Study -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 is building coal fired power plants at a rate of two each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youtube.com/watch?v=-1DNjJd2Y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youtube.com/watch?v=GsjANjFlK0M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perature Inv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, warm air rises through cooler air, taking pollution away from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temperature inversion occ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becomes trapped near the Earth’s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19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lean Air Act (19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an Air Act gave the federal government authority to clean up ai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set maximum limits on pollutants that can be in the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limits emissions fro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regulates vehicle emissions and required the gradual elimination of lead from 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monitors air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 it work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70, the 6 major pollutants have de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ars have 95% fewer emissions that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pollution has been reduced by more than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consumption has in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hicle use has increased by 2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r Quality Ind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2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ined Animal Feeding Ope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than 25 studies of CAFO workers show that 25-30% of them report serious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wans living within a two-mile radius of a 4,000-hog unit reported more respiratory and other symptoms than did people not living near a CA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stitute for Agriculture and Trade Policy, University of Iow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159080" cy="2841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906640" cy="2175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448520" y="624852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ypical confinement holds 2500 h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e Study – BlackHawk County, 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7 a proposal was made to construct and operate a 750 MW power plant immediately east of the City of Waterl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was presented on the human health effects of such a pl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133720" y="315288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lution in BlackHawk Cou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te Matter was found to be the most serious health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ir quality concentrations exceed national ai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3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Particulate Matter lev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7:23:04Z</dcterms:created>
  <dc:creator>Owner</dc:creator>
  <dc:description/>
  <dc:language>en-US</dc:language>
  <cp:lastModifiedBy>L-Net</cp:lastModifiedBy>
  <dcterms:modified xsi:type="dcterms:W3CDTF">2008-10-22T20:19:15Z</dcterms:modified>
  <cp:revision>26</cp:revision>
  <dc:subject/>
  <dc:title>Slide 1</dc:title>
</cp:coreProperties>
</file>