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0035-F14B-434E-B962-25D0CDF11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55AC-4D87-4824-A095-B803AC38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0458-2685-4BA2-AFEE-277AB89B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C415-58CA-4D3D-8557-04E64CC33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BFC0-1433-47B8-AE86-43CA9AA4E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BED3-CE1D-411A-970F-D4E9F78C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542C-1F12-4B33-9C63-E1A4AB71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4B45-84D2-4F8F-9195-0EBFCF2A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9AEF-6790-4DD4-B9BA-CC283CA9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737B-3370-4823-BEE4-8C3B1D1E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63C3-5FD9-470B-851C-568DE756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9A74-D977-4CDE-BB0E-74C6C43B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D531-B84E-49CE-827C-C996F78B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9C1D-A6F3-47F1-AA5F-55AAB20E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13E3-41AA-4CFC-8FE6-133E1083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4610-F9ED-462B-B905-98A747B7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BDF8-E8A2-41E9-9A28-1FC7D78CB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5156-6D4C-4040-9BE4-21C60288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155F-0B2C-4616-A547-0420C4F4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B8C9-D2C9-4DEA-B2EC-71EF113A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DFC9-88C4-432F-BF0A-F30B976F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48C5-4BD0-4777-AA2D-8DB39A57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E032-DB2D-4E09-8929-6200436A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BA37-9431-403A-9788-68A6839B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BB8D-8759-4FB1-AEEB-0A01142684C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5736-4387-46A4-AC56-641C028C337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-1DNjJd2YfA" TargetMode="External"/><Relationship Id="rId2" Type="http://schemas.openxmlformats.org/officeDocument/2006/relationships/hyperlink" Target="http://www.youtube.com/watch?v=GsjANjFlK0M&amp;feature=related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London Smog of 1952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419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1952, London abandoned their electric tramcars in favor of diesel bus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added to pollution already coming from burning co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ember 1952 was cold and fogg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air pollution was trapped by an inversion layer abo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estimated 4,000 people died from respiratory proble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" descr="Car in fog"/>
          <p:cNvPicPr/>
          <p:nvPr/>
        </p:nvPicPr>
        <p:blipFill>
          <a:blip r:embed="rId1"/>
          <a:stretch/>
        </p:blipFill>
        <p:spPr>
          <a:xfrm>
            <a:off x="5029200" y="1600200"/>
            <a:ext cx="3333600" cy="22575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Smog"/>
          <p:cNvPicPr/>
          <p:nvPr/>
        </p:nvPicPr>
        <p:blipFill>
          <a:blip r:embed="rId2"/>
          <a:stretch/>
        </p:blipFill>
        <p:spPr>
          <a:xfrm>
            <a:off x="5029200" y="4267080"/>
            <a:ext cx="34290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uman Health Effec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cidence of diseases associated with exposure to particulates is relatively high in Black Hawk Coun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thma hospitalization rates among African-American citizens of Black Hawk County 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5 times higher than the overall county average, and 40% higher than the state average hospitalization rat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nclusions and Recommendatio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ed on the scientific evidence, the current Particulate Matter standard of 15 μg/m3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oes not protect public healt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commendations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Black Hawk County Board of Health should recommend that the state lower its annual average PM2.5 standard to 12 μg/m3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Black Hawk County Board of Health should advocate for a moratorium on the permitting of any and all state-regulated coal-fired facilit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ase Study - Chin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ina is building coal fired power plants at a rate of two each we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http://www.youtube.com/watch?v=-1DNjJd2Yf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http://www.youtube.com/watch?v=GsjANjFlK0M&amp;feature=rel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emperature Invers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ually, warm air rises through cooler air, taking pollution away from the grou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times a temperature inversion occu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lution becomes trapped near the Earth’s surf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5105520" y="1447920"/>
            <a:ext cx="361944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Clean Air Act (1970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lean Air Act gave the federal government authority to clean up air pollu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PA set maximum limits on pollutants that can be in the ai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PA limits emissions from indu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PA regulates vehicle emissions and required the gradual elimination of lead from gaso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PA monitors air qua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s it working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ce 1970, the 6 major pollutants have decreased by 5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cars have 95% fewer emissions that 30 years a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d pollution has been reduced by more than 9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ev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ergy consumption has increased by 5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hicle use has increased by 20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ir Quality Index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729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nfined Animal Feeding Operatio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re than 25 studies of CAFO workers show that 25-30% of them report serious respiratory proble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owans living within a two-mile radius of a 4,000-hog unit reported more respiratory and other symptoms than did people not living near a CAF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Institute for Agriculture and Trade Policy, University of Iowa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4572000" y="3505320"/>
            <a:ext cx="4159080" cy="284148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105520" y="1295280"/>
            <a:ext cx="2906640" cy="21751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4448520" y="6248520"/>
            <a:ext cx="43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typical confinement holds 2500 ho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ase Study – BlackHawk County, I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54064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2007 a proposal was made to construct and operate a 750 MW power plant immediately east of the City of Waterlo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report was presented on the human health effects of such a pla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1680" y="3925440"/>
            <a:ext cx="854064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2133720" y="3152880"/>
            <a:ext cx="571500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llution in BlackHawk Coun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iculate Matter was found to be the most serious health conce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ent air quality concentrations exceed national air quality stand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7391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ational Particulate Matter leve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305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17:23:04Z</dcterms:created>
  <dc:creator>Owner</dc:creator>
  <dc:description/>
  <dc:language>en-US</dc:language>
  <cp:lastModifiedBy>L-Net</cp:lastModifiedBy>
  <dcterms:modified xsi:type="dcterms:W3CDTF">2008-10-22T20:19:15Z</dcterms:modified>
  <cp:revision>26</cp:revision>
  <dc:subject/>
  <dc:title>Slide 1</dc:title>
</cp:coreProperties>
</file>