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23959-CF88-459F-A0BF-E5AB22F22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7361F-A6D2-4038-A197-412A95AA2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323ED-ADAF-401B-AC0F-BDAD144A6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F8DAC-5D90-420A-BEA3-BFEA53128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796BE-D5E0-479B-BA77-E97B818CF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A1C90-65AB-47C0-B5FE-56A3DB7E7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B5A96-BF71-4154-81EC-D05F0F4F5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C532D-5466-4AE0-B2BD-50866D536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53B45-4C97-4FC7-B679-74EBCBED3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7755F-A4C6-4A6A-B606-2BBF00737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77D21-2142-4F65-8000-C9C07AD9F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3B9AA-D165-4274-AF06-B5EF7C79D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5A53-564C-494F-98DA-C9D6BDC1DE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57200"/>
            <a:ext cx="7772400" cy="124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we know what our climate was like thousands of years ago?</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133720" y="2743200"/>
            <a:ext cx="4667040" cy="334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len Grai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99cc00"/>
          </a:solidFill>
          <a:ln w="76320">
            <a:solidFill>
              <a:srgbClr val="993366"/>
            </a:solidFill>
            <a:miter/>
          </a:ln>
        </p:spPr>
        <p:txBody>
          <a:bodyPr lIns="90000" rIns="90000" tIns="46800" bIns="46800"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Trapped in these sediments are several different varieties of pollen grains</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By looking at these sediments we can reconstruct the vegetation in the farm’s area during the last several thousand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Assignment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solidFill>
            <a:srgbClr val="ff9900"/>
          </a:solidFill>
          <a:ln w="76320">
            <a:solidFill>
              <a:srgbClr val="800080"/>
            </a:solidFill>
            <a:miter/>
          </a:ln>
        </p:spPr>
        <p:txBody>
          <a:bodyPr lIns="90000" rIns="90000" tIns="46800" bIns="46800"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Based on pollen data collected from a peat bog in  Colorado</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You will analyze sediment samples with other material mixed in to represent pollen grains</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Using the key you will determine the type and amount of “pollen” in the s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Assignmen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solidFill>
            <a:srgbClr val="993366"/>
          </a:solidFill>
          <a:ln w="76320">
            <a:solidFill>
              <a:srgbClr val="ffcc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is information you will determ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of veget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 of the samples 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conclusions about the likely climate at the time the pollen was s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will:</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solidFill>
            <a:srgbClr val="ffcc00"/>
          </a:solidFill>
          <a:ln w="76320">
            <a:solidFill>
              <a:srgbClr val="993366"/>
            </a:solidFill>
            <a:miter/>
          </a:ln>
        </p:spPr>
        <p:txBody>
          <a:bodyPr lIns="90000" rIns="90000" tIns="46800" bIns="46800" anchor="t">
            <a:normAutofit/>
          </a:bodyPr>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Work in pairs</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Be given a sediment sample, tweezers, and pie pan</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ift and dig until you have found ALL of the pollen in your sediment sample</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parate the pollen grains by color or shape</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Use the pollen key to determine what species of plants are represented from each sample and calculate what percentage comes from each species for the sediment layer you are working on</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ecord this information on your data sheet</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Use this information to decide what the climate was like when your layer was deposited</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ompare your sample to those from other layers of the sediment core</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omplete work sheet and one paragraph description of the climate for your co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assessmen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with the paleoclimatologists who studied each of the six sediment lay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class data to construct a timeline representing the last 8,000 years. On your timeline indicate what species were most common and a brief summary of the climate during that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e Core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collect a cylindrical section of ice from a glacier or an ice shee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analyses are performed on air trapped in the 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can estimate the percentage of carbon dioxide and other trace gases in the atmosphere at a given time. </a:t>
            </a:r>
            <a:endParaRPr b="0" lang="en-US" sz="2400" spc="-1" strike="noStrike">
              <a:solidFill>
                <a:srgbClr val="000000"/>
              </a:solidFill>
              <a:latin typeface="Arial"/>
            </a:endParaRPr>
          </a:p>
        </p:txBody>
      </p:sp>
      <p:sp>
        <p:nvSpPr>
          <p:cNvPr id="46"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4648320" y="304920"/>
            <a:ext cx="4189320" cy="3581280"/>
          </a:xfrm>
          <a:prstGeom prst="rect">
            <a:avLst/>
          </a:prstGeom>
          <a:ln w="0">
            <a:noFill/>
          </a:ln>
        </p:spPr>
      </p:pic>
      <p:pic>
        <p:nvPicPr>
          <p:cNvPr id="48" name="" descr=""/>
          <p:cNvPicPr/>
          <p:nvPr/>
        </p:nvPicPr>
        <p:blipFill>
          <a:blip r:embed="rId2"/>
          <a:stretch/>
        </p:blipFill>
        <p:spPr>
          <a:xfrm>
            <a:off x="5029200" y="4038480"/>
            <a:ext cx="3446640" cy="258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s in Carbon dioxide in the Atmosphere from 1700 to 2000</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533520" y="1752480"/>
            <a:ext cx="8109000" cy="465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914400" y="380880"/>
            <a:ext cx="7772400" cy="597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e rings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Plant Fossils</a:t>
            </a:r>
            <a:endParaRPr b="0" lang="en-US" sz="4400" spc="-1" strike="noStrike">
              <a:solidFill>
                <a:srgbClr val="000000"/>
              </a:solidFill>
              <a:latin typeface="Arial"/>
            </a:endParaRPr>
          </a:p>
        </p:txBody>
      </p:sp>
      <p:pic>
        <p:nvPicPr>
          <p:cNvPr id="55" name="" descr=""/>
          <p:cNvPicPr/>
          <p:nvPr/>
        </p:nvPicPr>
        <p:blipFill>
          <a:blip r:embed="rId1"/>
          <a:stretch/>
        </p:blipFill>
        <p:spPr>
          <a:xfrm>
            <a:off x="457200" y="1600200"/>
            <a:ext cx="4038480" cy="4525920"/>
          </a:xfrm>
          <a:prstGeom prst="rect">
            <a:avLst/>
          </a:prstGeom>
          <a:ln w="0">
            <a:noFill/>
          </a:ln>
        </p:spPr>
      </p:pic>
      <p:pic>
        <p:nvPicPr>
          <p:cNvPr id="56" name="" descr=""/>
          <p:cNvPicPr/>
          <p:nvPr/>
        </p:nvPicPr>
        <p:blipFill>
          <a:blip r:embed="rId2"/>
          <a:stretch/>
        </p:blipFill>
        <p:spPr>
          <a:xfrm>
            <a:off x="4648320" y="1600200"/>
            <a:ext cx="4038480" cy="4525920"/>
          </a:xfrm>
          <a:prstGeom prst="rect">
            <a:avLst/>
          </a:prstGeom>
          <a:ln w="0">
            <a:noFill/>
          </a:ln>
        </p:spPr>
      </p:pic>
      <p:pic>
        <p:nvPicPr>
          <p:cNvPr id="57" name="" descr=""/>
          <p:cNvPicPr/>
          <p:nvPr/>
        </p:nvPicPr>
        <p:blipFill>
          <a:blip r:embed="rId3"/>
          <a:stretch/>
        </p:blipFill>
        <p:spPr>
          <a:xfrm>
            <a:off x="457200" y="1828800"/>
            <a:ext cx="3648240" cy="3755880"/>
          </a:xfrm>
          <a:prstGeom prst="rect">
            <a:avLst/>
          </a:prstGeom>
          <a:ln w="0">
            <a:noFill/>
          </a:ln>
        </p:spPr>
      </p:pic>
      <p:pic>
        <p:nvPicPr>
          <p:cNvPr id="58" name="" descr=""/>
          <p:cNvPicPr/>
          <p:nvPr/>
        </p:nvPicPr>
        <p:blipFill>
          <a:blip r:embed="rId4"/>
          <a:stretch/>
        </p:blipFill>
        <p:spPr>
          <a:xfrm>
            <a:off x="4648320" y="1828800"/>
            <a:ext cx="407664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len recor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en grains can accumulate in sedi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ypes of pollen in sediment reflect the vegetation of that tim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vegetation we can determine the climate</a:t>
            </a:r>
            <a:endParaRPr b="0" lang="en-US" sz="2800" spc="-1" strike="noStrike">
              <a:solidFill>
                <a:srgbClr val="000000"/>
              </a:solidFill>
              <a:latin typeface="Arial"/>
            </a:endParaRPr>
          </a:p>
        </p:txBody>
      </p:sp>
      <p:sp>
        <p:nvSpPr>
          <p:cNvPr id="6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5029200" y="1371600"/>
            <a:ext cx="3703680" cy="48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leoclimate of Blackhawk, Colorado</a:t>
            </a:r>
            <a:endParaRPr b="0" lang="en-US" sz="4400" spc="-1" strike="noStrike">
              <a:solidFill>
                <a:srgbClr val="000000"/>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t Bog</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2971800"/>
          </a:xfrm>
          <a:prstGeom prst="rect">
            <a:avLst/>
          </a:prstGeom>
          <a:solidFill>
            <a:srgbClr val="993366"/>
          </a:solidFill>
          <a:ln w="76320">
            <a:solidFill>
              <a:srgbClr val="ffcc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valley on a  farm a peat bog develo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at bog and soils underneath it have been in existence for eons and collected sediments over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09480" y="609480"/>
            <a:ext cx="7678800" cy="575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14:39:03Z</dcterms:created>
  <dc:creator>Owner</dc:creator>
  <dc:description/>
  <dc:language>en-US</dc:language>
  <cp:lastModifiedBy>Owner</cp:lastModifiedBy>
  <dcterms:modified xsi:type="dcterms:W3CDTF">2010-02-19T23:13:17Z</dcterms:modified>
  <cp:revision>15</cp:revision>
  <dc:subject/>
  <dc:title>How do we know what our climate was like thousands of years ago?</dc:title>
</cp:coreProperties>
</file>