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66F-7105-4C53-BA10-996C3FC7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D29-3F25-4983-9369-D49BF674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316-AB87-45DD-8F33-1AB15CA8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652-FFD7-4114-96C0-7DE103CC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BD9-3B54-4AF9-80C1-50583CE2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EB7F-FB1F-4264-8C7A-4CCA0B6F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5C4-228A-45C0-9CA7-FCFFF0E6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2F6-4440-45E0-90AD-8A2ECB3C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9DB-4CB6-4370-9683-0B9B0119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A24-7982-4A93-B9DD-3EF8C820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535-16C3-4075-A66D-E8D35F48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1E4-35D7-472A-BC0E-8EF630ED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7A16-C715-491F-8CA2-AEA0AEC6B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we know what our climate was like thousands of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46670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e 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collect a cylindrical section of ice from a glacier or an ice she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analyses are performed on air trapped in the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can estimate the percentage of carbon dioxide and other trace gases in the atmosphere at a given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189320" cy="358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4466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Carbon dioxide in the Atmosphere from 1700 to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090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 ring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Foss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3648240" cy="375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648320" y="1828800"/>
            <a:ext cx="4076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en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en grains can accumulate in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ypes of pollen in sediment reflect the vegetation of that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vegetation we can determine the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7036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4:39:03Z</dcterms:created>
  <dc:creator>Owner</dc:creator>
  <dc:description/>
  <dc:language>en-US</dc:language>
  <cp:lastModifiedBy>Owner</cp:lastModifiedBy>
  <dcterms:modified xsi:type="dcterms:W3CDTF">2009-02-08T15:25:22Z</dcterms:modified>
  <cp:revision>6</cp:revision>
  <dc:subject/>
  <dc:title>How do we know what our climate was like thousands of years ago?</dc:title>
</cp:coreProperties>
</file>