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F1C-CCC9-4FAE-A6EC-4A63303B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0CC-2BCF-490C-A409-98DB45F7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9AB-670A-4B5D-8B12-02BCE175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038-360A-46FC-98E6-38B7CA32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A11-D5C0-437E-8F46-CF4C869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4B8-07ED-4F83-A60A-BAFF640A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348-7640-4340-A827-C4FC6D5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F8C-00E1-4A59-A957-CEFECAFB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ADA-3E49-4D06-ABED-B4C0362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8B8-5EB9-42E3-9A82-B4A8FFA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B8E-7A03-4B63-9194-3055D52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E6C-2EE8-48EA-B047-7A2DDDD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45EA-F1FF-419D-A73D-E412284A5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know what our climate was like thousands of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667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ollect a cylindrical section of ice from a glacier or an ice 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analyses are performed on air trapped in the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an estimate the percentage of carbon dioxide and other trace gases in the atmosphere at a give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8932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446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Carbon dioxide in the Atmosphere from 1700 t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09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r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648240" cy="375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1828800"/>
            <a:ext cx="4076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en grains can accumulate in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pollen in sediment reflect the vegetation of tha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vegetation we can determine the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703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39:03Z</dcterms:created>
  <dc:creator>Owner</dc:creator>
  <dc:description/>
  <dc:language>en-US</dc:language>
  <cp:lastModifiedBy>Owner</cp:lastModifiedBy>
  <dcterms:modified xsi:type="dcterms:W3CDTF">2009-02-08T15:25:22Z</dcterms:modified>
  <cp:revision>6</cp:revision>
  <dc:subject/>
  <dc:title>How do we know what our climate was like thousands of years ago?</dc:title>
</cp:coreProperties>
</file>