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3D9-894C-4684-8540-CE07A17B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B5B-9405-4823-8760-F3FD63EF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AFB-AB07-4E89-BC81-BD84A4D2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9C8-D80A-4A97-B396-BA57EAEF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DD4-1CA6-47BC-8136-1C6646C7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20A-8AA4-41F0-8643-0CE79BD8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9C0-87FF-4FA6-B937-4AAD47FD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9940-37F0-4E23-8A76-5B0C535F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0A2-79C9-4491-9798-F26256D2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A25-104F-4C7A-8BB0-EBD5C1F1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971-252E-4545-86B0-A9EAF391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B8C-4556-4BDF-8045-C11314BC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B6B3-79F9-4382-9A26-D0B0CC258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we know what our climate was like thousands of years 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46670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e 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collect a cylindrical section of ice from a glacier or an ice she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analyses are performed on air trapped in the 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can estimate the percentage of carbon dioxide and other trace gases in the atmosphere at a given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189320" cy="358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038480"/>
            <a:ext cx="34466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in Carbon dioxide in the Atmosphere from 1700 to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0900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 ring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Foss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1828800"/>
            <a:ext cx="3648240" cy="375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648320" y="1828800"/>
            <a:ext cx="4076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en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en grains can accumulate in sed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ypes of pollen in sediment reflect the vegetation of that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vegetation we can determine the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7036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4:39:03Z</dcterms:created>
  <dc:creator>Owner</dc:creator>
  <dc:description/>
  <dc:language>en-US</dc:language>
  <cp:lastModifiedBy>Owner</cp:lastModifiedBy>
  <dcterms:modified xsi:type="dcterms:W3CDTF">2009-02-08T15:25:22Z</dcterms:modified>
  <cp:revision>6</cp:revision>
  <dc:subject/>
  <dc:title>How do we know what our climate was like thousands of years ago?</dc:title>
</cp:coreProperties>
</file>