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8464F-AC2F-48FE-AD1A-E5AA9F2DF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F7ABB-5E4B-4605-A7A5-3CA2BE0B0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D6E93-D964-4E02-88DC-70D22E148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B509D-44F6-46F8-82FD-68D1B87D4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8830A-FBB8-4AE0-BABB-55E1E4790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DA145-D899-4EB2-A8B1-E0129302C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212FD-5208-436C-BC81-D7FC388CA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F4B14-AF1A-41DD-A6C4-9AD245A8C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A4B27-31CB-4B89-8636-54B466EAA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5F392-24C5-4D64-803C-96F907A6F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364F2-FE95-4809-98EB-4686D79EC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8B1CB-3D67-4EC9-9D0E-01CD0BD38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5578B-F190-492D-A96B-C972A51A4C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777240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 we know what our climate was like thousands of years ag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133720" y="2743200"/>
            <a:ext cx="4667040" cy="33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ce Co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ientists collect a cylindrical section of ice from a glacier or an ice shee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mical analyses are performed on air trapped in the 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ientists can estimate the percentage of carbon dioxide and other trace gases in the atmosphere at a given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648320" y="304920"/>
            <a:ext cx="4189320" cy="35812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029200" y="4038480"/>
            <a:ext cx="344664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nges in Carbon dioxide in the Atmosphere from 1700 to 20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533520" y="1752480"/>
            <a:ext cx="8109000" cy="465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ee rings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nt Fossi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457200" y="1828800"/>
            <a:ext cx="3648240" cy="37558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4648320" y="1828800"/>
            <a:ext cx="407664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llen reco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llen grains can accumulate in sedi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erent types of pollen in sediment reflect the vegetation of that tim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vegetation we can determine the cl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5029200" y="1371600"/>
            <a:ext cx="3703680" cy="48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8T14:39:03Z</dcterms:created>
  <dc:creator>Owner</dc:creator>
  <dc:description/>
  <dc:language>en-US</dc:language>
  <cp:lastModifiedBy>Owner</cp:lastModifiedBy>
  <dcterms:modified xsi:type="dcterms:W3CDTF">2009-02-08T15:25:22Z</dcterms:modified>
  <cp:revision>6</cp:revision>
  <dc:subject/>
  <dc:title>How do we know what our climate was like thousands of years ago?</dc:title>
</cp:coreProperties>
</file>