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558D-7D1A-4E75-A686-D721886C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87C-908F-4720-B5EE-7DF95A32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8FD6-71F1-40C3-B059-1CEF61D3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FDE7-6AB8-496A-BF0D-BFE8BF80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46E7-3FB0-4EBA-BB6E-9EC2ACB9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84CE-648E-4654-807E-342B2A56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2C11-BD8C-49A8-AA97-DF2B1FBD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229F-FD39-404C-B154-E00DFA24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AD21-5F6C-4FA3-B6F1-345783D7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BDB3-A5E5-448A-A32F-DA5DA79F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6ECB-5922-45AD-B291-99DDE812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36D3-08B6-437D-8970-C9F94433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92DA-F33E-44D9-B73D-D866F88B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8945-CBAD-4E3E-BC1B-97FE9DE9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C53F-E169-4458-9F9E-44654781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F8D3-D037-475D-8C74-F01AD9E8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244F-644B-4D99-AD5A-83D2A783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D10-E939-409A-A6F7-BD4FC7A5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0C5-B1BC-4897-906C-5374629A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E07A-C90B-4BFA-8F63-90B97135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71C7-0A12-4140-BDBE-DF5A6584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F65-4DEF-46DB-8492-8B1EE047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E82-821E-4EA4-ACB0-D8C3822D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856F-CEEB-4A40-B2D7-3550414C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09C3-026F-4820-91FB-5EBE2630A22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5B90-9BBF-4726-B1A0-73620BB9AFF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20200" cy="5029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ap of Developed and Developing Countr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turbo thinking cap"/>
          <p:cNvPicPr/>
          <p:nvPr/>
        </p:nvPicPr>
        <p:blipFill>
          <a:blip r:embed="rId1"/>
          <a:stretch/>
        </p:blipFill>
        <p:spPr>
          <a:xfrm>
            <a:off x="2143080" y="500040"/>
            <a:ext cx="52387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Think critically and make informed decis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Listen to different viewpoi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hink why people form the viewpoints they ho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Identify your own bi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Question your sources of inform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o the authors have a reason for bias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oes the data support the claims being made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onsider all the information you can before coming to a conclu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ustainabil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key goal of environmental science is achieving global sustain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ustainability means: human needs are met  in such a way that the human population can survive indefinit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path we choose in the 2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century will be crucial to our survival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Developed and Developing countr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cisions and actions of all people in the world affect our environ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Unequal distribution of wealth and resources influence the choices the society must mak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veloped countries: higher average income, slower population growth, diverse economies, stronger social support system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veloping countries: lower average income, high population growth, agriculture based econom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Root causes of many environmental problem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opulation: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growing too quickly for the local environment to support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depletion: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people are using up, wasting and polluting resources faster than they can be replen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onsump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veloped nations make up 20% of the world population but consume 75% of the world’s re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 the U.S. (5% of global population) we consume 25% of the world’s commodities and produce 25-50% of the world’s industrial was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over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 order to survive, people in poverty overharvest re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f the 5.2 billion people in developing countries, less than half have access to enough food, safe drinking water and proper sani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Ecological Footpri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ecological footprint is the productive area of Earth needed to support one person in a particular cou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 estimates land used for growing crops, grazing, forest products, and housing, ocean area needed for seafood and forest needed to absorb co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ahoma"/>
              </a:rPr>
              <a:t>The Ecological footprint of someone in a developed country is, on average, 4 times that of someone in a developing country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Picture Placeholder 6" descr="http://www.calvert-henderson.com/images/Ecofootprint.gif"/>
          <p:cNvPicPr/>
          <p:nvPr/>
        </p:nvPicPr>
        <p:blipFill>
          <a:blip r:embed="rId1"/>
          <a:srcRect l="0" t="6255" r="0" b="625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cc"/>
                </a:solidFill>
                <a:latin typeface="Tahoma"/>
              </a:rPr>
              <a:t>Environmental Science requires critical thinking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70000"/>
            <a:ext cx="6400800" cy="17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Picture 4" descr="snoozing at desk"/>
          <p:cNvPicPr/>
          <p:nvPr/>
        </p:nvPicPr>
        <p:blipFill>
          <a:blip r:embed="rId1"/>
          <a:stretch/>
        </p:blipFill>
        <p:spPr>
          <a:xfrm>
            <a:off x="1857240" y="266760"/>
            <a:ext cx="5238720" cy="65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16:00:18Z</dcterms:created>
  <dc:creator>Owner</dc:creator>
  <dc:description/>
  <dc:language>en-US</dc:language>
  <cp:lastModifiedBy>L-Net</cp:lastModifiedBy>
  <dcterms:modified xsi:type="dcterms:W3CDTF">2009-09-09T20:05:12Z</dcterms:modified>
  <cp:revision>7</cp:revision>
  <dc:subject/>
  <dc:title>Slide 1</dc:title>
</cp:coreProperties>
</file>