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963-35A6-4275-9F96-69D245D1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68A-7554-45A8-AAB8-9D8765E0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BAB-01C6-4966-A21D-860C1651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7C7-1436-4EC7-83B6-EC8E27DD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53DC-4FF1-48AD-87B7-67D4E184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4061-E718-42D3-A48C-8E462A96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CF6B-4A31-40AA-B25F-399C2E73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33DA-939F-4219-9842-CE02852C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C047-B976-46D2-908D-D597400B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6794-F3E3-4405-B399-C754AAAC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12E4-19E0-46FB-9450-6827EEEF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D76-FBFE-4428-BBE4-7BC69ECC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C423-54D9-4F80-893E-735B49E1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74C8-5080-49A4-8F27-F36186EC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A122-D22B-4D0F-B6AD-C7C4851A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4963-12E3-47BD-8024-434456A5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6EC5-3103-4CA9-B0D2-E8519FE1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7DB-5AB6-4159-9B4B-578B4307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D15-D031-49F1-9784-75385F89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060-C3BB-4201-95AA-C9E88EFB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085-018F-46C3-8A8A-196EF8EC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B46-2E1C-43E5-8AC4-96BBE72D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E23-EC16-42D1-9699-C9570C5C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230-5BD9-42CE-BF20-BDA0D53D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2551-1AF3-402C-AA50-965B074B086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26DF-B734-4721-A312-A60CACEB64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20200" cy="5029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p of Developed and Developing Count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turbo thinking cap"/>
          <p:cNvPicPr/>
          <p:nvPr/>
        </p:nvPicPr>
        <p:blipFill>
          <a:blip r:embed="rId1"/>
          <a:stretch/>
        </p:blipFill>
        <p:spPr>
          <a:xfrm>
            <a:off x="2143080" y="500040"/>
            <a:ext cx="5238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Think critically and make informed decis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isten to different viewpoi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ink why people form the viewpoints they ho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Identify your own bi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Question your sources of inform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o the authors have a reason for bias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oes the data support the claims being mad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sider all the information you can before coming to a conclu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stainabil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key goal of environmental science is achieving global sustain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stainability means: human needs are met  in such a way that the human population can survive indefinit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path we choose in the 2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century will be crucial to our survival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Developed and Developing count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cisions and actions of all people in the world affect our environ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Unequal distribution of wealth and resources influence the choices the society must mak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veloped countries: higher average income, slower population growth, diverse economies, stronger social support system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veloping countries: lower average income, high population growth, agriculture based econom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Root causes of many environmental proble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opula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growing too quickly for the local environment to suppor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deple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people are using up, wasting and polluting resources faster than they can be reple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onsump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eloped nations make up 20% of the world population but consume 75% of the world’s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the U.S. (5% of global population) we consume 25% of the world’s commodities and produce 25-50% of the world’s industri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ver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order to survive, people in poverty overharvest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f the 5.2 billion people in developing countries, less than half have access to enough food, safe drinking water and proper san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Ecological Footpr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cological footprint is the productive area of Earth needed to support one person in a particular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estimates land used for growing crops, grazing, forest products, and housing, ocean area needed for seafood and forest needed to absorb 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ahoma"/>
              </a:rPr>
              <a:t>The Ecological footprint of someone in a developed country is, on average, 4 times that of someone in a developing countr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Placeholder 6" descr="http://www.calvert-henderson.com/images/Ecofootprint.gif"/>
          <p:cNvPicPr/>
          <p:nvPr/>
        </p:nvPicPr>
        <p:blipFill>
          <a:blip r:embed="rId1"/>
          <a:srcRect l="0" t="6255" r="0" b="625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Environmental Science requires critical thinking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70000"/>
            <a:ext cx="640080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snoozing at desk"/>
          <p:cNvPicPr/>
          <p:nvPr/>
        </p:nvPicPr>
        <p:blipFill>
          <a:blip r:embed="rId1"/>
          <a:stretch/>
        </p:blipFill>
        <p:spPr>
          <a:xfrm>
            <a:off x="1857240" y="266760"/>
            <a:ext cx="523872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6:00:18Z</dcterms:created>
  <dc:creator>Owner</dc:creator>
  <dc:description/>
  <dc:language>en-US</dc:language>
  <cp:lastModifiedBy>L-Net</cp:lastModifiedBy>
  <dcterms:modified xsi:type="dcterms:W3CDTF">2009-09-09T20:05:12Z</dcterms:modified>
  <cp:revision>7</cp:revision>
  <dc:subject/>
  <dc:title>Slide 1</dc:title>
</cp:coreProperties>
</file>