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88C6-F3B3-4B34-879B-87565D023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FA34-603B-497B-B38D-63F32BCE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6164-6BD0-4656-AE83-6629143A9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E54F-4D6F-4734-BCEA-51DA97C2E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993D-BB55-40A0-914A-0FD2C5DA3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04B0-B825-4D93-ACCD-37521417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78BC-2990-43EA-8E26-6493988A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343AD-F941-4400-893F-56809467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3613-6DB9-4280-BC28-B5A36820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8055-C7DC-4F47-B5B8-D4539320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B9AE0-607C-4A63-A96D-9DFF63CB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F9A4-A239-4E49-B82C-5E98E435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FDF7-B404-4552-8FBA-0CDA6A40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BAC6-FC9F-45DE-97D2-B0BBBE5C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3AAD-F48F-4337-AB96-3F32E361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DF530-E02A-447B-B256-174305584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09A10-46FD-409A-AFC2-0E156DE80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8AB3-2834-41CC-88F5-74D5EC86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D399-C41C-4421-81B7-29EB15CF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B245-CFEA-4AB7-AF2A-49782E97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471B-9B36-4107-9B6F-982BA7C0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398C-9709-4ACC-A14A-EEEF1ED3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DAEA-F447-4769-8A8B-DE8E34C1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D143-BDF6-47C6-B438-7466D7AE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7CAE-5BB1-4226-88EF-26396C8F7F0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310D-FA2E-405F-AFD1-0070D63219D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620200" cy="50292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ap of Developed and Developing Countri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turbo thinking cap"/>
          <p:cNvPicPr/>
          <p:nvPr/>
        </p:nvPicPr>
        <p:blipFill>
          <a:blip r:embed="rId1"/>
          <a:stretch/>
        </p:blipFill>
        <p:spPr>
          <a:xfrm>
            <a:off x="2143080" y="500040"/>
            <a:ext cx="523872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Think critically and make informed decision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Listen to different viewpoint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hink why people form the viewpoints they hol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Identify your own bia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Question your sources of informat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Do the authors have a reason for bias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Does the data support the claims being made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Consider all the information you can before coming to a conclus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Sustainabil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 key goal of environmental science is achieving global sustaina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ustainability means: human needs are met  in such a way that the human population can survive indefinite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path we choose in the 21</a:t>
            </a:r>
            <a:r>
              <a:rPr b="0" lang="en-GB" sz="32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century will be crucial to our survival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Developed and Developing countri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Decisions and actions of all people in the world affect our environmen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Unequal distribution of wealth and resources influence the choices the society must mak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Developed countries: higher average income, slower population growth, diverse economies, stronger social support system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Developing countries: lower average income, high population growth, agriculture based econom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Root causes of many environmental problem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opulation: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growing too quickly for the local environment to support 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depletion: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people are using up, wasting and polluting resources faster than they can be replenish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Consump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veloped nations make up 20% of the world population but consume 75% of the world’s resour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 the U.S. (5% of global population) we consume 25% of the world’s commodities and produce 25-50% of the world’s industrial was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Pover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 order to survive, people in poverty overharvest resour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f the 5.2 billion people in developing countries, less than half have access to enough food, safe drinking water and proper sani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Ecological Footpri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ecological footprint is the productive area of Earth needed to support one person in a particular coun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t estimates land used for growing crops, grazing, forest products, and housing, ocean area needed for seafood and forest needed to absorb co</a:t>
            </a:r>
            <a:r>
              <a:rPr b="0" lang="en-GB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produc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440" y="4800240"/>
            <a:ext cx="548640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Tahoma"/>
              </a:rPr>
              <a:t>The Ecological footprint of someone in a developed country is, on average, 4 times that of someone in a developing country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1" name="Picture Placeholder 6" descr="http://www.calvert-henderson.com/images/Ecofootprint.gif"/>
          <p:cNvPicPr/>
          <p:nvPr/>
        </p:nvPicPr>
        <p:blipFill>
          <a:blip r:embed="rId1"/>
          <a:srcRect l="0" t="6255" r="0" b="6255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cc"/>
                </a:solidFill>
                <a:latin typeface="Tahoma"/>
              </a:rPr>
              <a:t>Environmental Science requires critical thinking!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70000"/>
            <a:ext cx="6400800" cy="17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5" name="Picture 4" descr="snoozing at desk"/>
          <p:cNvPicPr/>
          <p:nvPr/>
        </p:nvPicPr>
        <p:blipFill>
          <a:blip r:embed="rId1"/>
          <a:stretch/>
        </p:blipFill>
        <p:spPr>
          <a:xfrm>
            <a:off x="1857240" y="266760"/>
            <a:ext cx="5238720" cy="65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7T16:00:18Z</dcterms:created>
  <dc:creator>Owner</dc:creator>
  <dc:description/>
  <dc:language>en-US</dc:language>
  <cp:lastModifiedBy>L-Net</cp:lastModifiedBy>
  <dcterms:modified xsi:type="dcterms:W3CDTF">2009-09-09T20:05:12Z</dcterms:modified>
  <cp:revision>7</cp:revision>
  <dc:subject/>
  <dc:title>Slide 1</dc:title>
</cp:coreProperties>
</file>