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84D-1855-4E8B-AB91-A585D44A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77B-8F3C-4660-B352-8D2BDBF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26C-82AC-494C-A7AE-F02A9E53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107-2EB1-477D-A942-01CB754D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366F-F4B2-43CE-8912-3A9A1CAF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5C16-6403-405C-8920-7FD3FA39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64B5-9287-4802-837D-D5A23C07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5903-E312-4200-AF1F-CD281C0A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9FEE-54CA-4C40-A8F3-4BBA0877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DC2D-F37E-4799-816C-79078445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4B51-97EF-44E8-929E-44B438C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218-A6CB-45FA-A5A7-0E2D92F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CAF-94E1-4106-9501-E6D5FD51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399-AEA1-45CE-9414-A8E08624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029A-6DE1-499D-8175-B29F009B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CB1A-A010-4FCA-B150-05B1369E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B212-B85D-4F1C-92B8-31722835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C2F-0AB9-4CD0-88C7-FD652AE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325-723E-4FF1-ADCA-17F1CD7D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9FF-9517-459F-9545-1A18C8D4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ADB-5458-4520-B8D1-606F5150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3F0-1564-4150-ADEA-21CC699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43C-1EA1-4F43-A1D0-1C229B3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E07-E052-4B48-AA60-F8739C03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C66A-4924-47E7-AC30-0F3FC9CBFC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B4B1-74A1-4E7D-AEDB-CFED30D9A9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2020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p of 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urbo thinking cap"/>
          <p:cNvPicPr/>
          <p:nvPr/>
        </p:nvPicPr>
        <p:blipFill>
          <a:blip r:embed="rId1"/>
          <a:stretch/>
        </p:blipFill>
        <p:spPr>
          <a:xfrm>
            <a:off x="2143080" y="500040"/>
            <a:ext cx="5238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Think critically and make informed decis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isten to different viewpoi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ink why people form the viewpoints they ho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Identify your own bi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Question your sources of inform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 the authors have a reason for bia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es the data support the claims being mad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sider all the information you can before coming to a concl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stainabil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key goal of environmental science is achieving global sustain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stainability means: human needs are met  in such a way that the human population can survive indefini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ath we choose in the 2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century will be crucial to our survival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cisions and actions of all people in the world affect our environ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Unequal distribution of wealth and resources influence the choices the society must mak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ed countries: higher average income, slower population growth, diverse economies, stronger social support system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ing countries: lower average income, high population growth, agriculture based econom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Root causes of many environmental proble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opula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growing too quickly for the local environment to suppor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deple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eople are using up, wasting and polluting resources faster than they can be reple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nsum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ed nations make up 20% of the world population but consume 75% of the world’s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the U.S. (5% of global population) we consume 25% of the world’s commodities and produce 25-50% of the world’s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ver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order to survive, people in poverty overharvest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f the 5.2 billion people in developing countries, less than half have access to enough food, safe drinking water and proper san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cological Footpr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cological footprint is the productive area of Earth needed to support one person in a particular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estimates land used for growing crops, grazing, forest products, and housing, ocean area needed for seafood and forest needed to absorb 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ahoma"/>
              </a:rPr>
              <a:t>The Ecological footprint of someone in a developed country is, on average, 4 times that of someone in a developing countr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Placeholder 6" descr="http://www.calvert-henderson.com/images/Ecofootprint.gif"/>
          <p:cNvPicPr/>
          <p:nvPr/>
        </p:nvPicPr>
        <p:blipFill>
          <a:blip r:embed="rId1"/>
          <a:srcRect l="0" t="6255" r="0" b="625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Environmental Science requires critical thinking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70000"/>
            <a:ext cx="640080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snoozing at desk"/>
          <p:cNvPicPr/>
          <p:nvPr/>
        </p:nvPicPr>
        <p:blipFill>
          <a:blip r:embed="rId1"/>
          <a:stretch/>
        </p:blipFill>
        <p:spPr>
          <a:xfrm>
            <a:off x="1857240" y="266760"/>
            <a:ext cx="523872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6:00:18Z</dcterms:created>
  <dc:creator>Owner</dc:creator>
  <dc:description/>
  <dc:language>en-US</dc:language>
  <cp:lastModifiedBy>L-Net</cp:lastModifiedBy>
  <dcterms:modified xsi:type="dcterms:W3CDTF">2009-09-09T20:05:12Z</dcterms:modified>
  <cp:revision>7</cp:revision>
  <dc:subject/>
  <dc:title>Slide 1</dc:title>
</cp:coreProperties>
</file>