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075-6CBA-476F-BB88-3808C21C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C61-7278-476E-8988-5FF79BF7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77D-9431-4058-B4FF-F7720709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C42-0AF8-42C0-8E8B-B5E0B57F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4BB7-4A7E-4D1E-8121-1E99843E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5007-83FE-4EE7-A1EE-279F6B66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844C-1598-4938-9E11-A1FAA79C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2C6A-7297-4FEA-8ECC-40229AD2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D529-F6D2-4C70-86B6-1CF9E205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2CAC-0AB1-43A4-953E-D1101426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C341-289F-478E-981E-9FBD2376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EBA-5A3B-4FDB-BF1C-EDE1D1CD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2884-BD2B-4F8C-9C8A-9D6EFCB6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B98C-A1B2-4867-84E9-37610B4E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415D-A907-4C0B-A8CD-E4FA7B59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5613-EAF3-43C4-A769-D3182EA5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8B7F-0EB0-4403-BB04-6CD4DD0D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E86-A2A0-42C0-9C8B-A9D28D37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E12-B735-4ACE-99DE-59572B1D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701-10AB-4438-BAF0-4E3567BE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DB6-31EA-4F3E-8207-45396424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680-A9B8-48BD-9461-71D25E4E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66D-4A3E-4D69-B1F4-BC27B318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555-8AB9-44CC-9636-4E406C13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51E8-EE3F-47A7-9FCD-F88192F0C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0205-88ED-48F2-9942-955646E0B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3480" y="838080"/>
            <a:ext cx="9177480" cy="601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thing is connecte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co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: all of the organisms living in an area together with their physical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systems are connected to one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ist all the components of the ecosystem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8202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cosystem components can be organized into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tic fact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living and once living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iotic fact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onliving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80880"/>
          <a:ext cx="8229600" cy="5876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otic fac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iotic fac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b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l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ye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er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ge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c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il organic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il miner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e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iving things can be organized into level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gan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n individual living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group of organisms that can mate to produce fertile off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pula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 the members of the same species that live in the same place at the same time (they usually breed with one another rather than other popul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ation continued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ty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group of various species that live in the same place and interact with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community consists of only biotic factors. An ecosystem is both the biotic and abiotic fa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bitat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ce an organism lives. Every habitat has specific biotic and abiotic components the organism needs to surv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ing the Savan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n exampl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opul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mun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one organisms habit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16200000">
            <a:off x="1562040" y="-114120"/>
            <a:ext cx="5867280" cy="8077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ation of an Eco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2:01:32Z</dcterms:created>
  <dc:creator>Owner</dc:creator>
  <dc:description/>
  <dc:language>en-US</dc:language>
  <cp:lastModifiedBy>Owner</cp:lastModifiedBy>
  <dcterms:modified xsi:type="dcterms:W3CDTF">2008-11-02T13:48:17Z</dcterms:modified>
  <cp:revision>11</cp:revision>
  <dc:subject/>
  <dc:title>Slide 1</dc:title>
</cp:coreProperties>
</file>