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1FB-4626-4A9B-AC8F-3CBDCDC5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1F7-86E4-4FD4-BA62-B976DF2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F03-BBE5-4897-BD8D-8B1AF240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888-671D-498B-B719-59E181AD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D80C-B740-4C29-A1AE-CBCC0328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6D5B-03BB-4C0C-9597-1C1ABCCD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71E0-AB61-4DD8-9C16-CE2A3782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D38-1602-4C58-8444-5B279EED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C2F2-87A2-437E-B88C-37790EDA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3B0-5431-43FB-8F04-0A586C7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3EC8-9639-4B73-A077-F3E59451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B36-92FA-42D5-B32E-C8C5210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09A8-6864-406F-B893-9F4F02B5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9F14-1A88-414B-B661-C16708F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3915-C154-4CED-AA92-4F5E7B60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7DD2-79E7-4D78-99C3-47932AEA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CF5F-053C-44EC-BFE5-9D0B44EF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FEA-4CA4-4093-AC74-A74DC9C0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965-09CA-4627-9E2E-CC3140BB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C0F-573E-49AD-A47F-C4B0D674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AE7-586C-4F11-9A4A-C828A24C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FE3-0FE4-44E4-946C-F3912F6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0D2-B8B1-47CD-B54F-AF8D356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3CD-AFBD-4791-9F2D-7E8D297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684-C4E0-4864-B1F4-800F8C357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4E2-BE64-4BD6-AEE8-62FD71CBD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3480" y="838080"/>
            <a:ext cx="917748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thing is connect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 all of the organisms living in an area together with their physic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systems are connected to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st all the components of the ecosystem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8202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cosystem components can be organized into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living and once living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onliving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8229600" cy="5876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b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organic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ving things can be organized into level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 individual living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group of organisms that can mate to produce fertil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the members of the same species that live in the same place at the same time (they usually breed with one another rather than other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continued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roup of various species that live in the same place and interact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community consists of only biotic factors. An ecosystem is both the biotic and abiotic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 an organism lives. Every habitat has specific biotic and abiotic components the organism needs to surv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ing the Savan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n exampl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pu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un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one organisms habit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16200000">
            <a:off x="1562040" y="-114120"/>
            <a:ext cx="5867280" cy="8077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of an 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01:32Z</dcterms:created>
  <dc:creator>Owner</dc:creator>
  <dc:description/>
  <dc:language>en-US</dc:language>
  <cp:lastModifiedBy>Owner</cp:lastModifiedBy>
  <dcterms:modified xsi:type="dcterms:W3CDTF">2008-11-02T13:48:17Z</dcterms:modified>
  <cp:revision>11</cp:revision>
  <dc:subject/>
  <dc:title>Slide 1</dc:title>
</cp:coreProperties>
</file>