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CE6-BADD-426A-9374-CA3755CE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41A-903C-43D3-9AA8-141C6C1C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5FB-B2B9-425B-A417-DBE1ABCE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09F-9CE1-427A-9B2A-178826CE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6294-24E5-44B1-AB0F-D11B3A37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D916-4F2C-4303-AB80-A2C75EBE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1733-F33A-4373-B465-FC698C0F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0307-DBBC-4145-8D0A-74680099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8DC0-028D-4ABD-9D70-ADB2AA5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5C7D-878C-44C7-8D6D-6EA473CA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E43D-C68B-4CD8-B26B-CDDC92E3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726-901D-4350-B82B-41EA539D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5EE8-A774-4BDD-8201-11CF47FD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3314-A2EE-4DCA-8684-6335ECE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A658-398C-4461-8141-A0C0EA61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7E57-1B2D-4E4A-B1B8-71BC34D3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12C-DE72-4CFB-8644-E3A74AC9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BB3-2DC1-4547-8F71-C9A75F08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338-ABA2-4BF2-BAF4-31E1569D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090-E4B8-4FF0-8D05-AFDCA215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6B9-691B-48FD-8501-991113D8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D0D-953B-4AC0-8393-2448E3F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13E-C5CC-46B1-9A1E-FD6AE7E0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553-B567-48ED-847E-89E344B9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ACFE-B496-44AE-9B83-95591A102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C5FC-B862-4F27-9A90-6341F0FA8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3480" y="838080"/>
            <a:ext cx="9177480" cy="601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thing is connecte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: all of the organisms living in an area together with their physical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systems are connected to one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st all the components of the ecosystem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8202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cosystem components can be organized into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living and once living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iotic facto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onliving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80880"/>
          <a:ext cx="8229600" cy="5876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iotic fac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b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l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e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mper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ge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organic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il miner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iving things can be organized into level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n individual living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group of organisms that can mate to produce fertile off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pula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 the members of the same species that live in the same place at the same time (they usually breed with one another rather than other popul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continued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t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group of various species that live in the same place and interact with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community consists of only biotic factors. An ecosystem is both the biotic and abiotic fa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bitat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ce an organism lives. Every habitat has specific biotic and abiotic components the organism needs to surv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ing the Savan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n exampl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opu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mun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one organisms habit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16200000">
            <a:off x="1562040" y="-114120"/>
            <a:ext cx="5867280" cy="8077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ganization of an Eco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2:01:32Z</dcterms:created>
  <dc:creator>Owner</dc:creator>
  <dc:description/>
  <dc:language>en-US</dc:language>
  <cp:lastModifiedBy>Owner</cp:lastModifiedBy>
  <dcterms:modified xsi:type="dcterms:W3CDTF">2008-11-02T13:48:17Z</dcterms:modified>
  <cp:revision>11</cp:revision>
  <dc:subject/>
  <dc:title>Slide 1</dc:title>
</cp:coreProperties>
</file>