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A41-2269-4B6A-AB93-51BE4714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FE5-7FD4-47CA-A54D-26E104DB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23C-F085-47B5-B625-75D6737C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1D0-0200-41D1-9CEF-1E359D8A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3BA6-317C-42D9-A870-CA3E92CF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1FC8-8E85-401E-89E7-9A681AB9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D8EA-093F-45FE-AA4A-2299034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F37F-27D7-48D1-89A5-90EB2527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7698-2196-4B8C-AB4C-C4A75D9D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85D5-9A55-4CC3-B698-CAE6AA13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4D8C-CF5D-408B-89E9-1D4CD841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9E6-9DDA-445A-AA71-DA4F6465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0922-BC29-490D-8313-0A834AE0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6EDB-F5B2-49DC-AE6D-6AF1F91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05C6-2734-4702-8A45-716583FE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399F-1DB5-4803-90CD-DF21F052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4BE0-7FFD-4087-A1B6-CE6D13FD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D12-E307-44AB-8288-8C3B62DE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3DB-7F94-4AD6-B7AB-9B66B424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6F9-55DF-4308-9C90-B1A7E0C6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D6E-1495-45DA-8EF7-A3F846AB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237-C6A5-40F0-8104-57FC7665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E05-CE92-481F-A3E6-7212631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156-FE51-4E1C-8B0F-487DABF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1CD8-B162-4196-8B7F-61C08E5C5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3983-18F0-413B-A39D-104CCE4E1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3480" y="838080"/>
            <a:ext cx="9177480" cy="601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thing is connecte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: all of the organisms living in an area together with their physical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systems are connected to one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st all the components of the ecosystem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8202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cosystem components can be organized into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living and once living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onliving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80880"/>
          <a:ext cx="8229600" cy="5876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b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l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ye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er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ge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organic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miner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ving things can be organized into level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n individual living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group of organisms that can mate to produce fertile off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pula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 the members of the same species that live in the same place at the same time (they usually breed with one another rather than other pop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continued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t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group of various species that live in the same place and interact with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community consists of only biotic factors. An ecosystem is both the biotic and abiotic fa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bitat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ce an organism lives. Every habitat has specific biotic and abiotic components the organism needs to surv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ing the Savan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n exampl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opu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mun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one organisms habit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16200000">
            <a:off x="1562040" y="-114120"/>
            <a:ext cx="5867280" cy="8077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of an 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2:01:32Z</dcterms:created>
  <dc:creator>Owner</dc:creator>
  <dc:description/>
  <dc:language>en-US</dc:language>
  <cp:lastModifiedBy>Owner</cp:lastModifiedBy>
  <dcterms:modified xsi:type="dcterms:W3CDTF">2008-11-02T13:48:17Z</dcterms:modified>
  <cp:revision>11</cp:revision>
  <dc:subject/>
  <dc:title>Slide 1</dc:title>
</cp:coreProperties>
</file>