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4.jpeg" ContentType="image/jpeg"/>
  <Override PartName="/ppt/media/image9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495D-6787-4724-B549-2765525CD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8501-B478-40B3-B2EC-D3632A9F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AE34-6E70-4131-8DC2-077336888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BEB0-F736-4841-BD74-65D7ED05A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662B-A08C-4445-A17A-AC74FC562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495D-203C-4741-B6C3-1D5C70BAE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E8A7-2BAE-4B78-BA83-7CFD296DC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CB3C-4A77-4072-8D84-E32C40F65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BA92-1647-4485-990E-9D89F2A52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47F5-AEEA-4AA6-9A72-23CA7D14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01FB-4FA7-4DCA-8584-54C4A9B9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6F82-20AA-4701-BCDD-70A22E9E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00AFA-499B-4F3C-A883-DC3220D47C6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i.org/reclmetals.html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mii.org/reclcoal.html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8.jpeg"/><Relationship Id="rId4" Type="http://schemas.openxmlformats.org/officeDocument/2006/relationships/hyperlink" Target="http://www.mii.org/reclmetals.html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youtube.com/watch?v=3OWj1ZGn4uM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What is a mineral?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naturally occurring solid wit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acteristic chemical compos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derly internal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acteristic set of physical proper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4114800"/>
            <a:ext cx="3305160" cy="2238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733920" y="4191120"/>
            <a:ext cx="2428920" cy="2095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324480" y="3962520"/>
            <a:ext cx="26416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Komatsu PC8000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Bingham Canyon Copper Mine</a:t>
            </a:r>
            <a:br>
              <a:rPr sz="4000"/>
            </a:b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Salt Lake City, Utah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620120" cy="52862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980640" y="6437160"/>
            <a:ext cx="64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wo and a half miles across and three quarters of a mile dee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0" y="104760"/>
          <a:ext cx="8902800" cy="675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4760"/>
                    <a:ext cx="8902800" cy="675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How do I use minerals?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uminum: transportation, packaging, construction, fo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pper: electric cables, plumbing, wiring in electronics, roof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5715000" y="1523880"/>
            <a:ext cx="2048040" cy="1781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788000" y="3313080"/>
            <a:ext cx="307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uxite – the ore from whi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uminum is extrac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5791320" y="3962520"/>
            <a:ext cx="1971720" cy="1724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016960" y="5751360"/>
            <a:ext cx="328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lachite – the ore from whi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pper is extrac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How do I use minerals?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on: most iron ore is combined with other minerals to form make steel (used in construction, vehicles, trains and train track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: batteries for cars, electronics, TV glass, protective covering from x-ray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638680" y="1143000"/>
            <a:ext cx="2276640" cy="21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715000" y="3962520"/>
            <a:ext cx="2184480" cy="20365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854680" y="5904000"/>
            <a:ext cx="26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alena – a common o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 le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640840" y="335268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ron o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oltan and War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tan is the ore of Tantalu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as capacitors in cell phones, computers, playstation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% of ore is found in the Democratic Republic of Con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 $400/k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ey from smuggled ore fuelled a bloody civil w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ing has begun in biodiverse National Pa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876920" y="1600200"/>
            <a:ext cx="3962160" cy="41911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298520" y="6172200"/>
            <a:ext cx="523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66"/>
                </a:solidFill>
                <a:uFillTx/>
                <a:latin typeface="Arial"/>
                <a:hlinkClick r:id="rId2"/>
              </a:rPr>
              <a:t>http://www.youtube.com/watch?v=3OWj1ZGn4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52280" y="136440"/>
          <a:ext cx="8858520" cy="672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36440"/>
                    <a:ext cx="8858520" cy="672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How do companies know where to mine?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es with instruments that i.d. changes in magnetism and radioactivity fly over the ar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tellite images and aerial photos are used to create a geological m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ck samples are taken to determine the metal content of the 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 holes are drill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-benefit analysis is condu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Subsurface Mining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om and Pillar Mining. A room is cut into the side of a mountain. Pillars of mineral are left to support the roo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80880" y="3429000"/>
            <a:ext cx="813600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Surface Mining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n pit mining is often used to mine large quantities of coal and copp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re is mined downward, layer by l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ock covering coal seams (overburden) is removed by mach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aders enter and remove mi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it is refilled with the overbur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13:46:09Z</dcterms:created>
  <dc:creator>Owner</dc:creator>
  <dc:description/>
  <dc:language>en-US</dc:language>
  <cp:lastModifiedBy>Owner</cp:lastModifiedBy>
  <dcterms:modified xsi:type="dcterms:W3CDTF">2009-02-15T15:45:05Z</dcterms:modified>
  <cp:revision>20</cp:revision>
  <dc:subject/>
  <dc:title>Minerals and Mineral Resources</dc:title>
</cp:coreProperties>
</file>