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29F-3FC5-412A-8BE1-9B90A114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F16-D3EA-4217-8085-A88B87DE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352-9D2F-47BE-BC39-CCCBB222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1D2-FF9C-47F8-AA0F-D4768226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91C-0749-4CD6-A76E-CD112331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546-61CF-4D7C-B7F6-14C210D4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BFF-59B6-419F-844A-880AC64C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FA7-664F-4047-A2AC-B3D795F3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15F-8B87-4752-A3F8-A1D3C71D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BFC-B312-46BB-A000-360307DE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C67-AFD0-48E7-B754-DA544E3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C17-CEDE-48BB-B2D3-92A1BBB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610D-9BCD-4BA7-BCCE-B9FC8D01F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i.org/reclmetals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mii.org/reclcoal.html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hyperlink" Target="http://www.mii.org/reclmetals.html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outube.com/watch?v=3OWj1ZGn4u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a mineral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urally occurring solid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chemical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ly interna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set of physical prope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14800"/>
            <a:ext cx="3305160" cy="223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2428920" cy="209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3962520"/>
            <a:ext cx="2641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Komatsu PC8000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Bingham Canyon Copper Mine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alt Lake City, Utah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528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80640" y="643716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and a half miles across and three quarters of a mile de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04760"/>
          <a:ext cx="8902800" cy="67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760"/>
                    <a:ext cx="8902800" cy="67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How do I use mineral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uminum: transportation, packaging, construction, f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per: electric cables, plumbing, wiring in electronics, roo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2048040" cy="17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88000" y="331308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uxite – the ore from 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 is ex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91320" y="396252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16960" y="575136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achite – the ore from 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per is ex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How do I use mineral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: most iron ore is combined with other minerals to form make steel (used in construction, vehicles, trains and train trac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: batteries for cars, electronics, TV glass, protective covering from x-r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38680" y="1143000"/>
            <a:ext cx="2276640" cy="21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3962520"/>
            <a:ext cx="2184480" cy="2036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54680" y="59040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ena – a common o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l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08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on 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ltan and Wa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tan is the ore of Tantal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as capacitors in cell phones, computers, playstatio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 of ore is found in the Democratic Republic of Co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$400/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from smuggled ore fuelled a bloody civil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ng has begun in biodiverse National P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8520" y="617220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http://www.youtube.com/watch?v=3OWj1ZGn4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136440"/>
          <a:ext cx="8858520" cy="672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6440"/>
                    <a:ext cx="885852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How do companies know where to mine?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s with instruments that i.d. changes in magnetism and radioactivity fly over th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 images and aerial photos are used to create a geological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 samples are taken to determine the metal content of the 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holes are dr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benefit analysis is cond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bsurface Min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and Pillar Mining. A room is cut into the side of a mountain. Pillars of mineral are left to support the roo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136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rface Min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pit mining is often used to mine large quantities of coal and cop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e is mined downward, layer by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 covering coal seams (overburden) is removed by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ers enter and remove mi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it is refilled with the over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46:09Z</dcterms:created>
  <dc:creator>Owner</dc:creator>
  <dc:description/>
  <dc:language>en-US</dc:language>
  <cp:lastModifiedBy>Owner</cp:lastModifiedBy>
  <dcterms:modified xsi:type="dcterms:W3CDTF">2009-02-15T15:45:05Z</dcterms:modified>
  <cp:revision>20</cp:revision>
  <dc:subject/>
  <dc:title>Minerals and Mineral Resources</dc:title>
</cp:coreProperties>
</file>