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6373-AC70-4AE4-B4F2-067BD083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7B7D-5308-4EF1-8292-3B6B4B0C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BEBF-4EBB-46D8-8FEF-7472F2F0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4B2B-8749-4F66-A185-0C4EC18D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CF1C-6E8F-4CAC-9F14-7F800BC06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4AAB-3E20-4DBE-A428-FD4326DE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2818-3587-4A0C-8EB8-23DCFA55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B6F7-401A-4517-BDA8-A9D76A3D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27CA-7D60-473F-905C-29B04060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ED8B-3040-49CC-88BB-DE90F225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86E7-AA46-4280-A9EE-A04EA92D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4394-C617-4111-A17F-924C486E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F6F4-DDE8-4C53-9EB8-ABCAB3DE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383E-1AF6-442B-AB4D-85984D5F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505F-7F12-4E0B-A440-ABDE6071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D245-A905-434E-A656-C1D35275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AAFC-0A48-43D4-91FC-36D94B68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7A4C-1282-4580-923F-B3A24598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4427-A1FF-4CF8-8521-C92FBA0A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D9CA-BEA4-4E1E-BA4F-1DFFD420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BCCF-0F2B-4B72-91FF-935A560D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C72F-2DDF-4ECB-AAFE-4FC4E497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894A-458D-4A0A-B62C-B9B69D6B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4C15-7D61-4447-808E-BF2EE3D9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528B-F804-43FA-9FB2-9F2646B33DC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5AA1-AFF2-4873-943D-6EF9B1227E7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Renewable Energy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from sources that are constantly being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newable energ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oma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ydroelectric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otherm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dal Pow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ydrogen fuel ce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olar Energ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ssive solar energy – uses the sun’s energy to heat something direct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th facing windows maximize heat from winter su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ilings are heavily insul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ck walls and floor store heat in wi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4195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ctive Sola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ergy from the sun is gathered by collectors and used to heat water or buildin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than 1 million homes in the U.S. have active solar hot water hea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3939840"/>
            <a:ext cx="8229600" cy="2190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676520" y="3886200"/>
            <a:ext cx="55623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hotovoltaic cells (solar cell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vert the sun’s energy into electric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ght strikes a silicon sandwich and knocks off electr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electrical conductors are attached to both sides it creates and electrical circu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electrons are captured in the form of an electrical curr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see caption"/>
          <p:cNvPicPr/>
          <p:nvPr/>
        </p:nvPicPr>
        <p:blipFill>
          <a:blip r:embed="rId1"/>
          <a:stretch/>
        </p:blipFill>
        <p:spPr>
          <a:xfrm>
            <a:off x="4648320" y="2438280"/>
            <a:ext cx="3981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ingle cell can power a lightbul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ple cells connected form a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modules comprise a solar arr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see caption"/>
          <p:cNvPicPr/>
          <p:nvPr/>
        </p:nvPicPr>
        <p:blipFill>
          <a:blip r:embed="rId1"/>
          <a:stretch/>
        </p:blipFill>
        <p:spPr>
          <a:xfrm>
            <a:off x="5334120" y="1981080"/>
            <a:ext cx="270504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12 acre solar array in Colorad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2-megawatt solar photovoltaic array located on a decommissioned landfill at Ft. Carson"/>
          <p:cNvPicPr/>
          <p:nvPr/>
        </p:nvPicPr>
        <p:blipFill>
          <a:blip r:embed="rId1"/>
          <a:stretch/>
        </p:blipFill>
        <p:spPr>
          <a:xfrm>
            <a:off x="1143000" y="1676520"/>
            <a:ext cx="65451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dvantages and Disadvantages of Solar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not produce any greenhouse g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un is not going anyw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eat potential for developing n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s a lot of l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s extended periods of sunsh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xic substances are required in the manufacture of solar ce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4:14:24Z</dcterms:created>
  <dc:creator>L-Net</dc:creator>
  <dc:description/>
  <dc:language>en-US</dc:language>
  <cp:lastModifiedBy>Owner</cp:lastModifiedBy>
  <dcterms:modified xsi:type="dcterms:W3CDTF">2010-04-18T12:37:08Z</dcterms:modified>
  <cp:revision>8</cp:revision>
  <dc:subject/>
  <dc:title>Renewable Energy</dc:title>
</cp:coreProperties>
</file>