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8DF-9F49-4231-8201-A9D09F5F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84D-FFDB-43BC-9EAA-0C854DCC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524-DD95-4FA7-BA71-CF4445EC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466-6A73-4787-9D0E-2A9A295C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ACDF-7D4E-4107-9BDD-BAD66C53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3E25-7958-4DCD-A89B-530EC0C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D8E8-5767-49B5-ADE7-87B08586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0F2C-7A0B-4F7B-B2D5-34217131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684D-E13C-4877-B960-56EECAA6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C43-16F6-47BA-8CD6-EBB1DA9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A3C-EDFD-401B-B370-0F6076A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033-199A-4457-B5D7-FC95FF24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0A0A-EC50-4ACB-A718-E8972A1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73C-C278-4AA1-9935-8E6D71C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5E3-1AD3-4B4E-9229-B8F060D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BB4E-02AD-4944-8264-272AFFD8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5177-4C10-4981-B262-3F63F15C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3A3-2BA1-4264-A65D-7E5218B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BD9-C3D9-4F6A-81BE-F95904A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1DE-2BB7-4860-8AE0-8C72BD07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628-6954-4A72-BB43-AE3202E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6D0-EAA7-4F39-A0D1-E804A82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C8D-6749-4ECC-A221-C91F403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35A-D472-4108-8BEB-33D1079E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117-5A70-48E3-AFB3-D923EB5AC3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943-A86A-4A6F-8E88-48C7ED2BDE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rom sources that are constantly being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electr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ar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solar energy – uses the sun’s energy to heat something di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th facing windows maximize heat from winter 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ilings are heavily in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walls and floor store heat in w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 So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rom the sun is gathered by collectors and used to heat water or buil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 million homes in the U.S. have active solar hot water hea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5562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voltaic cells (solar cell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sun’s energy into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trikes a silicon sandwich and knocks off electr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lectrical conductors are attached to both sides it creates and electrical 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lectrons are captured in the form of an electrical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e caption"/>
          <p:cNvPicPr/>
          <p:nvPr/>
        </p:nvPicPr>
        <p:blipFill>
          <a:blip r:embed="rId1"/>
          <a:stretch/>
        </p:blipFill>
        <p:spPr>
          <a:xfrm>
            <a:off x="4648320" y="2438280"/>
            <a:ext cx="398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cell can power a light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ells connected form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dules comprise a solar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ee caption"/>
          <p:cNvPicPr/>
          <p:nvPr/>
        </p:nvPicPr>
        <p:blipFill>
          <a:blip r:embed="rId1"/>
          <a:stretch/>
        </p:blipFill>
        <p:spPr>
          <a:xfrm>
            <a:off x="5334120" y="1981080"/>
            <a:ext cx="2705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2 acre solar array in Colo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2-megawatt solar photovoltaic array located on a decommissioned landfill at Ft. Carson"/>
          <p:cNvPicPr/>
          <p:nvPr/>
        </p:nvPicPr>
        <p:blipFill>
          <a:blip r:embed="rId1"/>
          <a:stretch/>
        </p:blipFill>
        <p:spPr>
          <a:xfrm>
            <a:off x="1143000" y="1676520"/>
            <a:ext cx="654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antages and Disadvantages of Sol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roduce any greenhouse g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n is not going an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potential for developing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 lot of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extended periods of suns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xic substances are required in the manufacture of solar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4:24Z</dcterms:created>
  <dc:creator>L-Net</dc:creator>
  <dc:description/>
  <dc:language>en-US</dc:language>
  <cp:lastModifiedBy>Owner</cp:lastModifiedBy>
  <dcterms:modified xsi:type="dcterms:W3CDTF">2010-04-18T12:37:08Z</dcterms:modified>
  <cp:revision>8</cp:revision>
  <dc:subject/>
  <dc:title>Renewable Energy</dc:title>
</cp:coreProperties>
</file>