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AF64-6678-4079-BE21-ED0A8D4F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6130-DCAB-4CCF-93B4-2B99385A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8DE9-5742-4EA2-80EF-8975F7AC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BF48-D6A4-4854-A452-5339C458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9D80-2CEF-4842-83A5-ABA8BDD2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D27A-1CA5-4C88-A8B0-1A415069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7B17-7FF9-4021-A7F2-49D3F44A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CC20-0D66-4CF9-9BA0-3780A9FC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50AA-EF28-48A3-85A4-62B54AC7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A720-D6C6-4589-B652-19BE30ED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C657-1D87-4533-8B8A-82B5E7CE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A54D-4A8E-4F74-A845-4778CCF7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9070-1D9D-450C-A445-07872428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B560-A75D-4D93-8DAD-66640244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DA22-B159-4762-A27A-B6B922F2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C5BB-30D0-4CA3-B4F4-FFAE1469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C0F8-5061-43AF-9CAF-D0390AF2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A051-7BDB-4D95-9FD7-EE49AF5F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E3EC-590E-4A90-9A46-1535DB0A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D57-F340-4DAA-8B00-847718B7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9869-D805-4958-AC92-37E6B86B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ACC-1585-4DB5-AC18-CC641962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EFC3-960D-4327-A0AD-EA26A812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865F-8D5B-48C3-A73A-20B5F09B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C0CF-3418-4689-B219-1FA8F94E5B5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9291-3258-4FE6-8CC6-DA4F7DD28BE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Renewable Energ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from sources that are constantly being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newable energ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droelectri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otherm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dal Po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drogen fuel c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olar Energ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sive solar energy – uses the sun’s energy to heat something di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th facing windows maximize heat from winter s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ilings are heavily insul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ck walls and floor store heat in wi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4195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tive Sola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y from the sun is gathered by collectors and used to heat water or buildin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than 1 million homes in the U.S. have active solar hot water hea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3939840"/>
            <a:ext cx="8229600" cy="2190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76520" y="3886200"/>
            <a:ext cx="55623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hotovoltaic cells (solar cell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rt the sun’s energy into electri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ght strikes a silicon sandwich and knocks off electr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electrical conductors are attached to both sides it creates and electrical circu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electrons are captured in the form of an electrical cur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see caption"/>
          <p:cNvPicPr/>
          <p:nvPr/>
        </p:nvPicPr>
        <p:blipFill>
          <a:blip r:embed="rId1"/>
          <a:stretch/>
        </p:blipFill>
        <p:spPr>
          <a:xfrm>
            <a:off x="4648320" y="2438280"/>
            <a:ext cx="3981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ingle cell can power a lightbul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e cells connected form a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modules comprise a solar arr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ee caption"/>
          <p:cNvPicPr/>
          <p:nvPr/>
        </p:nvPicPr>
        <p:blipFill>
          <a:blip r:embed="rId1"/>
          <a:stretch/>
        </p:blipFill>
        <p:spPr>
          <a:xfrm>
            <a:off x="5334120" y="1981080"/>
            <a:ext cx="270504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2 acre solar array in Colorad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2-megawatt solar photovoltaic array located on a decommissioned landfill at Ft. Carson"/>
          <p:cNvPicPr/>
          <p:nvPr/>
        </p:nvPicPr>
        <p:blipFill>
          <a:blip r:embed="rId1"/>
          <a:stretch/>
        </p:blipFill>
        <p:spPr>
          <a:xfrm>
            <a:off x="1143000" y="1676520"/>
            <a:ext cx="6545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dvantages and Disadvantages of Sol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not produce any greenhouse g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un is not going any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at potential for developing n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s a lot of 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s extended periods of sunsh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xic substances are required in the manufacture of solar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4:14:24Z</dcterms:created>
  <dc:creator>L-Net</dc:creator>
  <dc:description/>
  <dc:language>en-US</dc:language>
  <cp:lastModifiedBy>Owner</cp:lastModifiedBy>
  <dcterms:modified xsi:type="dcterms:W3CDTF">2010-04-18T12:37:08Z</dcterms:modified>
  <cp:revision>8</cp:revision>
  <dc:subject/>
  <dc:title>Renewable Energy</dc:title>
</cp:coreProperties>
</file>