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53CC-84DD-46A4-8D1A-95A9D140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586-6CE9-42FF-90FA-CCB45506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DB22-4FA8-4324-AF05-EAEA393F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2790-F3CD-4AC1-898D-2997DDD9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053C-6AF2-47BB-9F31-8F94EC20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F6E9-FC9A-4D88-95A9-9C4ED5F4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1557-0AA6-44A5-9C2C-2A582890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04CD-CC7D-4FC1-8439-FE7A8D7E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53D8-48D4-4D87-8DF1-25D452A7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D857-3805-4BE4-882B-731AC777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FE5A-AE30-43A5-AF27-76C5F27F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0B22-FF30-4662-B9FC-2A1D0114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ED32-4271-497E-9265-9A8C33AF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0EA4-76B6-415F-BDC4-53092DBF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D3D0-DE99-4C21-B691-7A63D40A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4EC6-4297-4FC1-8123-364950D5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11DE-88BE-47CF-AF34-B8F09699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5256-8E58-421C-A2C4-24791133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B56D-3420-4C07-BA05-B10578E4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D170-46A9-48A2-B0E3-24150AA2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1DE7-BF80-4CB4-B624-E7E39EFB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08B-9A14-482B-A3A3-1ECACC04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49C9-B8EB-4392-BB1C-19AFF541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7C49-9864-4C23-A6BC-60BC9C81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0C43-A34F-4CF0-BA6E-6903A0E6269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D00E-6647-4656-838C-EC5B13B00A7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Renewable Energ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from sources that are constantly being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newable energ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m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droelectric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otherm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dal Po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drogen fuel c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olar Energ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ssive solar energy – uses the sun’s energy to heat something direc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th facing windows maximize heat from winter s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ilings are heavily insul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ck walls and floor store heat in wi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4195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tive Sola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ergy from the sun is gathered by collectors and used to heat water or buildin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than 1 million homes in the U.S. have active solar hot water hea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3939840"/>
            <a:ext cx="8229600" cy="2190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676520" y="3886200"/>
            <a:ext cx="55623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hotovoltaic cells (solar cell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vert the sun’s energy into electri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ght strikes a silicon sandwich and knocks off electr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electrical conductors are attached to both sides it creates and electrical circu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electrons are captured in the form of an electrical curr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see caption"/>
          <p:cNvPicPr/>
          <p:nvPr/>
        </p:nvPicPr>
        <p:blipFill>
          <a:blip r:embed="rId1"/>
          <a:stretch/>
        </p:blipFill>
        <p:spPr>
          <a:xfrm>
            <a:off x="4648320" y="2438280"/>
            <a:ext cx="3981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ingle cell can power a lightbul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ple cells connected form a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modules comprise a solar arr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ee caption"/>
          <p:cNvPicPr/>
          <p:nvPr/>
        </p:nvPicPr>
        <p:blipFill>
          <a:blip r:embed="rId1"/>
          <a:stretch/>
        </p:blipFill>
        <p:spPr>
          <a:xfrm>
            <a:off x="5334120" y="1981080"/>
            <a:ext cx="270504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12 acre solar array in Colorad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2-megawatt solar photovoltaic array located on a decommissioned landfill at Ft. Carson"/>
          <p:cNvPicPr/>
          <p:nvPr/>
        </p:nvPicPr>
        <p:blipFill>
          <a:blip r:embed="rId1"/>
          <a:stretch/>
        </p:blipFill>
        <p:spPr>
          <a:xfrm>
            <a:off x="1143000" y="1676520"/>
            <a:ext cx="6545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dvantages and Disadvantages of Sola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not produce any greenhouse g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un is not going anyw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eat potential for developing n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s a lot of 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s extended periods of sunsh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xic substances are required in the manufacture of solar c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4:14:24Z</dcterms:created>
  <dc:creator>L-Net</dc:creator>
  <dc:description/>
  <dc:language>en-US</dc:language>
  <cp:lastModifiedBy>Owner</cp:lastModifiedBy>
  <dcterms:modified xsi:type="dcterms:W3CDTF">2010-04-18T12:37:08Z</dcterms:modified>
  <cp:revision>8</cp:revision>
  <dc:subject/>
  <dc:title>Renewable Energy</dc:title>
</cp:coreProperties>
</file>