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DE7A-CB4E-4423-9DA8-6B12E20B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0DE7-73E9-4C20-90D7-57087E72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A0F8-A30B-4D48-B3AD-E037B9F5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0DA5-3E0A-4BE3-BE84-7B35CAE8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842D-AF70-4B54-8C7F-40DB5E40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704C-96CA-4BB7-9289-C842BCDF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70A4-2FA6-4694-8B3D-C2B79A7D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2893-F9B0-404A-BBE2-54191167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3D70-C63A-4415-9843-EF6C9C85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1960-30C2-4F96-BC5F-F1505892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DC69-44B8-4618-AB9E-27805191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A73-70B4-44EA-8FC5-B32329EF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2092-A7E1-48B4-92F4-04AFF5A5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1822-B072-4CB4-8C48-7F304B47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00ED-93B0-4DDB-8DB0-DDCED059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A832-ED8C-423A-B255-882CAFFB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3DA4-1265-4D06-BCBB-45E746CA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B244-201F-4650-B5E9-D90BA8E0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8951-43FD-4E36-80BB-E0348D9D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70DD-DDA0-4526-8B64-8180926A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CE9E-3862-4F7C-B955-FAAC9435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B433-F0B1-41A1-862C-3844E166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C949-0827-4350-BD49-D94CAE76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90A2-BDFC-479E-A678-9AF37475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C7F6-295B-44F9-8D2F-735C9367D9D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E9D4-04D9-4498-867F-537E883B20E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Renewable Energ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from sources that are constantly being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newable energ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m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droelectri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otherm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dal Po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drogen fuel c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olar Energ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sive solar energy – uses the sun’s energy to heat something di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th facing windows maximize heat from winter s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ilings are heavily insul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ck walls and floor store heat in wi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4195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tive Sola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y from the sun is gathered by collectors and used to heat water or buildin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than 1 million homes in the U.S. have active solar hot water hea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3939840"/>
            <a:ext cx="8229600" cy="2190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76520" y="3886200"/>
            <a:ext cx="55623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hotovoltaic cells (solar cell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ert the sun’s energy into electri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ght strikes a silicon sandwich and knocks off electr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electrical conductors are attached to both sides it creates and electrical circu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electrons are captured in the form of an electrical cur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see caption"/>
          <p:cNvPicPr/>
          <p:nvPr/>
        </p:nvPicPr>
        <p:blipFill>
          <a:blip r:embed="rId1"/>
          <a:stretch/>
        </p:blipFill>
        <p:spPr>
          <a:xfrm>
            <a:off x="4648320" y="2438280"/>
            <a:ext cx="3981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ingle cell can power a lightbul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e cells connected form a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modules comprise a solar arr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ee caption"/>
          <p:cNvPicPr/>
          <p:nvPr/>
        </p:nvPicPr>
        <p:blipFill>
          <a:blip r:embed="rId1"/>
          <a:stretch/>
        </p:blipFill>
        <p:spPr>
          <a:xfrm>
            <a:off x="5334120" y="1981080"/>
            <a:ext cx="270504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2 acre solar array in Colorad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2-megawatt solar photovoltaic array located on a decommissioned landfill at Ft. Carson"/>
          <p:cNvPicPr/>
          <p:nvPr/>
        </p:nvPicPr>
        <p:blipFill>
          <a:blip r:embed="rId1"/>
          <a:stretch/>
        </p:blipFill>
        <p:spPr>
          <a:xfrm>
            <a:off x="1143000" y="1676520"/>
            <a:ext cx="6545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dvantages and Disadvantages of Sol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not produce any greenhouse g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un is not going any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at potential for developing n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s a lot of 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s extended periods of sunsh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xic substances are required in the manufacture of solar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4:14:24Z</dcterms:created>
  <dc:creator>L-Net</dc:creator>
  <dc:description/>
  <dc:language>en-US</dc:language>
  <cp:lastModifiedBy>Owner</cp:lastModifiedBy>
  <dcterms:modified xsi:type="dcterms:W3CDTF">2010-04-18T12:37:08Z</dcterms:modified>
  <cp:revision>8</cp:revision>
  <dc:subject/>
  <dc:title>Renewable Energy</dc:title>
</cp:coreProperties>
</file>