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D24-1F85-4C05-8C4D-682E6A89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077-D954-498E-A0AD-49156F16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8A8-D357-41E2-8962-87938F4E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5EC-108A-4ADE-B2B6-DD55D6E5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EA0A-82DB-49A7-B7EB-8AE4D917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7A8F-4A55-45B3-B4E0-24E6E3F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AAC-0E74-480D-BF52-BAF0E4B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AE24-BA64-46BD-903E-7E4021F4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CB2-AF03-4EFE-881F-8680634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DD7B-3979-4146-A9EF-11A7E7F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F85-D0F4-4DA8-AB5F-45D30FC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131-A1E9-4D8F-A1C0-D012097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8092-F748-4F02-BD5E-8CFD593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0ED-0609-4EEF-93DE-26A45DA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9AD-E312-4C09-B779-522E88D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7918-2AF8-4012-9251-CAD2B3A6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6A0-16FB-47D4-943A-CF80AB4E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1D0-88C4-4330-8546-2C5EC9E1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412-77C0-4DD0-839C-645C11A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88B-2D9A-407B-92C1-28B66A5A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988-C5D5-4E28-B58E-512BFEC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986-9FA3-42A2-91BA-02DB305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ED0-3A3C-4484-97D7-3AA41A1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253-3281-40CB-BBDB-E58445A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9739-007F-45CE-9620-27E07F468D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5714-D50D-4152-8E76-89ABAF719B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rom sources that are constantly being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newable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electr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drogen fuel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ar Ener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solar energy – uses the sun’s energy to heat something di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th facing windows maximize heat from winter s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ilings are heavily ins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walls and floor store heat in wi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95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 Sol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rom the sun is gathered by collectors and used to heat water or buil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1 million homes in the U.S. have active solar hot water hea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5562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voltaic cells (solar cell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 the sun’s energy into 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trikes a silicon sandwich and knocks off electr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lectrical conductors are attached to both sides it creates and electrical 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lectrons are captured in the form of an electrical cu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e caption"/>
          <p:cNvPicPr/>
          <p:nvPr/>
        </p:nvPicPr>
        <p:blipFill>
          <a:blip r:embed="rId1"/>
          <a:stretch/>
        </p:blipFill>
        <p:spPr>
          <a:xfrm>
            <a:off x="4648320" y="2438280"/>
            <a:ext cx="3981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cell can power a lightbul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ells connected form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modules comprise a solar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ee caption"/>
          <p:cNvPicPr/>
          <p:nvPr/>
        </p:nvPicPr>
        <p:blipFill>
          <a:blip r:embed="rId1"/>
          <a:stretch/>
        </p:blipFill>
        <p:spPr>
          <a:xfrm>
            <a:off x="5334120" y="1981080"/>
            <a:ext cx="27050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2 acre solar array in Colora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2-megawatt solar photovoltaic array located on a decommissioned landfill at Ft. Carson"/>
          <p:cNvPicPr/>
          <p:nvPr/>
        </p:nvPicPr>
        <p:blipFill>
          <a:blip r:embed="rId1"/>
          <a:stretch/>
        </p:blipFill>
        <p:spPr>
          <a:xfrm>
            <a:off x="1143000" y="1676520"/>
            <a:ext cx="654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antages and Disadvantages of Sol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produce any greenhouse g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n is not going an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potential for developing 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a lot of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extended periods of suns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xic substances are required in the manufacture of solar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14:24Z</dcterms:created>
  <dc:creator>L-Net</dc:creator>
  <dc:description/>
  <dc:language>en-US</dc:language>
  <cp:lastModifiedBy>Owner</cp:lastModifiedBy>
  <dcterms:modified xsi:type="dcterms:W3CDTF">2010-04-18T12:37:08Z</dcterms:modified>
  <cp:revision>8</cp:revision>
  <dc:subject/>
  <dc:title>Renewable Energy</dc:title>
</cp:coreProperties>
</file>