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1D4-A433-4320-9F8B-B27249BB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18E-7C40-47E1-8F49-FF82685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AE5-4C20-4BD3-935A-CB28DB93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B23-A957-422C-8B9C-FACAAE1A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E34-152D-4E11-989F-1CA3733E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163-30C3-4BBB-8E29-BF546943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938-300F-4D49-AF13-2EA5586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11C-985C-406F-ABDD-AEA3F6FF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630-B04E-4A73-B14E-7C12523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F4F-8FCA-4E60-864A-D0A62F1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8F6-B24B-4C49-8BCC-8BF544E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5CA-86A9-4CC7-8943-04624EF6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305-5F95-411C-BA19-56FEF8370A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pecies interact with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91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27241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rookesia superciliaris chameleon in leaf litter(Masoala NP)"/>
          <p:cNvPicPr/>
          <p:nvPr/>
        </p:nvPicPr>
        <p:blipFill>
          <a:blip r:embed="rId4"/>
          <a:stretch/>
        </p:blipFill>
        <p:spPr>
          <a:xfrm>
            <a:off x="4343400" y="3352680"/>
            <a:ext cx="388476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Uroplatus fimbriatus - full body(Masoala NP)"/>
          <p:cNvPicPr/>
          <p:nvPr/>
        </p:nvPicPr>
        <p:blipFill>
          <a:blip r:embed="rId5"/>
          <a:stretch/>
        </p:blipFill>
        <p:spPr>
          <a:xfrm>
            <a:off x="1523880" y="3809880"/>
            <a:ext cx="17002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38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5100480" cy="29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3609720" cy="220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6880" y="399888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arch on the left is distast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of the milkw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feeds on. Viceroy i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atable to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68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ve cov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76520" cy="408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23856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6280" y="46846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golin scales and skin are 2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animals total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40" y="5827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cupine qu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 that lives in or on another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sm the parasite feeds on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ites do not usually kill their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52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15520" y="3693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160" y="628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pew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 relationship between two species in which each species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 Acacia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provide ant with shelter and sugary nec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s protect the tree from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1371600"/>
            <a:ext cx="476244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9080" y="6437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codile and Pl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lationship where one species benefits and the other neither benefits nor is ha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 nesting in a tree, cattle egret following cattle, bromeliad on a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87504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529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Versus Habi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lace where an organism usually lives (add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only where a species lives but what it does (profes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724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in which species inter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categories of interaction are based on whether each species causes benefit or harm to the other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occurs when different individuals or populations attempt to use the same limited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will always occur between individuals of same species as they require the sam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between species occurs when niches overlap. Ex. Both species use some of the same resources of the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petitive exclusion principal stat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wo species can occupy the same niche in the same environment fo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uce competition species may divide a niche in space o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niche parti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Parti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8, a famous ecologist, Robert MacArthur obser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y species of warbler feed on insects on the sam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ach species fed on insects from a different part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refore reducing competition between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791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example of nich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with similar requirements coexist but occupy smaller niches than they would if they lived al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43200" y="292428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rganism that feeds on another organism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ganism being fed upon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 predators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t only a certain type of prey ex. Canadian L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ist predator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 a wide range of prey. Ex.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66552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2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ator – prey adaptations - camoufl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54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2:52Z</dcterms:created>
  <dc:creator>Owner</dc:creator>
  <dc:description/>
  <dc:language>en-US</dc:language>
  <cp:lastModifiedBy>Owner</cp:lastModifiedBy>
  <dcterms:modified xsi:type="dcterms:W3CDTF">2008-12-26T15:40:30Z</dcterms:modified>
  <cp:revision>20</cp:revision>
  <dc:subject/>
  <dc:title>How Species interact with each other</dc:title>
</cp:coreProperties>
</file>