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3FE7-FAA6-410E-8CFF-FF44C726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D9B-CDEF-433B-8185-8469C58F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095-A26C-4A6A-A369-C54C475F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5CA-15B4-4F9B-A3F4-E55852D1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911-9B05-4E81-8B52-536B3008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7E2-04B7-4E10-B22E-D44836CA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216-94DC-44AE-B9F1-64F48173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4E0-74D5-40C5-BE3A-CA400471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11F-A4F1-4591-9588-B1832854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C46-4362-43B5-833D-5F38AFA6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CD8-95FC-49F4-B7CB-A30F82DE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6F7-2002-46E0-A165-D201BF6F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E814-DC7C-46F5-95C3-9217F47906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Species interact with each 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91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272412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0" y="53352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Brookesia superciliaris chameleon in leaf litter(Masoala NP)"/>
          <p:cNvPicPr/>
          <p:nvPr/>
        </p:nvPicPr>
        <p:blipFill>
          <a:blip r:embed="rId4"/>
          <a:stretch/>
        </p:blipFill>
        <p:spPr>
          <a:xfrm>
            <a:off x="4343400" y="3352680"/>
            <a:ext cx="388476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Uroplatus fimbriatus - full body(Masoala NP)"/>
          <p:cNvPicPr/>
          <p:nvPr/>
        </p:nvPicPr>
        <p:blipFill>
          <a:blip r:embed="rId5"/>
          <a:stretch/>
        </p:blipFill>
        <p:spPr>
          <a:xfrm>
            <a:off x="1523880" y="3809880"/>
            <a:ext cx="170028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 Col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387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762120"/>
            <a:ext cx="5100480" cy="299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334120" y="1600200"/>
            <a:ext cx="3609720" cy="2201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46880" y="3998880"/>
            <a:ext cx="3460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arch on the left is distastef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of the milkw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feeds on. Viceroy is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latable to bi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52280" y="3886200"/>
            <a:ext cx="43689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ective cov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476520" cy="408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3238560" cy="2762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56280" y="4684680"/>
            <a:ext cx="36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golin scales and skin are 20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the animals total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3040" y="582768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cupine qu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rganism that lives in or on another 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si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ganism the parasite feeds on is called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sites do not usually kill their h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203640" cy="240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29200" y="4267080"/>
            <a:ext cx="2952720" cy="199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15520" y="36939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tleto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68160" y="6284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pew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lose relationship between two species in which each species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 Acacia tre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s provide ant with shelter and sugary nec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s protect the tree from herbiv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81560" y="1371600"/>
            <a:ext cx="4762440" cy="262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124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789080" y="64371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codile and Pl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lationship where one species benefits and the other neither benefits nor is har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d nesting in a tree, cattle egret following cattle, bromeliad on a t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875040" cy="388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352908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che Versus Habit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bita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place where an organism usually lives (add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h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 only where a species lives but what it does (profess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724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s in which species intera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 categories of interaction are based on whether each species causes benefit or harm to the other spe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occurs when different individuals or populations attempt to use the same limited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will always occur between individuals of same species as they require the sam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between species occurs when niches overlap. Ex. Both species use some of the same resources of the habit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mpetitive exclusion principal stat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wo species can occupy the same niche in the same environment for a long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duce competition species may divide a niche in space o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niche partiti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che Partiti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58, a famous ecologist, Robert MacArthur observ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ny species of warbler feed on insects on the same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ach species fed on insects from a different part of the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herefore reducing competition between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5791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other example of niche partitio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es with similar requirements coexist but occupy smaller niches than they would if they lived al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743200" y="2924280"/>
            <a:ext cx="52578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rganism that feeds on another organism is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rganism being fed upon i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ist predators 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t only a certain type of prey ex. Canadian Lyn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ist predators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 a wide range of prey. Ex. wo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3665520" cy="2450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7321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dator – prey adaptations - camoufl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665460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7:32:52Z</dcterms:created>
  <dc:creator>Owner</dc:creator>
  <dc:description/>
  <dc:language>en-US</dc:language>
  <cp:lastModifiedBy>Owner</cp:lastModifiedBy>
  <dcterms:modified xsi:type="dcterms:W3CDTF">2008-12-26T15:40:30Z</dcterms:modified>
  <cp:revision>20</cp:revision>
  <dc:subject/>
  <dc:title>How Species interact with each other</dc:title>
</cp:coreProperties>
</file>