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4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7.jpeg" ContentType="image/jpeg"/>
  <Override PartName="/ppt/media/image14.png" ContentType="image/png"/>
  <Override PartName="/ppt/media/image1.jpeg" ContentType="image/jpeg"/>
  <Override PartName="/ppt/media/image22.jpeg" ContentType="image/jpe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AD1FF-518E-44A5-963C-880CFAFA3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7BBD9-98B2-4380-9A4B-360BF6076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71BAF-8F1C-4DCF-A585-A28EDBC41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E73E2-F56B-4267-8F7A-70CC8F41D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2D118-9576-41D3-93F3-31EC539D0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8A498-95B3-41C9-9DF0-0074C98AE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A7B94-BE35-4AEC-BFC2-3A531C10C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E14B0-26AC-46A0-8BB8-292566A98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B3707-F91E-4969-925A-EC291760D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518D4-5351-4424-A9F5-4048E0284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712BC-0962-47B5-B21C-A2D2E593C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3ACDF-7286-472A-93C8-F356462C1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E93BE-8A43-49A8-AD80-E0D56D8A708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14.pn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761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w Species interact with each oth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286000" y="2971800"/>
            <a:ext cx="459108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838080" y="609480"/>
            <a:ext cx="2724120" cy="28576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4572000" y="533520"/>
            <a:ext cx="3809880" cy="25146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Brookesia superciliaris chameleon in leaf litter(Masoala NP)"/>
          <p:cNvPicPr/>
          <p:nvPr/>
        </p:nvPicPr>
        <p:blipFill>
          <a:blip r:embed="rId4"/>
          <a:stretch/>
        </p:blipFill>
        <p:spPr>
          <a:xfrm>
            <a:off x="4343400" y="3352680"/>
            <a:ext cx="3884760" cy="28814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Uroplatus fimbriatus - full body(Masoala NP)"/>
          <p:cNvPicPr/>
          <p:nvPr/>
        </p:nvPicPr>
        <p:blipFill>
          <a:blip r:embed="rId5"/>
          <a:stretch/>
        </p:blipFill>
        <p:spPr>
          <a:xfrm>
            <a:off x="1523880" y="3809880"/>
            <a:ext cx="1700280" cy="277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arning Color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990720" y="1523880"/>
            <a:ext cx="7038720" cy="470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imicr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0" y="762120"/>
            <a:ext cx="5100480" cy="29908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5334120" y="1600200"/>
            <a:ext cx="3609720" cy="220176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5546880" y="3998880"/>
            <a:ext cx="3460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narch on the left is distastefu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cause of the milkwe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t feeds on. Viceroy is m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latable to bir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5"/>
          <a:stretch/>
        </p:blipFill>
        <p:spPr>
          <a:xfrm>
            <a:off x="152280" y="3886200"/>
            <a:ext cx="4368960" cy="272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otective cover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304920" y="1752480"/>
            <a:ext cx="3476520" cy="408636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4114800" y="1981080"/>
            <a:ext cx="3238560" cy="276228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4256280" y="4684680"/>
            <a:ext cx="366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ngolin scales and skin are 20%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f the animals total weigh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93040" y="5827680"/>
            <a:ext cx="178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rcupine quill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arasitis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 organism that lives in or on another is a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arasit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organism the parasite feeds on is called the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os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rasites do not usually kill their hos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4952880" y="1295280"/>
            <a:ext cx="3203640" cy="24037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5029200" y="4267080"/>
            <a:ext cx="2952720" cy="199404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5015520" y="3693960"/>
            <a:ext cx="109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stleto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168160" y="6284880"/>
            <a:ext cx="12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apewor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utualis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close relationship between two species in which each species benefi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t Acacia tre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ees provide ant with shelter and sugary nect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ts protect the tree from herbivo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381560" y="1371600"/>
            <a:ext cx="4762440" cy="26290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724280" y="4343400"/>
            <a:ext cx="3048120" cy="21240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4789080" y="6437160"/>
            <a:ext cx="229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rocodile and Plo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ensalis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9144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relationship where one species benefits and the other neither benefits nor is harm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rd nesting in a tree, cattle egret following cattle, bromeliad on a tre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457200" y="3938760"/>
            <a:ext cx="8229600" cy="21873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4724280" y="2743200"/>
            <a:ext cx="3875040" cy="38862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457200" y="2666880"/>
            <a:ext cx="3529080" cy="403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iche Versus Habit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abitat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he place where an organism usually lives (addres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iche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Not only where a species lives but what it does (professio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648320" y="1371600"/>
            <a:ext cx="372420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ays in which species interac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major categories of interaction are based on whether each species causes benefit or harm to the other speci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eti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d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rasitis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tualis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mensalis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peti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etition occurs when different individuals or populations attempt to use the same limited resourc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etition will always occur between individuals of same species as they require the same resourc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etition between species occurs when niches overlap. Ex. Both species use some of the same resources of the habita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competitive exclusion principal states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 two species can occupy the same niche in the same environment for a long tim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reduce competition species may divide a niche in space or tim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is called niche partition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iche Partition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1958, a famous ecologist, Robert MacArthur observed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Many species of warbler feed on insects on the same tre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Each species fed on insects from a different part of the tre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Therefore reducing competition between spec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523880" y="4267080"/>
            <a:ext cx="579132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other example of niche partition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ecies with similar requirements coexist but occupy smaller niches than they would if they lived alon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57200" y="3938760"/>
            <a:ext cx="8229600" cy="2187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2743200" y="2924280"/>
            <a:ext cx="5257800" cy="39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ed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 organism that feeds on another organism is a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edato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organism being fed upon is th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e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ecialist predators –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eat only a certain type of prey ex. Canadian Lyn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eneralist predators –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ume a wide range of prey. Ex. wol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4952880" y="1219320"/>
            <a:ext cx="3665520" cy="24508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4876920" y="3886200"/>
            <a:ext cx="3732120" cy="27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redator – prey adaptations - camouflag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1219320" y="1676520"/>
            <a:ext cx="6654600" cy="44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9T17:32:52Z</dcterms:created>
  <dc:creator>Owner</dc:creator>
  <dc:description/>
  <dc:language>en-US</dc:language>
  <cp:lastModifiedBy>Owner</cp:lastModifiedBy>
  <dcterms:modified xsi:type="dcterms:W3CDTF">2008-12-26T15:40:30Z</dcterms:modified>
  <cp:revision>20</cp:revision>
  <dc:subject/>
  <dc:title>How Species interact with each other</dc:title>
</cp:coreProperties>
</file>