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FE4-0437-4347-AE5E-982CB06A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B6B-8D81-42A7-A706-7DDDAF54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7A6-3D5F-4DA8-8F9D-B7845947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62D2-2287-420E-BAF8-5DCA63A2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E4C-FD9A-43A5-85A8-6E118872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29C-B267-4349-AA29-1606B8E6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753-DBB7-4F7B-B3D2-3A4FD304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B8C-1832-48D8-93F9-18E0CEF7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65A-F33A-4125-8D4D-FF4C8B08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FBE-48A9-4439-A6E4-71BEF74C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83D-ED94-41A0-8A8F-68899248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7D5-C661-44BC-BD6E-F7F122FC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2D66-6A06-4FA9-AFCA-AC28CAC1E2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Species interact with each 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591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272412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572000" y="53352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Brookesia superciliaris chameleon in leaf litter(Masoala NP)"/>
          <p:cNvPicPr/>
          <p:nvPr/>
        </p:nvPicPr>
        <p:blipFill>
          <a:blip r:embed="rId4"/>
          <a:stretch/>
        </p:blipFill>
        <p:spPr>
          <a:xfrm>
            <a:off x="4343400" y="3352680"/>
            <a:ext cx="388476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Uroplatus fimbriatus - full body(Masoala NP)"/>
          <p:cNvPicPr/>
          <p:nvPr/>
        </p:nvPicPr>
        <p:blipFill>
          <a:blip r:embed="rId5"/>
          <a:stretch/>
        </p:blipFill>
        <p:spPr>
          <a:xfrm>
            <a:off x="1523880" y="3809880"/>
            <a:ext cx="170028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 Col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387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762120"/>
            <a:ext cx="5100480" cy="2990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334120" y="1600200"/>
            <a:ext cx="3609720" cy="2201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46880" y="3998880"/>
            <a:ext cx="3460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arch on the left is distastef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of the milkw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feeds on. Viceroy is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latable to bi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52280" y="3886200"/>
            <a:ext cx="43689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ective cov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476520" cy="4086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3238560" cy="2762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56280" y="4684680"/>
            <a:ext cx="36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golin scales and skin are 20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the animals total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3040" y="582768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cupine qu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sit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rganism that lives in or on another i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si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ganism the parasite feeds on is called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sites do not usually kill their h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203640" cy="2403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29200" y="4267080"/>
            <a:ext cx="2952720" cy="1994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015520" y="36939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tleto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68160" y="62848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pew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tu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lose relationship between two species in which each species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 Acacia tre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es provide ant with shelter and sugary nec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s protect the tree from herbiv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81560" y="1371600"/>
            <a:ext cx="4762440" cy="2629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124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789080" y="64371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codile and Pl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ens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lationship where one species benefits and the other neither benefits nor is har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d nesting in a tree, cattle egret following cattle, bromeliad on a t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3875040" cy="388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352908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che Versus Habit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bita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place where an organism usually lives (add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ch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 only where a species lives but what it does (profess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3724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ys in which species intera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 categories of interaction are based on whether each species causes benefit or harm to the other spe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u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s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occurs when different individuals or populations attempt to use the same limited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will always occur between individuals of same species as they require the sam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between species occurs when niches overlap. Ex. Both species use some of the same resources of the habit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mpetitive exclusion principal stat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wo species can occupy the same niche in the same environment for a long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duce competition species may divide a niche in space o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lled niche partiti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che Partiti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58, a famous ecologist, Robert MacArthur observ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ny species of warbler feed on insects on the same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ach species fed on insects from a different part of the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herefore reducing competition between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4267080"/>
            <a:ext cx="5791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other example of niche partitio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es with similar requirements coexist but occupy smaller niches than they would if they lived al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743200" y="2924280"/>
            <a:ext cx="52578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rganism that feeds on another organism is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rganism being fed upon is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alist predators 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at only a certain type of prey ex. Canadian Lyn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ist predators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 a wide range of prey. Ex. wo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3665520" cy="2450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37321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dator – prey adaptations - camoufl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665460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7:32:52Z</dcterms:created>
  <dc:creator>Owner</dc:creator>
  <dc:description/>
  <dc:language>en-US</dc:language>
  <cp:lastModifiedBy>Owner</cp:lastModifiedBy>
  <dcterms:modified xsi:type="dcterms:W3CDTF">2008-12-26T15:40:30Z</dcterms:modified>
  <cp:revision>20</cp:revision>
  <dc:subject/>
  <dc:title>How Species interact with each other</dc:title>
</cp:coreProperties>
</file>