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wmf" ContentType="image/x-wmf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870-8B65-46D0-9249-E6EDD10A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B45-CF8E-4880-9177-EAA0C845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BC1-336C-4DA7-BF61-E72CBD78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2CC-A243-47BE-AF81-6FD7B509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CE54-6C68-42E1-A963-8345780B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63632-58E1-4A7F-8338-A51D000B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17D53-632D-44BF-B8E9-E89323DB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5BB21-6487-4ED9-A554-B742A355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ABD77-028E-4BB4-8BAB-86199666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68762-D763-47D0-8C01-20AB48FE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6863A-1EAA-4078-B715-D769AFCE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54D-BA6A-4B40-86C0-87A3B21A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A5BE-1267-4BEA-AA1B-D6A5460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27F03-9AC9-4907-AA7E-43E31AEF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15446-2848-4053-A61B-247608FC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A9057-2073-4FA8-B2B7-C900763C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44940-28E8-4545-8738-AC4DD820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F6E-A087-4BDA-9C66-D894AB70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49D-2AE7-4111-8B2B-BBFB5202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4CB-A8D3-4ED5-8A53-2A6F7567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682-39A5-4BB3-8748-E31DEB01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36E-9585-4831-87C3-E5C59E57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4CB-AA5A-4579-B948-340F215A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B64-B8BA-4B2C-B212-AEFAE0A3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B113-9D50-4A06-9ACA-0CC7F5BA9D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732E-2DAE-4565-9F71-B15F2A7A8D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746760" cy="5605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ydrological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ificial Eutroph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tilizer runoff, sewage, and detergents containing phosphates cause algae to grow out of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algae die, bacteria that break them down use all the oxygen in the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h and other life suff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Mississippi River Dead Zone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11840" y="6216480"/>
            <a:ext cx="34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ad Zone in Gulf of Mex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ches 6,000 – 7,000 sq.m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mal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temperature of a water body changes, thermal pollution may occ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ater temperature rises, the amount of oxygen water can hold decr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809880" cy="4419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34760" y="59436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 plants use water in the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oling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undwate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king underground storage tanks are a source of groundwater pol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R estimates there are 100,000 failing septic tank systems in 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million gallons of untreated wastewater empties into Iowa rivers each day from failing septic ta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895840" cy="1885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686320" cy="2048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105520" y="1143000"/>
            <a:ext cx="3592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5% of ocean pollution comes from activiti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uise ships can dump untreated waste into the ocean once they are 3 miles from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N. Environment Programme (UNEP) estimates that 46,000 pieces of plastic litter are floating on every square mile of the oce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5200" y="0"/>
            <a:ext cx="4168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il Sp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il Spills – account for only 5% of oil pollution in oce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il pollution comes from nonpoint-sourc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76920" y="1905120"/>
            <a:ext cx="38098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2903400"/>
            <a:ext cx="6934320" cy="3954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yahoga River fire -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n Cleveland, Ohio was so polluted with petroleum products that it caught fi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rface water and Ground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rface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 water on Earth’s land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kes, rivers, streams and wet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large cities depend on surface water for their water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und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beneath the Earth’s surface in sediment and rock form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rock and soil is saturated with water, this level is called the water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n Aquif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quifer is an underground formation containing ground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aquifers are made of rock, sand or gravel with lots of spaces where water can accum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rea of the Earth’s surface from which water percolates into an aquifer is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harge z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on a recharge zone can affect how long it takes to recharge an aqui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watersh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tershed is the region or area of land that drains into a body of water such as a lake, river or str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ssissippi water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40 % of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troduction of chemical, physical or biological agents into the water that degrade water qu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main causes of water pollution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pid human populatio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nt-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discharged from a single source. Ex. Leaking oil tanker, factory wastewater pi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43689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 Point-Source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lution which comes from many sources that may be difficult to identify. Ex. Runoff from crop fields, chemicals added to road surf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6553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2:54:21Z</dcterms:created>
  <dc:creator>Owner</dc:creator>
  <dc:description/>
  <dc:language>en-US</dc:language>
  <cp:lastModifiedBy>L-Net</cp:lastModifiedBy>
  <dcterms:modified xsi:type="dcterms:W3CDTF">2008-09-02T12:25:50Z</dcterms:modified>
  <cp:revision>30</cp:revision>
  <dc:subject/>
  <dc:title>Slide 1</dc:title>
</cp:coreProperties>
</file>