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jpeg" ContentType="image/jpeg"/>
  <Override PartName="/ppt/media/image4.wmf" ContentType="image/x-wmf"/>
  <Override PartName="/ppt/media/image3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99DF-65A0-4DB9-BA41-3E4243B34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A4A2-486F-47EB-AC54-C5F370896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2FE4-2ADF-444A-9334-F04634622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F84A-E360-4E3A-9C3C-3436147AB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40C27A-2B98-4132-A273-C28D9184A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E5C14D-3ACD-45A6-99C3-0256CE1D6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6C07F1-16F1-4EC2-B116-31E65B16F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6F251D-D55C-4389-A3AD-8CCA33608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B538AC-A3C0-4B29-8F96-08949B9FB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DB8BA2-3D09-4B14-852F-B423A0854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76573C-1A0E-4521-96C1-212042084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381F-2C82-4129-BA4E-7D9A4ABEA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D12964-5334-4D9F-8F06-190F8E524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FD3023-20D7-4A0F-A8AD-BF796478F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B37C73-065B-4068-A7B0-8A5EAA09C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DD3BCC-D760-466A-884D-E138F5E3A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912BB4-E0D3-4FFD-8F9A-DCB135631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F859-2DA6-4543-983B-47D581AC4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E564-1AEC-46C7-9836-558F80A7F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A4DC-A810-481E-B518-71D16D1A2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794D-DC6C-4FC8-9576-AE1007C08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01EA-3A05-49EA-8449-BD176F36C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5FF5-D18D-40DD-BE36-4945AD9DE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0993-7A59-40EC-BA65-39F09D27B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A50EA-3B33-43A5-9873-33500EC6541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C0BDD-BE3C-4523-B4AF-982DF38AA8F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447920" y="1143000"/>
            <a:ext cx="6746760" cy="56055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Hydrological cycl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rtificial Eutrophic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343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ertilizer runoff, sewage, and detergents containing phosphates cause algae to grow out of contro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 the algae die, bacteria that break them down use all the oxygen in the wa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sh and other life suffoc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Mississippi River Dead Zone"/>
          <p:cNvPicPr/>
          <p:nvPr/>
        </p:nvPicPr>
        <p:blipFill>
          <a:blip r:embed="rId2"/>
          <a:stretch/>
        </p:blipFill>
        <p:spPr>
          <a:xfrm>
            <a:off x="4648320" y="1600200"/>
            <a:ext cx="4190760" cy="44197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911840" y="6216480"/>
            <a:ext cx="348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ead Zone in Gulf of Mex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aches 6,000 – 7,000 sq.mi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rmal Pollu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n the temperature of a water body changes, thermal pollution may occ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 water temperature rises, the amount of oxygen water can hold decrea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029200" y="1371600"/>
            <a:ext cx="3809880" cy="44197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234760" y="5943600"/>
            <a:ext cx="352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wer plants use water in thei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oling 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Groundwater Pollu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aking underground storage tanks are a source of groundwater pollu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NR estimates there are 100,000 failing septic tank systems in Iow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9 million gallons of untreated wastewater empties into Iowa rivers each day from failing septic tank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867280" y="4419720"/>
            <a:ext cx="2895840" cy="18856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4724280" y="4267080"/>
            <a:ext cx="2686320" cy="2048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5105520" y="1143000"/>
            <a:ext cx="3592440" cy="26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cean Pollu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2590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85% of ocean pollution comes from activities on l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uise ships can dump untreated waste into the ocean once they are 3 miles from l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U.N. Environment Programme (UNEP) estimates that 46,000 pieces of plastic litter are floating on every square mile of the ocea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975200" y="0"/>
            <a:ext cx="416880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il Spill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il Spills – account for only 5% of oil pollution in ocea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oil pollution comes from nonpoint-sources on l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648320" y="1905120"/>
            <a:ext cx="4038480" cy="41148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4876920" y="1905120"/>
            <a:ext cx="380988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066680" y="2903400"/>
            <a:ext cx="6934320" cy="39546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uyahoga River fire - 1969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river in Cleveland, Ohio was so polluted with petroleum products that it caught fire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urface water and Ground wat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rface Water 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esh water on Earth’s land surfa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kes, rivers, streams and wetlan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large cities depend on surface water for their water supp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8320" y="1066320"/>
            <a:ext cx="4038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Ground Water 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ter beneath the Earth’s surface in sediment and rock formatio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re rock and soil is saturated with water, this level is called the water ta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an Aquifer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 aquifer is an underground formation containing groundwat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st aquifers are made of rock, sand or gravel with lots of spaces where water can accumul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 area of the Earth’s surface from which water percolates into an aquifer is called the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Recharge zo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ructures on a recharge zone can affect how long it takes to recharge an aquif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a watershed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watershed is the region or area of land that drains into a body of water such as a lake, river or strea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Mississippi watersh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vers 40 % of the U.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334120" y="3581280"/>
            <a:ext cx="38098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ater Pollution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introduction of chemical, physical or biological agents into the water that degrade water qual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main causes of water pollution ar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dustri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pid human population grow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oint-Source Pollu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llution discharged from a single source. Ex. Leaking oil tanker, factory wastewater pip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648320" y="1905120"/>
            <a:ext cx="4038480" cy="41148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4495680" y="1981080"/>
            <a:ext cx="4368960" cy="41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on Point-Source Pollution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llution which comes from many sources that may be difficult to identify. Ex. Runoff from crop fields, chemicals added to road surfac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371600" y="3962520"/>
            <a:ext cx="655308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5T22:54:21Z</dcterms:created>
  <dc:creator>Owner</dc:creator>
  <dc:description/>
  <dc:language>en-US</dc:language>
  <cp:lastModifiedBy>L-Net</cp:lastModifiedBy>
  <dcterms:modified xsi:type="dcterms:W3CDTF">2008-09-02T12:25:50Z</dcterms:modified>
  <cp:revision>30</cp:revision>
  <dc:subject/>
  <dc:title>Slide 1</dc:title>
</cp:coreProperties>
</file>