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wmf" ContentType="image/x-wmf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BFE-190B-498E-A40C-348312ED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2BD-73B8-4B7E-B223-6436E4ED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6C5-8EE8-4C9F-99FF-EB1F886F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D10-8E7B-41DF-B9D4-5FC3B4BB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ABFBF-69A3-4A07-A781-55B90C5B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64502-3A1A-449A-BDDD-3B625F43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74F89-228E-463E-B54C-6A01D888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FF504-F181-4E0E-9A19-4A7C6948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9B5E2-3F5D-4F0E-8CE0-9516DD95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208B4-CD9C-4C48-972D-3724FF1D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DD415-25F6-440E-9995-E8F1DAF1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B0B-D8C5-4CF0-9902-D5AFC956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C0C4A-2744-4217-8E3B-BE222EA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A83C6-AF56-486D-A29E-C9D95FE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8F00E-1FBA-4F0C-AD1A-9BC97DF7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F19C8-D84D-45AA-BC65-7746AD17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2D0E0-8CBC-41B5-B659-71147825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6E6-325C-4F49-BE41-9A797ED2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1DF-6882-43A2-AAE2-2A25BAC0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94C-E109-4596-BF34-BF3C1E39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5B4-FC85-44E4-BE5E-B0AA9C25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C4E-BC7E-4A84-A9A5-B9723181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617-259D-4BC5-97AD-490217ED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168-C16D-41E0-B6AA-F5A994E1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57D4-4C73-4252-9E29-9C5DECDFD1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6DAE-44B6-48E0-BB14-F46BF051EC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746760" cy="5605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ydrological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ificial Eutroph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tilizer runoff, sewage, and detergents containing phosphates cause algae to grow out of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algae die, bacteria that break them down use all the oxygen in the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h and other life suff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Mississippi River Dead Zone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11840" y="6216480"/>
            <a:ext cx="34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ad Zone in Gulf of Mex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ches 6,000 – 7,000 sq.m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mal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temperature of a water body changes, thermal pollution may occ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ater temperature rises, the amount of oxygen water can hold decr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809880" cy="4419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34760" y="59436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 plants use water in the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oling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undwate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king underground storage tanks are a source of groundwater pol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R estimates there are 100,000 failing septic tank systems in 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million gallons of untreated wastewater empties into Iowa rivers each day from failing septic ta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895840" cy="1885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686320" cy="2048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105520" y="1143000"/>
            <a:ext cx="3592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5% of ocean pollution comes from activiti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uise ships can dump untreated waste into the ocean once they are 3 miles from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N. Environment Programme (UNEP) estimates that 46,000 pieces of plastic litter are floating on every square mile of the oce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5200" y="0"/>
            <a:ext cx="4168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il Sp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il Spills – account for only 5% of oil pollution in oce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il pollution comes from nonpoint-sourc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76920" y="1905120"/>
            <a:ext cx="38098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2903400"/>
            <a:ext cx="6934320" cy="3954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yahoga River fire -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n Cleveland, Ohio was so polluted with petroleum products that it caught fi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rface water and Ground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rface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 water on Earth’s land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kes, rivers, streams and wet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large cities depend on surface water for their water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und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beneath the Earth’s surface in sediment and rock form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rock and soil is saturated with water, this level is called the water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n Aquif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quifer is an underground formation containing ground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aquifers are made of rock, sand or gravel with lots of spaces where water can accum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rea of the Earth’s surface from which water percolates into an aquifer is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harge z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on a recharge zone can affect how long it takes to recharge an aqui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watersh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tershed is the region or area of land that drains into a body of water such as a lake, river or str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ssissippi water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40 % of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troduction of chemical, physical or biological agents into the water that degrade water qu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main causes of water pollution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pid human populatio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nt-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discharged from a single source. Ex. Leaking oil tanker, factory wastewater pi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43689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 Point-Source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lution which comes from many sources that may be difficult to identify. Ex. Runoff from crop fields, chemicals added to road surf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6553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2:54:21Z</dcterms:created>
  <dc:creator>Owner</dc:creator>
  <dc:description/>
  <dc:language>en-US</dc:language>
  <cp:lastModifiedBy>L-Net</cp:lastModifiedBy>
  <dcterms:modified xsi:type="dcterms:W3CDTF">2008-09-02T12:25:50Z</dcterms:modified>
  <cp:revision>30</cp:revision>
  <dc:subject/>
  <dc:title>Slide 1</dc:title>
</cp:coreProperties>
</file>