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wmf" ContentType="image/x-wmf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6D7-C6A8-4040-8A01-04F7749E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906-174E-41C9-8B68-A954AE51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EEE-FE74-426C-AF44-8B2BFE43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A61-55DB-4588-8AD0-FBC5B9D7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266C3-9C9F-4532-BC87-049E6A8D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1999E-E0A0-4CC5-8F23-6750336A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0C970-E66C-4120-B3C3-7A910D14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704DA-F699-48D9-B8E9-2A69EDB7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97B91-FBBB-4DA9-BFD4-35BFA53F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271F4-336E-4642-91BC-9FD9BF01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8A792-DB1A-42C8-8D6E-B2987023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3AA-9A93-4F45-A3C7-D6D54E93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B6F41-90A9-4315-A680-DF5B9C6E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13154-9095-4EFA-82D5-1A75AC56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E7786-9A0A-4AAD-829D-F73F6412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D64FF-EB4B-41F6-A9A9-BA32347A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CF229-C990-438B-B38A-48EB55FA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804-3BCA-479F-A52F-D94AE134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97D-CC05-4269-A56F-810B1106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501-0106-406C-A2CC-2EF914E4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ECC-A3EF-4B51-9AB5-0F744A46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AEA-0F54-4EE9-BA54-BB6A1FED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349-97F1-4694-A720-8A12030A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1EB-0CFD-4E98-81EB-B6E45DD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0AB8-6B36-465E-B250-F85AB54A81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9847-2518-47D3-AFC7-A23915C9A7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746760" cy="5605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Hydrological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ificial Eutroph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tilizer runoff, sewage, and detergents containing phosphates cause algae to grow out of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algae die, bacteria that break them down use all the oxygen in the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h and other life suffoc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Mississippi River Dead Zone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11840" y="6216480"/>
            <a:ext cx="34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ad Zone in Gulf of Mex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ches 6,000 – 7,000 sq.m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rmal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temperature of a water body changes, thermal pollution may occ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ater temperature rises, the amount of oxygen water can hold decre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809880" cy="4419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34760" y="59436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wer plants use water in the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oling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undwater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king underground storage tanks are a source of groundwater pol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NR estimates there are 100,000 failing septic tank systems in 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million gallons of untreated wastewater empties into Iowa rivers each day from failing septic ta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895840" cy="1885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686320" cy="2048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105520" y="1143000"/>
            <a:ext cx="35924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5% of ocean pollution comes from activiti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uise ships can dump untreated waste into the ocean once they are 3 miles from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.N. Environment Programme (UNEP) estimates that 46,000 pieces of plastic litter are floating on every square mile of the oce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5200" y="0"/>
            <a:ext cx="41688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il Spi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il Spills – account for only 5% of oil pollution in oce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il pollution comes from nonpoint-sourc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76920" y="1905120"/>
            <a:ext cx="38098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66680" y="2903400"/>
            <a:ext cx="6934320" cy="3954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yahoga River fire - 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in Cleveland, Ohio was so polluted with petroleum products that it caught fi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rface water and Ground wa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rface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 water on Earth’s land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kes, rivers, streams and wet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large cities depend on surface water for their water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ound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beneath the Earth’s surface in sediment and rock form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rock and soil is saturated with water, this level is called the water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n Aquif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quifer is an underground formation containing ground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aquifers are made of rock, sand or gravel with lots of spaces where water can accum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rea of the Earth’s surface from which water percolates into an aquifer is called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harge z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s on a recharge zone can affect how long it takes to recharge an aqui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watersh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tershed is the region or area of land that drains into a body of water such as a lake, river or stre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ssissippi water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rs 40 % of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troduction of chemical, physical or biological agents into the water that degrade water qu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main causes of water pollution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pid human population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int-Source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discharged from a single source. Ex. Leaking oil tanker, factory wastewater pi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43689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 Point-Source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lution which comes from many sources that may be difficult to identify. Ex. Runoff from crop fields, chemicals added to road surfa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6553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22:54:21Z</dcterms:created>
  <dc:creator>Owner</dc:creator>
  <dc:description/>
  <dc:language>en-US</dc:language>
  <cp:lastModifiedBy>L-Net</cp:lastModifiedBy>
  <dcterms:modified xsi:type="dcterms:W3CDTF">2008-09-02T12:25:50Z</dcterms:modified>
  <cp:revision>30</cp:revision>
  <dc:subject/>
  <dc:title>Slide 1</dc:title>
</cp:coreProperties>
</file>