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298-878F-41D1-93F9-C2D2428B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3CD-F4D9-4683-B4BE-F1C995C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0BB-0AA0-4ED8-8E05-FB3DE1B5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258-D3CB-467B-A952-7912EDBA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C3AB7-4E33-4836-9048-36F2451F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DB2AB-D8CD-4BAC-94D9-0BB051A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0920D-0102-4840-9864-6B747D8E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9B2AE-C79D-4157-AEAA-AF97F230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9882B-765D-46A2-9383-C38528B4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6D5B1-CBB5-43DB-A597-0BDB579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8D285-8D29-4521-B821-3FAFFB7C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C9D-8474-4440-8A96-0CCEDA2F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0DC07-2E8B-4850-B909-C51141C2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8C47-A6D2-4090-BBFF-D2EFC318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32E5-34C9-4302-87F7-76570C30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E3BDA-BB66-4A70-ABE8-44BA86D8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C1748-64BF-4C29-8E8A-2185CD5A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FF5-E1A4-46A7-82B8-19BCC307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B26-19D1-4430-91BA-D1C0F6A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7C5-A768-4657-8035-B526FBF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797-D521-4FA8-8E3E-9503C2E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382-A852-4F4D-B0CF-0D5C747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3A5-5A19-4581-A128-AE05823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318-109A-4FD5-90B2-33C0996B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DAE-0C3D-4F12-A545-3FB26F626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524-7EA4-4B13-A5FB-B934F7F954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746760" cy="560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logical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ficial Eutroph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 runoff, sewage, and detergents containing phosphates cause algae to grow out of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algae die, bacteria that break them down use all the oxygen in th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h and other life suff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Mississippi River Dead Zone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1840" y="6216480"/>
            <a:ext cx="34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ad Zone in Gulf of Mex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hes 6,000 – 7,000 sq.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mal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temperature of a water body changes, thermal pollution may occ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ater temperature rises, the amount of oxygen water can hold decre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809880" cy="441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34760" y="59436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 plants use water in th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ndwater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king underground storage tanks are a source of groundwater pol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R estimates there are 100,000 failing septic tank systems in 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million gallons of untreated wastewater empties into Iowa rivers each day from failing septic ta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895840" cy="18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686320" cy="204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05520" y="114300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5% of ocean pollution comes from activiti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ise ships can dump untreated waste into the ocean once they are 3 miles from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.N. Environment Programme (UNEP) estimates that 46,000 pieces of plastic litter are floating on every square mile of the oce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il Sp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Spills – account for only 5% of oil pollution in oce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il pollution comes from nonpoint-sources on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3809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903400"/>
            <a:ext cx="6934320" cy="3954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uyahoga River fire -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n Cleveland, Ohio was so polluted with petroleum products that it caught fi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rface water and Groun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rface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 water on Earth’s land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s, rivers, streams and wet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arge cities depend on surface water for their water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und Water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beneath the Earth’s surface in sediment and rock form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rock and soil is saturated with water, this level is called the water 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n Aquif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quifer is an underground formation containing ground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quifers are made of rock, sand or gravel with lots of spaces where water can accum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rea of the Earth’s surface from which water percolates into an aquifer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harge z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s on a recharge zone can affect how long it takes to recharge an aqui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watersh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shed is the region or area of land that drains into a body of water such as a lake, river or str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ssissippi water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40 % of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troduction of chemical, physical or biological agents into the water that degrade water qu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causes of water pollution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pid human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-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 discharged from a single source. Ex. Leaking oil tanker, factory wastewater pi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4368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 Point-Source Pollut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which comes from many sources that may be difficult to identify. Ex. Runoff from crop fields, chemicals added to road surf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553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2:54:21Z</dcterms:created>
  <dc:creator>Owner</dc:creator>
  <dc:description/>
  <dc:language>en-US</dc:language>
  <cp:lastModifiedBy>L-Net</cp:lastModifiedBy>
  <dcterms:modified xsi:type="dcterms:W3CDTF">2008-09-02T12:25:50Z</dcterms:modified>
  <cp:revision>30</cp:revision>
  <dc:subject/>
  <dc:title>Slide 1</dc:title>
</cp:coreProperties>
</file>